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50D-DB45-462F-AA2B-1E1D44A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F3B-8960-45F8-A522-512A0E8B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82DD3-6FD9-4962-9EA7-18E9F1FB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63B79-031F-46F5-A304-C0B826EF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3CD3E-30FF-4EB0-A859-40F5A486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DC9EA-7FD0-4DA2-9DBC-14BA6A01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01EE8-6261-48F5-826F-B28F1986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0FEDD-F0F0-4303-8A98-0F1C10A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4EE1F-BB7C-4B81-8441-12CF86B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B7F65-794E-4983-B347-848559E4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AC530-FB2A-4A0E-A5BF-3660AF76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7C030-14EB-4DBA-8A36-F8B79CCF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56B-C60F-46D2-A297-8ED6E660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494B8-236B-461D-8FDF-C0775DAA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32875-13C8-416A-B1A5-B767CA9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AEDAE-FD43-4EC5-88DA-1EBB04A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EC51A-176D-4096-BEDC-FEAF9B5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771834-E6BE-4C63-8F20-99DA457D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CD688-F69A-42C1-8C54-F2C5A22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BFDF5-5B1A-4C7E-8501-68E881B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54BFE-864C-4B39-A827-02F51A7E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8A173-EA3C-4E87-A685-898AC6D4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29084-2BA9-4675-B73E-C188229F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00D-0A42-447B-A9FB-D288FFB0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D42848-B2F6-4ADC-AD5C-315DD86E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B677E-C456-4E4C-9F4D-5E2C844E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D14B5-4BF4-48E1-B6F8-A07C9270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D71B-E930-4FA5-8B65-CB6FCB7A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02FE4-CEE0-4709-BC52-CF45BDB2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0E583-6BF4-4F81-AA40-A66E2AE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780B-BFC9-4E39-93A7-19DCE95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27D8-9687-4879-85B0-EB52CBD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52FEA-4526-4C7A-815B-26B1647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BF853-37A6-4F1A-B7BD-352B01CF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7267-098B-42FE-8A72-4B73D915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00B38-3B12-48F5-8CA7-2E2991B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6369F-2C9B-4A85-A9B2-513BCC7C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725CE-1DE3-4BE2-9238-B7B39A9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561FF-D3F1-47FE-9F46-3B5A05DB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58CEF-93EC-467B-86FB-56F65F77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E5172-17AC-478A-AB17-377DA7E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5C0F9-EA4E-4BE2-96FE-3860C3E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FD3DB-A9C7-4EE0-992E-A1C0F92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6B6E7-5D6B-4604-AA1D-F7FFBB8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5CA4D-7E03-4004-8D13-67ACF18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DDED-AE78-4DF4-84D2-609A10A0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F9116-6CC3-472D-A11D-182D923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19221-5FCC-4C71-AF1F-21AE98F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5600E-E6F8-40A9-A916-03C5C61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49199-7623-4EFC-B75F-08646618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14239-3887-4BE9-9AF9-4AD06B86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C06F-47B8-4BF7-A5EC-0C67631F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B62-B23B-4704-8DAF-B2026409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AA5E-B111-4B40-B5BA-A350DF53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510F-8A67-4D63-A28D-B1F3102C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0694-855C-4B03-B016-1E54B76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9ED-0656-4D0A-A280-061EAB80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E7F3-EC6B-4ACC-A9E9-70508F9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8259-A084-4609-BA2D-BE7FA7B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FFFC-BD16-480E-81D6-53B96B8D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B012-5B9E-4AA8-A9F9-6A2E8C20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735D-18AB-4E13-A1B9-0378825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5FFB-0517-4375-A9AB-26AE15AA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1ABF-11A3-4B95-A924-6DA1A57A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9EBD-BA42-45FF-BA4E-BE961FF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373F2-ABEC-4628-A90C-A1AC0C1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70F2-BDB1-4A76-A238-039F3D8D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097-3F54-443D-96C3-C706123D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FB36-6180-4CA4-8738-5FE2BE36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D7854-FD30-4886-9BB7-57D531AA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2B06-6B9E-485D-83F5-117D880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7775-2DC0-4F95-A81B-7F0EC3E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EEDA5-1FB2-4274-86F6-2B25F820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A199-652E-4B5B-BDD5-13600857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4D5F-D96D-4CC4-BC83-E4B06449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6626-501A-45A6-BFD4-5F97F23E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CE4E-79FD-4E7E-9F29-DB2D46A3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4E6F-D3EE-477B-9F2E-98B94B8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15C-DD8D-4963-AE0A-9E73619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4870-612B-490A-B5BC-624D25A6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54FF-1166-43AB-B885-B0306FBC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454B-4476-46BD-80B1-8B564B9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ED2C1-E8C3-407A-9F37-E29C14C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193E-6458-4DAB-B5D8-0E0293E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1A57-4050-4760-BD6F-403F99C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91FA-0D6B-43BD-B0CD-1BDBE767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C84BD-0D7D-47FB-B2FA-1B1202D1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A4F1-B3D1-476D-9B14-7E1F3224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1381-900B-4DAD-B014-03D729A4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E86-2E48-4AE4-A8B1-1A7F1E8F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60E9D-3AA5-46B3-A2F9-A4E7AEDF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36534-8AEA-47C0-AB62-4E642E1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98E7-E65A-44BC-AF10-EF2A700E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093C-0C6F-423B-81F1-27093516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9EB4-9FB3-4EDD-BC77-75B60E73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14C1-7735-4729-8A8D-CD104A4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DDD5-FAB5-4DB7-A385-758A56E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E13C2-DD2F-4263-9C2C-409A6F12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21E8-CAA7-4D2D-8E7F-4D97AC6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F94C-FD2E-49D9-9A34-B1161D0C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747-1090-4DAE-85AC-5E1E83A1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F09D5-0731-4160-A791-192F12FF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EC6C-0516-4077-BF10-C193301D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609C1-CC01-4648-B16C-A909C777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F2060-50C7-481A-AE22-DEAA30A0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07D3-64DD-46B2-9F91-F9BFE833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67D2-FF61-4057-8FB4-BC2B717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BB11-DC2C-475D-9CC2-B044C759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54EE-89BB-4546-87D7-C67E686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5E209-B9CA-472E-A803-998D3A9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AC4A6-97EF-4E77-B099-16F80CD0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0B5-FD2C-4D05-A340-331EE66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F067D-99CF-411D-ACE8-8C5E156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4D772-0D0A-4C2C-B72E-FCFEABF0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61FE-CF1C-4EDE-B290-9DA5F32D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4A40-0FA0-4E00-A254-FD5DFB0E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E237F-09FF-499A-A4F6-942E8BA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482C-9100-4505-8467-53B9539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4B092-CA07-42F9-A299-ADDDE557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EB222-B699-42CE-8D45-48A502B5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48A8F-D2F0-4CFD-807E-1D8008FA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B6E0-AA35-4A12-8DF0-2AEE69F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33D-4B0A-4D95-96EA-CD10B97F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4D9F-120D-4888-8D68-FB5BF40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CB45-1935-4717-BE3C-BC709EE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2BCB-031E-4496-9264-E02B34B5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0677-C5AE-4DB9-A5EB-6AD20B3C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9F1AB-1985-4F4D-BEF1-1F486A53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F7553-1E75-4706-A431-C04C5731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C4A3C-1E13-412F-93E9-9AEB52E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9D934-E375-4E5B-A1B6-C80DAD56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E67F-3A8A-4B98-87F0-2F7177A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EF4A0-F4C3-4BE6-AAB4-836F15F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2F1-845A-4770-BD8F-2CF307C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AFBE-1DA0-4FE3-947A-DDD5AA7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E3DC0-9E9C-4C79-9CDE-A8224C6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D9838-0219-489D-AF44-5E29C79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0808-421A-4B90-A52C-F22E3788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63D8E-66D5-4589-8212-135B43F9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8C337-7F23-4ABD-B9A9-49BB13BC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0545D-C5B0-4FF8-809D-36DBF5A2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57D88-0C88-4935-BED3-5B5CAD9C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ECF24-1C70-40C4-85B4-636D9582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D80DDE-801B-488E-A0E5-C643632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C21E-F99B-4E91-A999-AB9ACB330A4E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5B3-9D16-48B9-9BFD-D9D7DDC15C7C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2A9-38F4-4375-BD1C-CA7599134127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9738-E91E-4952-B037-AA7BD6BDBB71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56E-D13A-4F2D-91CB-2173204AFB0F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04C1-451B-4143-9C09-917622116B3E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49FD-F583-4268-B0E5-776859332DF2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234-7EE9-4FF4-BA57-453074EC27E8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175E-DF72-4316-A0D1-4BF991258E34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1799-CDD6-4BBE-891F-E2496C273937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D016-3FDF-44BA-B9D9-8542A8C492D7}" type="slidenum"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C37A-107A-4F28-B924-18EBB24B250E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646b86"/>
                </a:solidFill>
                <a:latin typeface="Georgia"/>
              </a:rPr>
              <a:t>APRIL 14</a:t>
            </a:r>
            <a:r>
              <a:rPr b="1" lang="en-CA" sz="1600" spc="-1" strike="noStrike" baseline="30000">
                <a:solidFill>
                  <a:srgbClr val="646b86"/>
                </a:solidFill>
                <a:latin typeface="Georgia"/>
              </a:rPr>
              <a:t>TH</a:t>
            </a:r>
            <a:r>
              <a:rPr b="1" lang="en-CA" sz="1600" spc="-1" strike="noStrike">
                <a:solidFill>
                  <a:srgbClr val="646b86"/>
                </a:solidFill>
                <a:latin typeface="Georgia"/>
              </a:rPr>
              <a:t>, 201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d16349"/>
                </a:solidFill>
                <a:latin typeface="Georgia"/>
              </a:rPr>
              <a:t>Kinetic Energ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4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lculate the velocity of a fist with a mass of 750g while being slammed into a board with a force of 50 N over a distance of 35 cm.(watch out for units!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W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 = F d = ½ (0.75kg)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0 N x 0.35 m = ½ (0.75kg)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7. 5/ 0.375 =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6.83 m/s = v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7" name="Group 71"/>
          <p:cNvGrpSpPr/>
          <p:nvPr/>
        </p:nvGrpSpPr>
        <p:grpSpPr>
          <a:xfrm>
            <a:off x="4749840" y="1374840"/>
            <a:ext cx="3983040" cy="3724200"/>
            <a:chOff x="4749840" y="1374840"/>
            <a:chExt cx="3983040" cy="3724200"/>
          </a:xfrm>
        </p:grpSpPr>
        <p:sp>
          <p:nvSpPr>
            <p:cNvPr id="628" name="SMARTInkAnnotation0"/>
            <p:cNvSpPr/>
            <p:nvPr/>
          </p:nvSpPr>
          <p:spPr>
            <a:xfrm>
              <a:off x="4749840" y="2777040"/>
              <a:ext cx="482040" cy="39096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482204" h="391128">
                  <a:moveTo>
                    <a:pt x="0" y="8929"/>
                  </a:moveTo>
                  <a:lnTo>
                    <a:pt x="0" y="367"/>
                  </a:lnTo>
                  <a:lnTo>
                    <a:pt x="0" y="21326"/>
                  </a:lnTo>
                  <a:lnTo>
                    <a:pt x="993" y="24139"/>
                  </a:lnTo>
                  <a:lnTo>
                    <a:pt x="4741" y="29911"/>
                  </a:lnTo>
                  <a:lnTo>
                    <a:pt x="7068" y="38429"/>
                  </a:lnTo>
                  <a:lnTo>
                    <a:pt x="8102" y="48829"/>
                  </a:lnTo>
                  <a:lnTo>
                    <a:pt x="8562" y="60066"/>
                  </a:lnTo>
                  <a:lnTo>
                    <a:pt x="8821" y="77549"/>
                  </a:lnTo>
                  <a:lnTo>
                    <a:pt x="11527" y="89367"/>
                  </a:lnTo>
                  <a:lnTo>
                    <a:pt x="15045" y="101234"/>
                  </a:lnTo>
                  <a:lnTo>
                    <a:pt x="16609" y="113123"/>
                  </a:lnTo>
                  <a:lnTo>
                    <a:pt x="17303" y="125021"/>
                  </a:lnTo>
                  <a:lnTo>
                    <a:pt x="17489" y="130972"/>
                  </a:lnTo>
                  <a:lnTo>
                    <a:pt x="18605" y="137916"/>
                  </a:lnTo>
                  <a:lnTo>
                    <a:pt x="20341" y="145522"/>
                  </a:lnTo>
                  <a:lnTo>
                    <a:pt x="22490" y="153569"/>
                  </a:lnTo>
                  <a:lnTo>
                    <a:pt x="24915" y="160918"/>
                  </a:lnTo>
                  <a:lnTo>
                    <a:pt x="27525" y="167802"/>
                  </a:lnTo>
                  <a:lnTo>
                    <a:pt x="30255" y="174376"/>
                  </a:lnTo>
                  <a:lnTo>
                    <a:pt x="33070" y="180743"/>
                  </a:lnTo>
                  <a:lnTo>
                    <a:pt x="38841" y="193108"/>
                  </a:lnTo>
                  <a:lnTo>
                    <a:pt x="41769" y="200176"/>
                  </a:lnTo>
                  <a:lnTo>
                    <a:pt x="44713" y="207865"/>
                  </a:lnTo>
                  <a:lnTo>
                    <a:pt x="47668" y="215967"/>
                  </a:lnTo>
                  <a:lnTo>
                    <a:pt x="49639" y="223353"/>
                  </a:lnTo>
                  <a:lnTo>
                    <a:pt x="50952" y="230261"/>
                  </a:lnTo>
                  <a:lnTo>
                    <a:pt x="51828" y="236851"/>
                  </a:lnTo>
                  <a:lnTo>
                    <a:pt x="53402" y="243228"/>
                  </a:lnTo>
                  <a:lnTo>
                    <a:pt x="55447" y="249465"/>
                  </a:lnTo>
                  <a:lnTo>
                    <a:pt x="60362" y="261685"/>
                  </a:lnTo>
                  <a:lnTo>
                    <a:pt x="65854" y="273731"/>
                  </a:lnTo>
                  <a:lnTo>
                    <a:pt x="68707" y="280714"/>
                  </a:lnTo>
                  <a:lnTo>
                    <a:pt x="71602" y="288346"/>
                  </a:lnTo>
                  <a:lnTo>
                    <a:pt x="74524" y="296410"/>
                  </a:lnTo>
                  <a:lnTo>
                    <a:pt x="80416" y="308016"/>
                  </a:lnTo>
                  <a:lnTo>
                    <a:pt x="86342" y="317474"/>
                  </a:lnTo>
                  <a:lnTo>
                    <a:pt x="92284" y="328292"/>
                  </a:lnTo>
                  <a:lnTo>
                    <a:pt x="98232" y="337068"/>
                  </a:lnTo>
                  <a:lnTo>
                    <a:pt x="101207" y="340798"/>
                  </a:lnTo>
                  <a:lnTo>
                    <a:pt x="104512" y="347588"/>
                  </a:lnTo>
                  <a:lnTo>
                    <a:pt x="105393" y="350787"/>
                  </a:lnTo>
                  <a:lnTo>
                    <a:pt x="106973" y="352921"/>
                  </a:lnTo>
                  <a:lnTo>
                    <a:pt x="109019" y="354343"/>
                  </a:lnTo>
                  <a:lnTo>
                    <a:pt x="113937" y="355923"/>
                  </a:lnTo>
                  <a:lnTo>
                    <a:pt x="126926" y="357113"/>
                  </a:lnTo>
                  <a:lnTo>
                    <a:pt x="129266" y="357137"/>
                  </a:lnTo>
                  <a:lnTo>
                    <a:pt x="130826" y="356162"/>
                  </a:lnTo>
                  <a:lnTo>
                    <a:pt x="131865" y="354519"/>
                  </a:lnTo>
                  <a:lnTo>
                    <a:pt x="132559" y="352432"/>
                  </a:lnTo>
                  <a:lnTo>
                    <a:pt x="135976" y="347467"/>
                  </a:lnTo>
                  <a:lnTo>
                    <a:pt x="140801" y="340961"/>
                  </a:lnTo>
                  <a:lnTo>
                    <a:pt x="146253" y="331454"/>
                  </a:lnTo>
                  <a:lnTo>
                    <a:pt x="151983" y="320614"/>
                  </a:lnTo>
                  <a:lnTo>
                    <a:pt x="154900" y="314946"/>
                  </a:lnTo>
                  <a:lnTo>
                    <a:pt x="158142" y="303356"/>
                  </a:lnTo>
                  <a:lnTo>
                    <a:pt x="160575" y="291590"/>
                  </a:lnTo>
                  <a:lnTo>
                    <a:pt x="164963" y="279746"/>
                  </a:lnTo>
                  <a:lnTo>
                    <a:pt x="170221" y="267868"/>
                  </a:lnTo>
                  <a:lnTo>
                    <a:pt x="174873" y="255974"/>
                  </a:lnTo>
                  <a:lnTo>
                    <a:pt x="178484" y="237129"/>
                  </a:lnTo>
                  <a:lnTo>
                    <a:pt x="180505" y="229523"/>
                  </a:lnTo>
                  <a:lnTo>
                    <a:pt x="182845" y="221476"/>
                  </a:lnTo>
                  <a:lnTo>
                    <a:pt x="184404" y="214127"/>
                  </a:lnTo>
                  <a:lnTo>
                    <a:pt x="185444" y="207243"/>
                  </a:lnTo>
                  <a:lnTo>
                    <a:pt x="186137" y="200670"/>
                  </a:lnTo>
                  <a:lnTo>
                    <a:pt x="187591" y="194303"/>
                  </a:lnTo>
                  <a:lnTo>
                    <a:pt x="189554" y="188074"/>
                  </a:lnTo>
                  <a:lnTo>
                    <a:pt x="193387" y="175862"/>
                  </a:lnTo>
                  <a:lnTo>
                    <a:pt x="195090" y="163819"/>
                  </a:lnTo>
                  <a:lnTo>
                    <a:pt x="198494" y="151852"/>
                  </a:lnTo>
                  <a:lnTo>
                    <a:pt x="202321" y="140912"/>
                  </a:lnTo>
                  <a:lnTo>
                    <a:pt x="204022" y="132741"/>
                  </a:lnTo>
                  <a:lnTo>
                    <a:pt x="207424" y="123157"/>
                  </a:lnTo>
                  <a:lnTo>
                    <a:pt x="211252" y="113275"/>
                  </a:lnTo>
                  <a:lnTo>
                    <a:pt x="213406" y="102134"/>
                  </a:lnTo>
                  <a:lnTo>
                    <a:pt x="213910" y="95663"/>
                  </a:lnTo>
                  <a:lnTo>
                    <a:pt x="215037" y="93541"/>
                  </a:lnTo>
                  <a:lnTo>
                    <a:pt x="216780" y="92126"/>
                  </a:lnTo>
                  <a:lnTo>
                    <a:pt x="221965" y="89855"/>
                  </a:lnTo>
                  <a:lnTo>
                    <a:pt x="231772" y="89311"/>
                  </a:lnTo>
                  <a:lnTo>
                    <a:pt x="232053" y="94041"/>
                  </a:lnTo>
                  <a:lnTo>
                    <a:pt x="233085" y="96428"/>
                  </a:lnTo>
                  <a:lnTo>
                    <a:pt x="236877" y="101726"/>
                  </a:lnTo>
                  <a:lnTo>
                    <a:pt x="238286" y="105521"/>
                  </a:lnTo>
                  <a:lnTo>
                    <a:pt x="239850" y="115028"/>
                  </a:lnTo>
                  <a:lnTo>
                    <a:pt x="243192" y="125868"/>
                  </a:lnTo>
                  <a:lnTo>
                    <a:pt x="247984" y="137300"/>
                  </a:lnTo>
                  <a:lnTo>
                    <a:pt x="253421" y="148996"/>
                  </a:lnTo>
                  <a:lnTo>
                    <a:pt x="256499" y="160809"/>
                  </a:lnTo>
                  <a:lnTo>
                    <a:pt x="257320" y="166737"/>
                  </a:lnTo>
                  <a:lnTo>
                    <a:pt x="258859" y="173666"/>
                  </a:lnTo>
                  <a:lnTo>
                    <a:pt x="260878" y="181261"/>
                  </a:lnTo>
                  <a:lnTo>
                    <a:pt x="263215" y="189302"/>
                  </a:lnTo>
                  <a:lnTo>
                    <a:pt x="265767" y="196646"/>
                  </a:lnTo>
                  <a:lnTo>
                    <a:pt x="268459" y="203527"/>
                  </a:lnTo>
                  <a:lnTo>
                    <a:pt x="271246" y="210099"/>
                  </a:lnTo>
                  <a:lnTo>
                    <a:pt x="273104" y="217456"/>
                  </a:lnTo>
                  <a:lnTo>
                    <a:pt x="274343" y="225338"/>
                  </a:lnTo>
                  <a:lnTo>
                    <a:pt x="275169" y="233569"/>
                  </a:lnTo>
                  <a:lnTo>
                    <a:pt x="276712" y="242032"/>
                  </a:lnTo>
                  <a:lnTo>
                    <a:pt x="278732" y="250652"/>
                  </a:lnTo>
                  <a:lnTo>
                    <a:pt x="281072" y="259374"/>
                  </a:lnTo>
                  <a:lnTo>
                    <a:pt x="282632" y="267174"/>
                  </a:lnTo>
                  <a:lnTo>
                    <a:pt x="283671" y="274358"/>
                  </a:lnTo>
                  <a:lnTo>
                    <a:pt x="284365" y="281132"/>
                  </a:lnTo>
                  <a:lnTo>
                    <a:pt x="285818" y="288624"/>
                  </a:lnTo>
                  <a:lnTo>
                    <a:pt x="287780" y="296595"/>
                  </a:lnTo>
                  <a:lnTo>
                    <a:pt x="290080" y="304886"/>
                  </a:lnTo>
                  <a:lnTo>
                    <a:pt x="292606" y="312398"/>
                  </a:lnTo>
                  <a:lnTo>
                    <a:pt x="295282" y="319390"/>
                  </a:lnTo>
                  <a:lnTo>
                    <a:pt x="298058" y="326036"/>
                  </a:lnTo>
                  <a:lnTo>
                    <a:pt x="299908" y="332451"/>
                  </a:lnTo>
                  <a:lnTo>
                    <a:pt x="301142" y="338712"/>
                  </a:lnTo>
                  <a:lnTo>
                    <a:pt x="301965" y="344870"/>
                  </a:lnTo>
                  <a:lnTo>
                    <a:pt x="305524" y="354358"/>
                  </a:lnTo>
                  <a:lnTo>
                    <a:pt x="313107" y="365278"/>
                  </a:lnTo>
                  <a:lnTo>
                    <a:pt x="321636" y="374798"/>
                  </a:lnTo>
                  <a:lnTo>
                    <a:pt x="333409" y="386904"/>
                  </a:lnTo>
                  <a:lnTo>
                    <a:pt x="336374" y="388904"/>
                  </a:lnTo>
                  <a:lnTo>
                    <a:pt x="342315" y="391127"/>
                  </a:lnTo>
                  <a:lnTo>
                    <a:pt x="345288" y="390728"/>
                  </a:lnTo>
                  <a:lnTo>
                    <a:pt x="348263" y="389469"/>
                  </a:lnTo>
                  <a:lnTo>
                    <a:pt x="351238" y="387638"/>
                  </a:lnTo>
                  <a:lnTo>
                    <a:pt x="357190" y="385603"/>
                  </a:lnTo>
                  <a:lnTo>
                    <a:pt x="360166" y="385061"/>
                  </a:lnTo>
                  <a:lnTo>
                    <a:pt x="366119" y="381812"/>
                  </a:lnTo>
                  <a:lnTo>
                    <a:pt x="369094" y="379557"/>
                  </a:lnTo>
                  <a:lnTo>
                    <a:pt x="375047" y="371759"/>
                  </a:lnTo>
                  <a:lnTo>
                    <a:pt x="381001" y="361679"/>
                  </a:lnTo>
                  <a:lnTo>
                    <a:pt x="386953" y="350585"/>
                  </a:lnTo>
                  <a:lnTo>
                    <a:pt x="389931" y="343856"/>
                  </a:lnTo>
                  <a:lnTo>
                    <a:pt x="392907" y="336393"/>
                  </a:lnTo>
                  <a:lnTo>
                    <a:pt x="398860" y="320164"/>
                  </a:lnTo>
                  <a:lnTo>
                    <a:pt x="404812" y="303029"/>
                  </a:lnTo>
                  <a:lnTo>
                    <a:pt x="407790" y="295285"/>
                  </a:lnTo>
                  <a:lnTo>
                    <a:pt x="410766" y="288138"/>
                  </a:lnTo>
                  <a:lnTo>
                    <a:pt x="413742" y="281388"/>
                  </a:lnTo>
                  <a:lnTo>
                    <a:pt x="416720" y="272920"/>
                  </a:lnTo>
                  <a:lnTo>
                    <a:pt x="419696" y="263306"/>
                  </a:lnTo>
                  <a:lnTo>
                    <a:pt x="425649" y="243032"/>
                  </a:lnTo>
                  <a:lnTo>
                    <a:pt x="437555" y="205764"/>
                  </a:lnTo>
                  <a:lnTo>
                    <a:pt x="440531" y="196707"/>
                  </a:lnTo>
                  <a:lnTo>
                    <a:pt x="442515" y="187692"/>
                  </a:lnTo>
                  <a:lnTo>
                    <a:pt x="443839" y="178706"/>
                  </a:lnTo>
                  <a:lnTo>
                    <a:pt x="444722" y="169739"/>
                  </a:lnTo>
                  <a:lnTo>
                    <a:pt x="446301" y="160784"/>
                  </a:lnTo>
                  <a:lnTo>
                    <a:pt x="448347" y="151838"/>
                  </a:lnTo>
                  <a:lnTo>
                    <a:pt x="450703" y="142897"/>
                  </a:lnTo>
                  <a:lnTo>
                    <a:pt x="452273" y="134952"/>
                  </a:lnTo>
                  <a:lnTo>
                    <a:pt x="453320" y="127671"/>
                  </a:lnTo>
                  <a:lnTo>
                    <a:pt x="454018" y="120832"/>
                  </a:lnTo>
                  <a:lnTo>
                    <a:pt x="454484" y="113297"/>
                  </a:lnTo>
                  <a:lnTo>
                    <a:pt x="455001" y="96986"/>
                  </a:lnTo>
                  <a:lnTo>
                    <a:pt x="456131" y="89462"/>
                  </a:lnTo>
                  <a:lnTo>
                    <a:pt x="457877" y="82462"/>
                  </a:lnTo>
                  <a:lnTo>
                    <a:pt x="460033" y="75810"/>
                  </a:lnTo>
                  <a:lnTo>
                    <a:pt x="461469" y="69391"/>
                  </a:lnTo>
                  <a:lnTo>
                    <a:pt x="462428" y="63128"/>
                  </a:lnTo>
                  <a:lnTo>
                    <a:pt x="463492" y="51869"/>
                  </a:lnTo>
                  <a:lnTo>
                    <a:pt x="463966" y="43558"/>
                  </a:lnTo>
                  <a:lnTo>
                    <a:pt x="464177" y="33911"/>
                  </a:lnTo>
                  <a:lnTo>
                    <a:pt x="464335" y="11110"/>
                  </a:lnTo>
                  <a:lnTo>
                    <a:pt x="466985" y="7253"/>
                  </a:lnTo>
                  <a:lnTo>
                    <a:pt x="472905" y="424"/>
                  </a:lnTo>
                  <a:lnTo>
                    <a:pt x="48220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9" name="SMARTInkAnnotation1"/>
            <p:cNvSpPr/>
            <p:nvPr/>
          </p:nvSpPr>
          <p:spPr>
            <a:xfrm>
              <a:off x="5321160" y="2866320"/>
              <a:ext cx="267840" cy="17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7892" h="17860">
                  <a:moveTo>
                    <a:pt x="0" y="17859"/>
                  </a:moveTo>
                  <a:lnTo>
                    <a:pt x="4741" y="13119"/>
                  </a:lnTo>
                  <a:lnTo>
                    <a:pt x="7129" y="11723"/>
                  </a:lnTo>
                  <a:lnTo>
                    <a:pt x="9714" y="10792"/>
                  </a:lnTo>
                  <a:lnTo>
                    <a:pt x="12429" y="10171"/>
                  </a:lnTo>
                  <a:lnTo>
                    <a:pt x="15232" y="9757"/>
                  </a:lnTo>
                  <a:lnTo>
                    <a:pt x="20991" y="9297"/>
                  </a:lnTo>
                  <a:lnTo>
                    <a:pt x="24908" y="8183"/>
                  </a:lnTo>
                  <a:lnTo>
                    <a:pt x="29503" y="6447"/>
                  </a:lnTo>
                  <a:lnTo>
                    <a:pt x="34552" y="4298"/>
                  </a:lnTo>
                  <a:lnTo>
                    <a:pt x="39902" y="2866"/>
                  </a:lnTo>
                  <a:lnTo>
                    <a:pt x="45453" y="1911"/>
                  </a:lnTo>
                  <a:lnTo>
                    <a:pt x="51138" y="1274"/>
                  </a:lnTo>
                  <a:lnTo>
                    <a:pt x="56912" y="849"/>
                  </a:lnTo>
                  <a:lnTo>
                    <a:pt x="62747" y="566"/>
                  </a:lnTo>
                  <a:lnTo>
                    <a:pt x="74521" y="252"/>
                  </a:lnTo>
                  <a:lnTo>
                    <a:pt x="186924" y="0"/>
                  </a:lnTo>
                  <a:lnTo>
                    <a:pt x="26789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0" name="SMARTInkAnnotation2"/>
            <p:cNvSpPr/>
            <p:nvPr/>
          </p:nvSpPr>
          <p:spPr>
            <a:xfrm>
              <a:off x="5339160" y="2955600"/>
              <a:ext cx="267840" cy="17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7891" h="17860">
                  <a:moveTo>
                    <a:pt x="0" y="17859"/>
                  </a:moveTo>
                  <a:lnTo>
                    <a:pt x="4740" y="13119"/>
                  </a:lnTo>
                  <a:lnTo>
                    <a:pt x="7128" y="11722"/>
                  </a:lnTo>
                  <a:lnTo>
                    <a:pt x="9714" y="10791"/>
                  </a:lnTo>
                  <a:lnTo>
                    <a:pt x="12429" y="10171"/>
                  </a:lnTo>
                  <a:lnTo>
                    <a:pt x="15231" y="9757"/>
                  </a:lnTo>
                  <a:lnTo>
                    <a:pt x="20990" y="9297"/>
                  </a:lnTo>
                  <a:lnTo>
                    <a:pt x="29503" y="9093"/>
                  </a:lnTo>
                  <a:lnTo>
                    <a:pt x="34551" y="9039"/>
                  </a:lnTo>
                  <a:lnTo>
                    <a:pt x="39901" y="8010"/>
                  </a:lnTo>
                  <a:lnTo>
                    <a:pt x="45452" y="6332"/>
                  </a:lnTo>
                  <a:lnTo>
                    <a:pt x="51138" y="4222"/>
                  </a:lnTo>
                  <a:lnTo>
                    <a:pt x="57905" y="2814"/>
                  </a:lnTo>
                  <a:lnTo>
                    <a:pt x="65392" y="1876"/>
                  </a:lnTo>
                  <a:lnTo>
                    <a:pt x="73360" y="1251"/>
                  </a:lnTo>
                  <a:lnTo>
                    <a:pt x="81649" y="834"/>
                  </a:lnTo>
                  <a:lnTo>
                    <a:pt x="98796" y="371"/>
                  </a:lnTo>
                  <a:lnTo>
                    <a:pt x="144166" y="32"/>
                  </a:lnTo>
                  <a:lnTo>
                    <a:pt x="2678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1" name="SMARTInkAnnotation3"/>
            <p:cNvSpPr/>
            <p:nvPr/>
          </p:nvSpPr>
          <p:spPr>
            <a:xfrm>
              <a:off x="5651640" y="2812680"/>
              <a:ext cx="321120" cy="355680"/>
            </a:xfrm>
            <a:custGeom>
              <a:avLst/>
              <a:gdLst>
                <a:gd name="textAreaLeft" fmla="*/ 0 w 321120"/>
                <a:gd name="textAreaRight" fmla="*/ 321120 w 32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321348" h="355742">
                  <a:moveTo>
                    <a:pt x="107119" y="71400"/>
                  </a:moveTo>
                  <a:lnTo>
                    <a:pt x="107119" y="109851"/>
                  </a:lnTo>
                  <a:lnTo>
                    <a:pt x="104473" y="118586"/>
                  </a:lnTo>
                  <a:lnTo>
                    <a:pt x="100982" y="129083"/>
                  </a:lnTo>
                  <a:lnTo>
                    <a:pt x="100051" y="134660"/>
                  </a:lnTo>
                  <a:lnTo>
                    <a:pt x="99431" y="140363"/>
                  </a:lnTo>
                  <a:lnTo>
                    <a:pt x="98025" y="146149"/>
                  </a:lnTo>
                  <a:lnTo>
                    <a:pt x="96095" y="151990"/>
                  </a:lnTo>
                  <a:lnTo>
                    <a:pt x="93817" y="157869"/>
                  </a:lnTo>
                  <a:lnTo>
                    <a:pt x="91306" y="163773"/>
                  </a:lnTo>
                  <a:lnTo>
                    <a:pt x="85869" y="175624"/>
                  </a:lnTo>
                  <a:lnTo>
                    <a:pt x="84023" y="182555"/>
                  </a:lnTo>
                  <a:lnTo>
                    <a:pt x="82793" y="190152"/>
                  </a:lnTo>
                  <a:lnTo>
                    <a:pt x="81972" y="198193"/>
                  </a:lnTo>
                  <a:lnTo>
                    <a:pt x="80432" y="205538"/>
                  </a:lnTo>
                  <a:lnTo>
                    <a:pt x="78414" y="212419"/>
                  </a:lnTo>
                  <a:lnTo>
                    <a:pt x="76076" y="218991"/>
                  </a:lnTo>
                  <a:lnTo>
                    <a:pt x="73525" y="225357"/>
                  </a:lnTo>
                  <a:lnTo>
                    <a:pt x="70833" y="231585"/>
                  </a:lnTo>
                  <a:lnTo>
                    <a:pt x="68045" y="237721"/>
                  </a:lnTo>
                  <a:lnTo>
                    <a:pt x="65195" y="244789"/>
                  </a:lnTo>
                  <a:lnTo>
                    <a:pt x="59382" y="260579"/>
                  </a:lnTo>
                  <a:lnTo>
                    <a:pt x="56443" y="267965"/>
                  </a:lnTo>
                  <a:lnTo>
                    <a:pt x="53491" y="274873"/>
                  </a:lnTo>
                  <a:lnTo>
                    <a:pt x="47566" y="287841"/>
                  </a:lnTo>
                  <a:lnTo>
                    <a:pt x="35678" y="312334"/>
                  </a:lnTo>
                  <a:lnTo>
                    <a:pt x="29727" y="323342"/>
                  </a:lnTo>
                  <a:lnTo>
                    <a:pt x="23775" y="331541"/>
                  </a:lnTo>
                  <a:lnTo>
                    <a:pt x="14846" y="341735"/>
                  </a:lnTo>
                  <a:lnTo>
                    <a:pt x="7031" y="350013"/>
                  </a:lnTo>
                  <a:lnTo>
                    <a:pt x="1360" y="355741"/>
                  </a:lnTo>
                  <a:lnTo>
                    <a:pt x="894" y="355219"/>
                  </a:lnTo>
                  <a:lnTo>
                    <a:pt x="86" y="349338"/>
                  </a:lnTo>
                  <a:lnTo>
                    <a:pt x="0" y="343812"/>
                  </a:lnTo>
                  <a:lnTo>
                    <a:pt x="980" y="341313"/>
                  </a:lnTo>
                  <a:lnTo>
                    <a:pt x="6108" y="333055"/>
                  </a:lnTo>
                  <a:lnTo>
                    <a:pt x="7655" y="327259"/>
                  </a:lnTo>
                  <a:lnTo>
                    <a:pt x="8068" y="322340"/>
                  </a:lnTo>
                  <a:lnTo>
                    <a:pt x="8342" y="316084"/>
                  </a:lnTo>
                  <a:lnTo>
                    <a:pt x="8527" y="308937"/>
                  </a:lnTo>
                  <a:lnTo>
                    <a:pt x="9641" y="302188"/>
                  </a:lnTo>
                  <a:lnTo>
                    <a:pt x="11376" y="295704"/>
                  </a:lnTo>
                  <a:lnTo>
                    <a:pt x="13525" y="289397"/>
                  </a:lnTo>
                  <a:lnTo>
                    <a:pt x="15949" y="283208"/>
                  </a:lnTo>
                  <a:lnTo>
                    <a:pt x="18558" y="277098"/>
                  </a:lnTo>
                  <a:lnTo>
                    <a:pt x="21289" y="271040"/>
                  </a:lnTo>
                  <a:lnTo>
                    <a:pt x="23110" y="265017"/>
                  </a:lnTo>
                  <a:lnTo>
                    <a:pt x="24325" y="259017"/>
                  </a:lnTo>
                  <a:lnTo>
                    <a:pt x="25134" y="253033"/>
                  </a:lnTo>
                  <a:lnTo>
                    <a:pt x="26666" y="246067"/>
                  </a:lnTo>
                  <a:lnTo>
                    <a:pt x="28679" y="238446"/>
                  </a:lnTo>
                  <a:lnTo>
                    <a:pt x="31014" y="230390"/>
                  </a:lnTo>
                  <a:lnTo>
                    <a:pt x="36253" y="213500"/>
                  </a:lnTo>
                  <a:lnTo>
                    <a:pt x="39039" y="204829"/>
                  </a:lnTo>
                  <a:lnTo>
                    <a:pt x="42880" y="197064"/>
                  </a:lnTo>
                  <a:lnTo>
                    <a:pt x="47426" y="189902"/>
                  </a:lnTo>
                  <a:lnTo>
                    <a:pt x="52442" y="183144"/>
                  </a:lnTo>
                  <a:lnTo>
                    <a:pt x="56776" y="175662"/>
                  </a:lnTo>
                  <a:lnTo>
                    <a:pt x="60659" y="167697"/>
                  </a:lnTo>
                  <a:lnTo>
                    <a:pt x="64240" y="159411"/>
                  </a:lnTo>
                  <a:lnTo>
                    <a:pt x="70864" y="144912"/>
                  </a:lnTo>
                  <a:lnTo>
                    <a:pt x="74020" y="138268"/>
                  </a:lnTo>
                  <a:lnTo>
                    <a:pt x="78107" y="131854"/>
                  </a:lnTo>
                  <a:lnTo>
                    <a:pt x="82817" y="125593"/>
                  </a:lnTo>
                  <a:lnTo>
                    <a:pt x="87941" y="119435"/>
                  </a:lnTo>
                  <a:lnTo>
                    <a:pt x="92350" y="112353"/>
                  </a:lnTo>
                  <a:lnTo>
                    <a:pt x="96280" y="104656"/>
                  </a:lnTo>
                  <a:lnTo>
                    <a:pt x="103295" y="89157"/>
                  </a:lnTo>
                  <a:lnTo>
                    <a:pt x="109720" y="75654"/>
                  </a:lnTo>
                  <a:lnTo>
                    <a:pt x="115881" y="65684"/>
                  </a:lnTo>
                  <a:lnTo>
                    <a:pt x="121928" y="56954"/>
                  </a:lnTo>
                  <a:lnTo>
                    <a:pt x="127921" y="46459"/>
                  </a:lnTo>
                  <a:lnTo>
                    <a:pt x="133893" y="35180"/>
                  </a:lnTo>
                  <a:lnTo>
                    <a:pt x="139855" y="24545"/>
                  </a:lnTo>
                  <a:lnTo>
                    <a:pt x="147797" y="13971"/>
                  </a:lnTo>
                  <a:lnTo>
                    <a:pt x="155985" y="4821"/>
                  </a:lnTo>
                  <a:lnTo>
                    <a:pt x="158548" y="3202"/>
                  </a:lnTo>
                  <a:lnTo>
                    <a:pt x="168524" y="247"/>
                  </a:lnTo>
                  <a:lnTo>
                    <a:pt x="169136" y="89"/>
                  </a:lnTo>
                  <a:lnTo>
                    <a:pt x="174222" y="0"/>
                  </a:lnTo>
                  <a:lnTo>
                    <a:pt x="175667" y="980"/>
                  </a:lnTo>
                  <a:lnTo>
                    <a:pt x="176631" y="2625"/>
                  </a:lnTo>
                  <a:lnTo>
                    <a:pt x="177273" y="4715"/>
                  </a:lnTo>
                  <a:lnTo>
                    <a:pt x="180632" y="9681"/>
                  </a:lnTo>
                  <a:lnTo>
                    <a:pt x="182917" y="12395"/>
                  </a:lnTo>
                  <a:lnTo>
                    <a:pt x="184439" y="15197"/>
                  </a:lnTo>
                  <a:lnTo>
                    <a:pt x="187575" y="23879"/>
                  </a:lnTo>
                  <a:lnTo>
                    <a:pt x="194347" y="33728"/>
                  </a:lnTo>
                  <a:lnTo>
                    <a:pt x="199796" y="43412"/>
                  </a:lnTo>
                  <a:lnTo>
                    <a:pt x="205525" y="51685"/>
                  </a:lnTo>
                  <a:lnTo>
                    <a:pt x="208442" y="55281"/>
                  </a:lnTo>
                  <a:lnTo>
                    <a:pt x="210386" y="59662"/>
                  </a:lnTo>
                  <a:lnTo>
                    <a:pt x="212546" y="69821"/>
                  </a:lnTo>
                  <a:lnTo>
                    <a:pt x="215108" y="76301"/>
                  </a:lnTo>
                  <a:lnTo>
                    <a:pt x="218799" y="83597"/>
                  </a:lnTo>
                  <a:lnTo>
                    <a:pt x="227200" y="98649"/>
                  </a:lnTo>
                  <a:lnTo>
                    <a:pt x="237508" y="118280"/>
                  </a:lnTo>
                  <a:lnTo>
                    <a:pt x="261878" y="166621"/>
                  </a:lnTo>
                  <a:lnTo>
                    <a:pt x="268831" y="175561"/>
                  </a:lnTo>
                  <a:lnTo>
                    <a:pt x="278427" y="186482"/>
                  </a:lnTo>
                  <a:lnTo>
                    <a:pt x="310512" y="220692"/>
                  </a:lnTo>
                  <a:lnTo>
                    <a:pt x="316578" y="229695"/>
                  </a:lnTo>
                  <a:lnTo>
                    <a:pt x="319274" y="237004"/>
                  </a:lnTo>
                  <a:lnTo>
                    <a:pt x="321148" y="248088"/>
                  </a:lnTo>
                  <a:lnTo>
                    <a:pt x="321347" y="254170"/>
                  </a:lnTo>
                  <a:lnTo>
                    <a:pt x="320383" y="255755"/>
                  </a:lnTo>
                  <a:lnTo>
                    <a:pt x="318748" y="256811"/>
                  </a:lnTo>
                  <a:lnTo>
                    <a:pt x="316666" y="257515"/>
                  </a:lnTo>
                  <a:lnTo>
                    <a:pt x="311706" y="260944"/>
                  </a:lnTo>
                  <a:lnTo>
                    <a:pt x="308995" y="263247"/>
                  </a:lnTo>
                  <a:lnTo>
                    <a:pt x="306195" y="264783"/>
                  </a:lnTo>
                  <a:lnTo>
                    <a:pt x="296522" y="267936"/>
                  </a:lnTo>
                  <a:lnTo>
                    <a:pt x="286879" y="272190"/>
                  </a:lnTo>
                  <a:lnTo>
                    <a:pt x="281529" y="273721"/>
                  </a:lnTo>
                  <a:lnTo>
                    <a:pt x="275978" y="274742"/>
                  </a:lnTo>
                  <a:lnTo>
                    <a:pt x="270293" y="275423"/>
                  </a:lnTo>
                  <a:lnTo>
                    <a:pt x="263527" y="275876"/>
                  </a:lnTo>
                  <a:lnTo>
                    <a:pt x="256040" y="276179"/>
                  </a:lnTo>
                  <a:lnTo>
                    <a:pt x="248071" y="276380"/>
                  </a:lnTo>
                  <a:lnTo>
                    <a:pt x="240775" y="277507"/>
                  </a:lnTo>
                  <a:lnTo>
                    <a:pt x="233926" y="279250"/>
                  </a:lnTo>
                  <a:lnTo>
                    <a:pt x="227376" y="281404"/>
                  </a:lnTo>
                  <a:lnTo>
                    <a:pt x="221025" y="282841"/>
                  </a:lnTo>
                  <a:lnTo>
                    <a:pt x="214806" y="283798"/>
                  </a:lnTo>
                  <a:lnTo>
                    <a:pt x="208676" y="284437"/>
                  </a:lnTo>
                  <a:lnTo>
                    <a:pt x="201613" y="285854"/>
                  </a:lnTo>
                  <a:lnTo>
                    <a:pt x="193927" y="287791"/>
                  </a:lnTo>
                  <a:lnTo>
                    <a:pt x="185827" y="290075"/>
                  </a:lnTo>
                  <a:lnTo>
                    <a:pt x="178443" y="291598"/>
                  </a:lnTo>
                  <a:lnTo>
                    <a:pt x="171535" y="292613"/>
                  </a:lnTo>
                  <a:lnTo>
                    <a:pt x="164946" y="293289"/>
                  </a:lnTo>
                  <a:lnTo>
                    <a:pt x="158569" y="294733"/>
                  </a:lnTo>
                  <a:lnTo>
                    <a:pt x="152333" y="296687"/>
                  </a:lnTo>
                  <a:lnTo>
                    <a:pt x="146191" y="298982"/>
                  </a:lnTo>
                  <a:lnTo>
                    <a:pt x="136721" y="301532"/>
                  </a:lnTo>
                  <a:lnTo>
                    <a:pt x="128214" y="302666"/>
                  </a:lnTo>
                  <a:lnTo>
                    <a:pt x="123166" y="302968"/>
                  </a:lnTo>
                  <a:lnTo>
                    <a:pt x="117817" y="303170"/>
                  </a:lnTo>
                  <a:lnTo>
                    <a:pt x="113259" y="304296"/>
                  </a:lnTo>
                  <a:lnTo>
                    <a:pt x="105549" y="308193"/>
                  </a:lnTo>
                  <a:lnTo>
                    <a:pt x="100370" y="311226"/>
                  </a:lnTo>
                  <a:lnTo>
                    <a:pt x="96513" y="311935"/>
                  </a:lnTo>
                  <a:lnTo>
                    <a:pt x="89386" y="312492"/>
                  </a:lnTo>
                  <a:lnTo>
                    <a:pt x="98189" y="3125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2" name="SMARTInkAnnotation4"/>
            <p:cNvSpPr/>
            <p:nvPr/>
          </p:nvSpPr>
          <p:spPr>
            <a:xfrm>
              <a:off x="6026760" y="2732400"/>
              <a:ext cx="71280" cy="383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71438" h="383977">
                  <a:moveTo>
                    <a:pt x="71437" y="0"/>
                  </a:moveTo>
                  <a:lnTo>
                    <a:pt x="71437" y="85129"/>
                  </a:lnTo>
                  <a:lnTo>
                    <a:pt x="70445" y="92471"/>
                  </a:lnTo>
                  <a:lnTo>
                    <a:pt x="68791" y="100343"/>
                  </a:lnTo>
                  <a:lnTo>
                    <a:pt x="66697" y="108567"/>
                  </a:lnTo>
                  <a:lnTo>
                    <a:pt x="65300" y="117026"/>
                  </a:lnTo>
                  <a:lnTo>
                    <a:pt x="64369" y="125643"/>
                  </a:lnTo>
                  <a:lnTo>
                    <a:pt x="63749" y="134363"/>
                  </a:lnTo>
                  <a:lnTo>
                    <a:pt x="62343" y="143154"/>
                  </a:lnTo>
                  <a:lnTo>
                    <a:pt x="60413" y="151990"/>
                  </a:lnTo>
                  <a:lnTo>
                    <a:pt x="58134" y="160858"/>
                  </a:lnTo>
                  <a:lnTo>
                    <a:pt x="55623" y="169746"/>
                  </a:lnTo>
                  <a:lnTo>
                    <a:pt x="50188" y="187560"/>
                  </a:lnTo>
                  <a:lnTo>
                    <a:pt x="48341" y="196478"/>
                  </a:lnTo>
                  <a:lnTo>
                    <a:pt x="47111" y="205399"/>
                  </a:lnTo>
                  <a:lnTo>
                    <a:pt x="46289" y="214323"/>
                  </a:lnTo>
                  <a:lnTo>
                    <a:pt x="44750" y="223249"/>
                  </a:lnTo>
                  <a:lnTo>
                    <a:pt x="42732" y="232177"/>
                  </a:lnTo>
                  <a:lnTo>
                    <a:pt x="40393" y="241105"/>
                  </a:lnTo>
                  <a:lnTo>
                    <a:pt x="37843" y="249041"/>
                  </a:lnTo>
                  <a:lnTo>
                    <a:pt x="35151" y="256316"/>
                  </a:lnTo>
                  <a:lnTo>
                    <a:pt x="32363" y="263151"/>
                  </a:lnTo>
                  <a:lnTo>
                    <a:pt x="30505" y="270684"/>
                  </a:lnTo>
                  <a:lnTo>
                    <a:pt x="29266" y="278683"/>
                  </a:lnTo>
                  <a:lnTo>
                    <a:pt x="28440" y="286992"/>
                  </a:lnTo>
                  <a:lnTo>
                    <a:pt x="26898" y="294515"/>
                  </a:lnTo>
                  <a:lnTo>
                    <a:pt x="24877" y="301515"/>
                  </a:lnTo>
                  <a:lnTo>
                    <a:pt x="22538" y="308166"/>
                  </a:lnTo>
                  <a:lnTo>
                    <a:pt x="20978" y="314585"/>
                  </a:lnTo>
                  <a:lnTo>
                    <a:pt x="19938" y="320849"/>
                  </a:lnTo>
                  <a:lnTo>
                    <a:pt x="19245" y="327008"/>
                  </a:lnTo>
                  <a:lnTo>
                    <a:pt x="17791" y="333099"/>
                  </a:lnTo>
                  <a:lnTo>
                    <a:pt x="15829" y="339144"/>
                  </a:lnTo>
                  <a:lnTo>
                    <a:pt x="13530" y="345159"/>
                  </a:lnTo>
                  <a:lnTo>
                    <a:pt x="11996" y="350160"/>
                  </a:lnTo>
                  <a:lnTo>
                    <a:pt x="9838" y="361940"/>
                  </a:lnTo>
                  <a:lnTo>
                    <a:pt x="9333" y="368560"/>
                  </a:lnTo>
                  <a:lnTo>
                    <a:pt x="8206" y="371715"/>
                  </a:lnTo>
                  <a:lnTo>
                    <a:pt x="6464" y="374810"/>
                  </a:lnTo>
                  <a:lnTo>
                    <a:pt x="0" y="3839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3" name="SMARTInkAnnotation5"/>
            <p:cNvSpPr/>
            <p:nvPr/>
          </p:nvSpPr>
          <p:spPr>
            <a:xfrm>
              <a:off x="6098400" y="2812680"/>
              <a:ext cx="232200" cy="97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32173" h="98227">
                  <a:moveTo>
                    <a:pt x="0" y="98226"/>
                  </a:moveTo>
                  <a:lnTo>
                    <a:pt x="4740" y="93486"/>
                  </a:lnTo>
                  <a:lnTo>
                    <a:pt x="8122" y="91097"/>
                  </a:lnTo>
                  <a:lnTo>
                    <a:pt x="12359" y="88513"/>
                  </a:lnTo>
                  <a:lnTo>
                    <a:pt x="17170" y="85798"/>
                  </a:lnTo>
                  <a:lnTo>
                    <a:pt x="21368" y="82995"/>
                  </a:lnTo>
                  <a:lnTo>
                    <a:pt x="25159" y="80135"/>
                  </a:lnTo>
                  <a:lnTo>
                    <a:pt x="28679" y="77236"/>
                  </a:lnTo>
                  <a:lnTo>
                    <a:pt x="33010" y="74311"/>
                  </a:lnTo>
                  <a:lnTo>
                    <a:pt x="37882" y="71369"/>
                  </a:lnTo>
                  <a:lnTo>
                    <a:pt x="43114" y="68415"/>
                  </a:lnTo>
                  <a:lnTo>
                    <a:pt x="49579" y="65454"/>
                  </a:lnTo>
                  <a:lnTo>
                    <a:pt x="56864" y="62487"/>
                  </a:lnTo>
                  <a:lnTo>
                    <a:pt x="64699" y="59518"/>
                  </a:lnTo>
                  <a:lnTo>
                    <a:pt x="71907" y="56545"/>
                  </a:lnTo>
                  <a:lnTo>
                    <a:pt x="78695" y="53572"/>
                  </a:lnTo>
                  <a:lnTo>
                    <a:pt x="85206" y="50598"/>
                  </a:lnTo>
                  <a:lnTo>
                    <a:pt x="92523" y="47622"/>
                  </a:lnTo>
                  <a:lnTo>
                    <a:pt x="100378" y="44647"/>
                  </a:lnTo>
                  <a:lnTo>
                    <a:pt x="117043" y="38695"/>
                  </a:lnTo>
                  <a:lnTo>
                    <a:pt x="134370" y="32742"/>
                  </a:lnTo>
                  <a:lnTo>
                    <a:pt x="142166" y="29765"/>
                  </a:lnTo>
                  <a:lnTo>
                    <a:pt x="149348" y="26789"/>
                  </a:lnTo>
                  <a:lnTo>
                    <a:pt x="156120" y="23813"/>
                  </a:lnTo>
                  <a:lnTo>
                    <a:pt x="163611" y="20836"/>
                  </a:lnTo>
                  <a:lnTo>
                    <a:pt x="179873" y="14883"/>
                  </a:lnTo>
                  <a:lnTo>
                    <a:pt x="187384" y="12899"/>
                  </a:lnTo>
                  <a:lnTo>
                    <a:pt x="194376" y="11576"/>
                  </a:lnTo>
                  <a:lnTo>
                    <a:pt x="201022" y="10694"/>
                  </a:lnTo>
                  <a:lnTo>
                    <a:pt x="206444" y="9113"/>
                  </a:lnTo>
                  <a:lnTo>
                    <a:pt x="211051" y="7068"/>
                  </a:lnTo>
                  <a:lnTo>
                    <a:pt x="215115" y="4712"/>
                  </a:lnTo>
                  <a:lnTo>
                    <a:pt x="222276" y="2094"/>
                  </a:lnTo>
                  <a:lnTo>
                    <a:pt x="2321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4" name="SMARTInkAnnotation6"/>
            <p:cNvSpPr/>
            <p:nvPr/>
          </p:nvSpPr>
          <p:spPr>
            <a:xfrm>
              <a:off x="6125040" y="2883960"/>
              <a:ext cx="89280" cy="2588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89297" h="258962">
                  <a:moveTo>
                    <a:pt x="0" y="0"/>
                  </a:moveTo>
                  <a:lnTo>
                    <a:pt x="0" y="12428"/>
                  </a:lnTo>
                  <a:lnTo>
                    <a:pt x="992" y="16223"/>
                  </a:lnTo>
                  <a:lnTo>
                    <a:pt x="2645" y="20737"/>
                  </a:lnTo>
                  <a:lnTo>
                    <a:pt x="4740" y="25731"/>
                  </a:lnTo>
                  <a:lnTo>
                    <a:pt x="6137" y="31044"/>
                  </a:lnTo>
                  <a:lnTo>
                    <a:pt x="7067" y="36571"/>
                  </a:lnTo>
                  <a:lnTo>
                    <a:pt x="7688" y="42240"/>
                  </a:lnTo>
                  <a:lnTo>
                    <a:pt x="9094" y="48004"/>
                  </a:lnTo>
                  <a:lnTo>
                    <a:pt x="11023" y="53830"/>
                  </a:lnTo>
                  <a:lnTo>
                    <a:pt x="13302" y="59699"/>
                  </a:lnTo>
                  <a:lnTo>
                    <a:pt x="14820" y="65596"/>
                  </a:lnTo>
                  <a:lnTo>
                    <a:pt x="15833" y="71512"/>
                  </a:lnTo>
                  <a:lnTo>
                    <a:pt x="16509" y="77440"/>
                  </a:lnTo>
                  <a:lnTo>
                    <a:pt x="17950" y="84369"/>
                  </a:lnTo>
                  <a:lnTo>
                    <a:pt x="19905" y="91964"/>
                  </a:lnTo>
                  <a:lnTo>
                    <a:pt x="22200" y="100005"/>
                  </a:lnTo>
                  <a:lnTo>
                    <a:pt x="27395" y="116876"/>
                  </a:lnTo>
                  <a:lnTo>
                    <a:pt x="30169" y="125542"/>
                  </a:lnTo>
                  <a:lnTo>
                    <a:pt x="33011" y="133304"/>
                  </a:lnTo>
                  <a:lnTo>
                    <a:pt x="35898" y="140463"/>
                  </a:lnTo>
                  <a:lnTo>
                    <a:pt x="38814" y="147220"/>
                  </a:lnTo>
                  <a:lnTo>
                    <a:pt x="40759" y="153709"/>
                  </a:lnTo>
                  <a:lnTo>
                    <a:pt x="42056" y="160019"/>
                  </a:lnTo>
                  <a:lnTo>
                    <a:pt x="42919" y="166211"/>
                  </a:lnTo>
                  <a:lnTo>
                    <a:pt x="44488" y="173315"/>
                  </a:lnTo>
                  <a:lnTo>
                    <a:pt x="46525" y="181027"/>
                  </a:lnTo>
                  <a:lnTo>
                    <a:pt x="48876" y="189146"/>
                  </a:lnTo>
                  <a:lnTo>
                    <a:pt x="50443" y="196542"/>
                  </a:lnTo>
                  <a:lnTo>
                    <a:pt x="51488" y="203458"/>
                  </a:lnTo>
                  <a:lnTo>
                    <a:pt x="52184" y="210052"/>
                  </a:lnTo>
                  <a:lnTo>
                    <a:pt x="53641" y="216433"/>
                  </a:lnTo>
                  <a:lnTo>
                    <a:pt x="55603" y="222672"/>
                  </a:lnTo>
                  <a:lnTo>
                    <a:pt x="57905" y="228815"/>
                  </a:lnTo>
                  <a:lnTo>
                    <a:pt x="60431" y="233903"/>
                  </a:lnTo>
                  <a:lnTo>
                    <a:pt x="63107" y="238287"/>
                  </a:lnTo>
                  <a:lnTo>
                    <a:pt x="65884" y="242201"/>
                  </a:lnTo>
                  <a:lnTo>
                    <a:pt x="67735" y="245803"/>
                  </a:lnTo>
                  <a:lnTo>
                    <a:pt x="69792" y="252451"/>
                  </a:lnTo>
                  <a:lnTo>
                    <a:pt x="71332" y="254621"/>
                  </a:lnTo>
                  <a:lnTo>
                    <a:pt x="73351" y="256068"/>
                  </a:lnTo>
                  <a:lnTo>
                    <a:pt x="78981" y="258389"/>
                  </a:lnTo>
                  <a:lnTo>
                    <a:pt x="80436" y="258580"/>
                  </a:lnTo>
                  <a:lnTo>
                    <a:pt x="82396" y="258707"/>
                  </a:lnTo>
                  <a:lnTo>
                    <a:pt x="89296" y="2589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5" name="SMARTInkAnnotation7"/>
            <p:cNvSpPr/>
            <p:nvPr/>
          </p:nvSpPr>
          <p:spPr>
            <a:xfrm>
              <a:off x="6286320" y="2750400"/>
              <a:ext cx="240840" cy="3477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40815" h="347881">
                  <a:moveTo>
                    <a:pt x="240814" y="17482"/>
                  </a:moveTo>
                  <a:lnTo>
                    <a:pt x="240814" y="8920"/>
                  </a:lnTo>
                  <a:lnTo>
                    <a:pt x="236074" y="3921"/>
                  </a:lnTo>
                  <a:lnTo>
                    <a:pt x="232692" y="2488"/>
                  </a:lnTo>
                  <a:lnTo>
                    <a:pt x="228456" y="1533"/>
                  </a:lnTo>
                  <a:lnTo>
                    <a:pt x="223645" y="896"/>
                  </a:lnTo>
                  <a:lnTo>
                    <a:pt x="219446" y="471"/>
                  </a:lnTo>
                  <a:lnTo>
                    <a:pt x="212135" y="0"/>
                  </a:lnTo>
                  <a:lnTo>
                    <a:pt x="207805" y="866"/>
                  </a:lnTo>
                  <a:lnTo>
                    <a:pt x="202932" y="2436"/>
                  </a:lnTo>
                  <a:lnTo>
                    <a:pt x="197700" y="4475"/>
                  </a:lnTo>
                  <a:lnTo>
                    <a:pt x="192228" y="5834"/>
                  </a:lnTo>
                  <a:lnTo>
                    <a:pt x="186596" y="6740"/>
                  </a:lnTo>
                  <a:lnTo>
                    <a:pt x="180856" y="7344"/>
                  </a:lnTo>
                  <a:lnTo>
                    <a:pt x="174053" y="7747"/>
                  </a:lnTo>
                  <a:lnTo>
                    <a:pt x="158557" y="8194"/>
                  </a:lnTo>
                  <a:lnTo>
                    <a:pt x="151250" y="9306"/>
                  </a:lnTo>
                  <a:lnTo>
                    <a:pt x="144394" y="11039"/>
                  </a:lnTo>
                  <a:lnTo>
                    <a:pt x="137838" y="13187"/>
                  </a:lnTo>
                  <a:lnTo>
                    <a:pt x="132476" y="15610"/>
                  </a:lnTo>
                  <a:lnTo>
                    <a:pt x="127910" y="18219"/>
                  </a:lnTo>
                  <a:lnTo>
                    <a:pt x="123873" y="20950"/>
                  </a:lnTo>
                  <a:lnTo>
                    <a:pt x="119197" y="23762"/>
                  </a:lnTo>
                  <a:lnTo>
                    <a:pt x="114096" y="26630"/>
                  </a:lnTo>
                  <a:lnTo>
                    <a:pt x="108711" y="29534"/>
                  </a:lnTo>
                  <a:lnTo>
                    <a:pt x="104127" y="32462"/>
                  </a:lnTo>
                  <a:lnTo>
                    <a:pt x="100081" y="35406"/>
                  </a:lnTo>
                  <a:lnTo>
                    <a:pt x="92938" y="41323"/>
                  </a:lnTo>
                  <a:lnTo>
                    <a:pt x="86456" y="47260"/>
                  </a:lnTo>
                  <a:lnTo>
                    <a:pt x="84331" y="50233"/>
                  </a:lnTo>
                  <a:lnTo>
                    <a:pt x="81969" y="56181"/>
                  </a:lnTo>
                  <a:lnTo>
                    <a:pt x="80920" y="64778"/>
                  </a:lnTo>
                  <a:lnTo>
                    <a:pt x="80454" y="74221"/>
                  </a:lnTo>
                  <a:lnTo>
                    <a:pt x="80246" y="81725"/>
                  </a:lnTo>
                  <a:lnTo>
                    <a:pt x="82799" y="91014"/>
                  </a:lnTo>
                  <a:lnTo>
                    <a:pt x="87242" y="100764"/>
                  </a:lnTo>
                  <a:lnTo>
                    <a:pt x="92524" y="108405"/>
                  </a:lnTo>
                  <a:lnTo>
                    <a:pt x="98179" y="115108"/>
                  </a:lnTo>
                  <a:lnTo>
                    <a:pt x="104991" y="122387"/>
                  </a:lnTo>
                  <a:lnTo>
                    <a:pt x="114633" y="132237"/>
                  </a:lnTo>
                  <a:lnTo>
                    <a:pt x="119983" y="135657"/>
                  </a:lnTo>
                  <a:lnTo>
                    <a:pt x="125534" y="137937"/>
                  </a:lnTo>
                  <a:lnTo>
                    <a:pt x="131218" y="139457"/>
                  </a:lnTo>
                  <a:lnTo>
                    <a:pt x="136000" y="141463"/>
                  </a:lnTo>
                  <a:lnTo>
                    <a:pt x="140180" y="143792"/>
                  </a:lnTo>
                  <a:lnTo>
                    <a:pt x="143960" y="146337"/>
                  </a:lnTo>
                  <a:lnTo>
                    <a:pt x="149455" y="149026"/>
                  </a:lnTo>
                  <a:lnTo>
                    <a:pt x="156096" y="151811"/>
                  </a:lnTo>
                  <a:lnTo>
                    <a:pt x="163500" y="154659"/>
                  </a:lnTo>
                  <a:lnTo>
                    <a:pt x="168435" y="157551"/>
                  </a:lnTo>
                  <a:lnTo>
                    <a:pt x="171726" y="160470"/>
                  </a:lnTo>
                  <a:lnTo>
                    <a:pt x="177007" y="167545"/>
                  </a:lnTo>
                  <a:lnTo>
                    <a:pt x="176448" y="169118"/>
                  </a:lnTo>
                  <a:lnTo>
                    <a:pt x="173181" y="173511"/>
                  </a:lnTo>
                  <a:lnTo>
                    <a:pt x="165776" y="178771"/>
                  </a:lnTo>
                  <a:lnTo>
                    <a:pt x="161023" y="181562"/>
                  </a:lnTo>
                  <a:lnTo>
                    <a:pt x="155870" y="183423"/>
                  </a:lnTo>
                  <a:lnTo>
                    <a:pt x="150451" y="184664"/>
                  </a:lnTo>
                  <a:lnTo>
                    <a:pt x="144853" y="185491"/>
                  </a:lnTo>
                  <a:lnTo>
                    <a:pt x="139137" y="187035"/>
                  </a:lnTo>
                  <a:lnTo>
                    <a:pt x="133342" y="189056"/>
                  </a:lnTo>
                  <a:lnTo>
                    <a:pt x="127494" y="191396"/>
                  </a:lnTo>
                  <a:lnTo>
                    <a:pt x="113059" y="196642"/>
                  </a:lnTo>
                  <a:lnTo>
                    <a:pt x="105043" y="199430"/>
                  </a:lnTo>
                  <a:lnTo>
                    <a:pt x="97714" y="202280"/>
                  </a:lnTo>
                  <a:lnTo>
                    <a:pt x="90844" y="205173"/>
                  </a:lnTo>
                  <a:lnTo>
                    <a:pt x="84280" y="208094"/>
                  </a:lnTo>
                  <a:lnTo>
                    <a:pt x="71694" y="213985"/>
                  </a:lnTo>
                  <a:lnTo>
                    <a:pt x="65560" y="216944"/>
                  </a:lnTo>
                  <a:lnTo>
                    <a:pt x="58493" y="219910"/>
                  </a:lnTo>
                  <a:lnTo>
                    <a:pt x="50807" y="222879"/>
                  </a:lnTo>
                  <a:lnTo>
                    <a:pt x="42705" y="225851"/>
                  </a:lnTo>
                  <a:lnTo>
                    <a:pt x="36312" y="228824"/>
                  </a:lnTo>
                  <a:lnTo>
                    <a:pt x="31057" y="231799"/>
                  </a:lnTo>
                  <a:lnTo>
                    <a:pt x="26562" y="234774"/>
                  </a:lnTo>
                  <a:lnTo>
                    <a:pt x="21582" y="237749"/>
                  </a:lnTo>
                  <a:lnTo>
                    <a:pt x="16276" y="240725"/>
                  </a:lnTo>
                  <a:lnTo>
                    <a:pt x="10756" y="243702"/>
                  </a:lnTo>
                  <a:lnTo>
                    <a:pt x="7075" y="246678"/>
                  </a:lnTo>
                  <a:lnTo>
                    <a:pt x="4620" y="249654"/>
                  </a:lnTo>
                  <a:lnTo>
                    <a:pt x="2985" y="252630"/>
                  </a:lnTo>
                  <a:lnTo>
                    <a:pt x="1167" y="258583"/>
                  </a:lnTo>
                  <a:lnTo>
                    <a:pt x="144" y="267513"/>
                  </a:lnTo>
                  <a:lnTo>
                    <a:pt x="0" y="270490"/>
                  </a:lnTo>
                  <a:lnTo>
                    <a:pt x="1888" y="274458"/>
                  </a:lnTo>
                  <a:lnTo>
                    <a:pt x="9279" y="284160"/>
                  </a:lnTo>
                  <a:lnTo>
                    <a:pt x="14028" y="288533"/>
                  </a:lnTo>
                  <a:lnTo>
                    <a:pt x="19178" y="292440"/>
                  </a:lnTo>
                  <a:lnTo>
                    <a:pt x="24596" y="296037"/>
                  </a:lnTo>
                  <a:lnTo>
                    <a:pt x="30193" y="299428"/>
                  </a:lnTo>
                  <a:lnTo>
                    <a:pt x="35907" y="302680"/>
                  </a:lnTo>
                  <a:lnTo>
                    <a:pt x="41702" y="305840"/>
                  </a:lnTo>
                  <a:lnTo>
                    <a:pt x="48542" y="308940"/>
                  </a:lnTo>
                  <a:lnTo>
                    <a:pt x="56078" y="311998"/>
                  </a:lnTo>
                  <a:lnTo>
                    <a:pt x="64078" y="315029"/>
                  </a:lnTo>
                  <a:lnTo>
                    <a:pt x="80906" y="321043"/>
                  </a:lnTo>
                  <a:lnTo>
                    <a:pt x="89560" y="324035"/>
                  </a:lnTo>
                  <a:lnTo>
                    <a:pt x="99299" y="327023"/>
                  </a:lnTo>
                  <a:lnTo>
                    <a:pt x="130974" y="335968"/>
                  </a:lnTo>
                  <a:lnTo>
                    <a:pt x="150325" y="341924"/>
                  </a:lnTo>
                  <a:lnTo>
                    <a:pt x="158659" y="343910"/>
                  </a:lnTo>
                  <a:lnTo>
                    <a:pt x="166200" y="345233"/>
                  </a:lnTo>
                  <a:lnTo>
                    <a:pt x="173212" y="346115"/>
                  </a:lnTo>
                  <a:lnTo>
                    <a:pt x="178880" y="346704"/>
                  </a:lnTo>
                  <a:lnTo>
                    <a:pt x="183649" y="347096"/>
                  </a:lnTo>
                  <a:lnTo>
                    <a:pt x="196166" y="347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6" name="SMARTInkAnnotation8"/>
            <p:cNvSpPr/>
            <p:nvPr/>
          </p:nvSpPr>
          <p:spPr>
            <a:xfrm>
              <a:off x="5651640" y="3053880"/>
              <a:ext cx="240840" cy="7128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41102" h="71438">
                  <a:moveTo>
                    <a:pt x="0" y="71437"/>
                  </a:moveTo>
                  <a:lnTo>
                    <a:pt x="16250" y="71437"/>
                  </a:lnTo>
                  <a:lnTo>
                    <a:pt x="17779" y="70445"/>
                  </a:lnTo>
                  <a:lnTo>
                    <a:pt x="19790" y="68791"/>
                  </a:lnTo>
                  <a:lnTo>
                    <a:pt x="22123" y="66696"/>
                  </a:lnTo>
                  <a:lnTo>
                    <a:pt x="24670" y="65300"/>
                  </a:lnTo>
                  <a:lnTo>
                    <a:pt x="30147" y="63749"/>
                  </a:lnTo>
                  <a:lnTo>
                    <a:pt x="33988" y="63335"/>
                  </a:lnTo>
                  <a:lnTo>
                    <a:pt x="38534" y="63059"/>
                  </a:lnTo>
                  <a:lnTo>
                    <a:pt x="43548" y="62875"/>
                  </a:lnTo>
                  <a:lnTo>
                    <a:pt x="47884" y="61761"/>
                  </a:lnTo>
                  <a:lnTo>
                    <a:pt x="51767" y="60025"/>
                  </a:lnTo>
                  <a:lnTo>
                    <a:pt x="55347" y="57876"/>
                  </a:lnTo>
                  <a:lnTo>
                    <a:pt x="58726" y="56443"/>
                  </a:lnTo>
                  <a:lnTo>
                    <a:pt x="65127" y="54851"/>
                  </a:lnTo>
                  <a:lnTo>
                    <a:pt x="71278" y="54144"/>
                  </a:lnTo>
                  <a:lnTo>
                    <a:pt x="74308" y="53955"/>
                  </a:lnTo>
                  <a:lnTo>
                    <a:pt x="78312" y="52837"/>
                  </a:lnTo>
                  <a:lnTo>
                    <a:pt x="82966" y="51100"/>
                  </a:lnTo>
                  <a:lnTo>
                    <a:pt x="88053" y="48949"/>
                  </a:lnTo>
                  <a:lnTo>
                    <a:pt x="92436" y="47515"/>
                  </a:lnTo>
                  <a:lnTo>
                    <a:pt x="99953" y="45923"/>
                  </a:lnTo>
                  <a:lnTo>
                    <a:pt x="104338" y="45498"/>
                  </a:lnTo>
                  <a:lnTo>
                    <a:pt x="109247" y="45215"/>
                  </a:lnTo>
                  <a:lnTo>
                    <a:pt x="114502" y="45025"/>
                  </a:lnTo>
                  <a:lnTo>
                    <a:pt x="118999" y="43908"/>
                  </a:lnTo>
                  <a:lnTo>
                    <a:pt x="122989" y="42170"/>
                  </a:lnTo>
                  <a:lnTo>
                    <a:pt x="126642" y="40019"/>
                  </a:lnTo>
                  <a:lnTo>
                    <a:pt x="131060" y="38586"/>
                  </a:lnTo>
                  <a:lnTo>
                    <a:pt x="135990" y="37630"/>
                  </a:lnTo>
                  <a:lnTo>
                    <a:pt x="141262" y="36993"/>
                  </a:lnTo>
                  <a:lnTo>
                    <a:pt x="145769" y="36568"/>
                  </a:lnTo>
                  <a:lnTo>
                    <a:pt x="149765" y="36285"/>
                  </a:lnTo>
                  <a:lnTo>
                    <a:pt x="153422" y="36096"/>
                  </a:lnTo>
                  <a:lnTo>
                    <a:pt x="157844" y="34978"/>
                  </a:lnTo>
                  <a:lnTo>
                    <a:pt x="162775" y="33240"/>
                  </a:lnTo>
                  <a:lnTo>
                    <a:pt x="168048" y="31090"/>
                  </a:lnTo>
                  <a:lnTo>
                    <a:pt x="172556" y="29656"/>
                  </a:lnTo>
                  <a:lnTo>
                    <a:pt x="176552" y="28700"/>
                  </a:lnTo>
                  <a:lnTo>
                    <a:pt x="180209" y="28063"/>
                  </a:lnTo>
                  <a:lnTo>
                    <a:pt x="184631" y="27638"/>
                  </a:lnTo>
                  <a:lnTo>
                    <a:pt x="189564" y="27355"/>
                  </a:lnTo>
                  <a:lnTo>
                    <a:pt x="194837" y="27166"/>
                  </a:lnTo>
                  <a:lnTo>
                    <a:pt x="199345" y="26048"/>
                  </a:lnTo>
                  <a:lnTo>
                    <a:pt x="203342" y="24311"/>
                  </a:lnTo>
                  <a:lnTo>
                    <a:pt x="206998" y="22160"/>
                  </a:lnTo>
                  <a:lnTo>
                    <a:pt x="210428" y="20726"/>
                  </a:lnTo>
                  <a:lnTo>
                    <a:pt x="216886" y="19134"/>
                  </a:lnTo>
                  <a:lnTo>
                    <a:pt x="219997" y="17716"/>
                  </a:lnTo>
                  <a:lnTo>
                    <a:pt x="223062" y="15780"/>
                  </a:lnTo>
                  <a:lnTo>
                    <a:pt x="230372" y="10283"/>
                  </a:lnTo>
                  <a:lnTo>
                    <a:pt x="234018" y="9531"/>
                  </a:lnTo>
                  <a:lnTo>
                    <a:pt x="236379" y="9330"/>
                  </a:lnTo>
                  <a:lnTo>
                    <a:pt x="237953" y="8204"/>
                  </a:lnTo>
                  <a:lnTo>
                    <a:pt x="239003" y="6462"/>
                  </a:lnTo>
                  <a:lnTo>
                    <a:pt x="241077" y="74"/>
                  </a:lnTo>
                  <a:lnTo>
                    <a:pt x="24110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7" name="SMARTInkAnnotation9"/>
            <p:cNvSpPr/>
            <p:nvPr/>
          </p:nvSpPr>
          <p:spPr>
            <a:xfrm>
              <a:off x="5955480" y="1374840"/>
              <a:ext cx="231840" cy="3124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232017" h="312516">
                  <a:moveTo>
                    <a:pt x="187368" y="26778"/>
                  </a:moveTo>
                  <a:lnTo>
                    <a:pt x="192108" y="26778"/>
                  </a:lnTo>
                  <a:lnTo>
                    <a:pt x="193505" y="25786"/>
                  </a:lnTo>
                  <a:lnTo>
                    <a:pt x="194436" y="24133"/>
                  </a:lnTo>
                  <a:lnTo>
                    <a:pt x="196189" y="18217"/>
                  </a:lnTo>
                  <a:lnTo>
                    <a:pt x="196288" y="10193"/>
                  </a:lnTo>
                  <a:lnTo>
                    <a:pt x="191554" y="4556"/>
                  </a:lnTo>
                  <a:lnTo>
                    <a:pt x="189166" y="3034"/>
                  </a:lnTo>
                  <a:lnTo>
                    <a:pt x="183868" y="1342"/>
                  </a:lnTo>
                  <a:lnTo>
                    <a:pt x="178205" y="591"/>
                  </a:lnTo>
                  <a:lnTo>
                    <a:pt x="171389" y="257"/>
                  </a:lnTo>
                  <a:lnTo>
                    <a:pt x="153491" y="42"/>
                  </a:lnTo>
                  <a:lnTo>
                    <a:pt x="135366" y="0"/>
                  </a:lnTo>
                  <a:lnTo>
                    <a:pt x="129880" y="989"/>
                  </a:lnTo>
                  <a:lnTo>
                    <a:pt x="124238" y="2640"/>
                  </a:lnTo>
                  <a:lnTo>
                    <a:pt x="118492" y="4733"/>
                  </a:lnTo>
                  <a:lnTo>
                    <a:pt x="112677" y="6128"/>
                  </a:lnTo>
                  <a:lnTo>
                    <a:pt x="106816" y="7059"/>
                  </a:lnTo>
                  <a:lnTo>
                    <a:pt x="100925" y="7679"/>
                  </a:lnTo>
                  <a:lnTo>
                    <a:pt x="96005" y="9084"/>
                  </a:lnTo>
                  <a:lnTo>
                    <a:pt x="91733" y="11014"/>
                  </a:lnTo>
                  <a:lnTo>
                    <a:pt x="87893" y="13292"/>
                  </a:lnTo>
                  <a:lnTo>
                    <a:pt x="83347" y="14811"/>
                  </a:lnTo>
                  <a:lnTo>
                    <a:pt x="78334" y="15823"/>
                  </a:lnTo>
                  <a:lnTo>
                    <a:pt x="73006" y="16499"/>
                  </a:lnTo>
                  <a:lnTo>
                    <a:pt x="68463" y="17941"/>
                  </a:lnTo>
                  <a:lnTo>
                    <a:pt x="64442" y="19895"/>
                  </a:lnTo>
                  <a:lnTo>
                    <a:pt x="60769" y="22189"/>
                  </a:lnTo>
                  <a:lnTo>
                    <a:pt x="56336" y="25703"/>
                  </a:lnTo>
                  <a:lnTo>
                    <a:pt x="51396" y="30030"/>
                  </a:lnTo>
                  <a:lnTo>
                    <a:pt x="46119" y="34900"/>
                  </a:lnTo>
                  <a:lnTo>
                    <a:pt x="41607" y="38146"/>
                  </a:lnTo>
                  <a:lnTo>
                    <a:pt x="37609" y="40310"/>
                  </a:lnTo>
                  <a:lnTo>
                    <a:pt x="33950" y="41752"/>
                  </a:lnTo>
                  <a:lnTo>
                    <a:pt x="30519" y="44699"/>
                  </a:lnTo>
                  <a:lnTo>
                    <a:pt x="24061" y="53264"/>
                  </a:lnTo>
                  <a:lnTo>
                    <a:pt x="17883" y="61039"/>
                  </a:lnTo>
                  <a:lnTo>
                    <a:pt x="11830" y="67802"/>
                  </a:lnTo>
                  <a:lnTo>
                    <a:pt x="5833" y="74115"/>
                  </a:lnTo>
                  <a:lnTo>
                    <a:pt x="3837" y="77188"/>
                  </a:lnTo>
                  <a:lnTo>
                    <a:pt x="1619" y="83248"/>
                  </a:lnTo>
                  <a:lnTo>
                    <a:pt x="370" y="92238"/>
                  </a:lnTo>
                  <a:lnTo>
                    <a:pt x="0" y="101185"/>
                  </a:lnTo>
                  <a:lnTo>
                    <a:pt x="941" y="104164"/>
                  </a:lnTo>
                  <a:lnTo>
                    <a:pt x="4631" y="110120"/>
                  </a:lnTo>
                  <a:lnTo>
                    <a:pt x="9579" y="116074"/>
                  </a:lnTo>
                  <a:lnTo>
                    <a:pt x="15084" y="122028"/>
                  </a:lnTo>
                  <a:lnTo>
                    <a:pt x="20839" y="127981"/>
                  </a:lnTo>
                  <a:lnTo>
                    <a:pt x="24755" y="130958"/>
                  </a:lnTo>
                  <a:lnTo>
                    <a:pt x="29350" y="133934"/>
                  </a:lnTo>
                  <a:lnTo>
                    <a:pt x="34398" y="136911"/>
                  </a:lnTo>
                  <a:lnTo>
                    <a:pt x="39747" y="138896"/>
                  </a:lnTo>
                  <a:lnTo>
                    <a:pt x="45298" y="140218"/>
                  </a:lnTo>
                  <a:lnTo>
                    <a:pt x="50983" y="141100"/>
                  </a:lnTo>
                  <a:lnTo>
                    <a:pt x="56757" y="141688"/>
                  </a:lnTo>
                  <a:lnTo>
                    <a:pt x="62591" y="142080"/>
                  </a:lnTo>
                  <a:lnTo>
                    <a:pt x="68464" y="142342"/>
                  </a:lnTo>
                  <a:lnTo>
                    <a:pt x="80283" y="142632"/>
                  </a:lnTo>
                  <a:lnTo>
                    <a:pt x="139744" y="142860"/>
                  </a:lnTo>
                  <a:lnTo>
                    <a:pt x="144704" y="141869"/>
                  </a:lnTo>
                  <a:lnTo>
                    <a:pt x="149004" y="140217"/>
                  </a:lnTo>
                  <a:lnTo>
                    <a:pt x="152863" y="138123"/>
                  </a:lnTo>
                  <a:lnTo>
                    <a:pt x="159796" y="135796"/>
                  </a:lnTo>
                  <a:lnTo>
                    <a:pt x="166184" y="134762"/>
                  </a:lnTo>
                  <a:lnTo>
                    <a:pt x="172330" y="134302"/>
                  </a:lnTo>
                  <a:lnTo>
                    <a:pt x="177902" y="133967"/>
                  </a:lnTo>
                  <a:lnTo>
                    <a:pt x="165962" y="133938"/>
                  </a:lnTo>
                  <a:lnTo>
                    <a:pt x="163175" y="134929"/>
                  </a:lnTo>
                  <a:lnTo>
                    <a:pt x="157433" y="138676"/>
                  </a:lnTo>
                  <a:lnTo>
                    <a:pt x="151574" y="143649"/>
                  </a:lnTo>
                  <a:lnTo>
                    <a:pt x="148623" y="146364"/>
                  </a:lnTo>
                  <a:lnTo>
                    <a:pt x="144671" y="148174"/>
                  </a:lnTo>
                  <a:lnTo>
                    <a:pt x="140052" y="149381"/>
                  </a:lnTo>
                  <a:lnTo>
                    <a:pt x="134988" y="150185"/>
                  </a:lnTo>
                  <a:lnTo>
                    <a:pt x="129628" y="151714"/>
                  </a:lnTo>
                  <a:lnTo>
                    <a:pt x="124069" y="153725"/>
                  </a:lnTo>
                  <a:lnTo>
                    <a:pt x="118379" y="156058"/>
                  </a:lnTo>
                  <a:lnTo>
                    <a:pt x="112602" y="159598"/>
                  </a:lnTo>
                  <a:lnTo>
                    <a:pt x="106766" y="163942"/>
                  </a:lnTo>
                  <a:lnTo>
                    <a:pt x="100892" y="168822"/>
                  </a:lnTo>
                  <a:lnTo>
                    <a:pt x="94990" y="173068"/>
                  </a:lnTo>
                  <a:lnTo>
                    <a:pt x="89072" y="176891"/>
                  </a:lnTo>
                  <a:lnTo>
                    <a:pt x="83142" y="180432"/>
                  </a:lnTo>
                  <a:lnTo>
                    <a:pt x="77204" y="183784"/>
                  </a:lnTo>
                  <a:lnTo>
                    <a:pt x="65315" y="190155"/>
                  </a:lnTo>
                  <a:lnTo>
                    <a:pt x="60359" y="193243"/>
                  </a:lnTo>
                  <a:lnTo>
                    <a:pt x="56062" y="196294"/>
                  </a:lnTo>
                  <a:lnTo>
                    <a:pt x="52206" y="199320"/>
                  </a:lnTo>
                  <a:lnTo>
                    <a:pt x="47651" y="203322"/>
                  </a:lnTo>
                  <a:lnTo>
                    <a:pt x="42629" y="207974"/>
                  </a:lnTo>
                  <a:lnTo>
                    <a:pt x="37298" y="213060"/>
                  </a:lnTo>
                  <a:lnTo>
                    <a:pt x="31374" y="221357"/>
                  </a:lnTo>
                  <a:lnTo>
                    <a:pt x="27748" y="229344"/>
                  </a:lnTo>
                  <a:lnTo>
                    <a:pt x="22830" y="239508"/>
                  </a:lnTo>
                  <a:lnTo>
                    <a:pt x="19982" y="247994"/>
                  </a:lnTo>
                  <a:lnTo>
                    <a:pt x="18717" y="255073"/>
                  </a:lnTo>
                  <a:lnTo>
                    <a:pt x="18154" y="261527"/>
                  </a:lnTo>
                  <a:lnTo>
                    <a:pt x="17904" y="270348"/>
                  </a:lnTo>
                  <a:lnTo>
                    <a:pt x="17837" y="275478"/>
                  </a:lnTo>
                  <a:lnTo>
                    <a:pt x="19777" y="279891"/>
                  </a:lnTo>
                  <a:lnTo>
                    <a:pt x="23055" y="283825"/>
                  </a:lnTo>
                  <a:lnTo>
                    <a:pt x="27225" y="287440"/>
                  </a:lnTo>
                  <a:lnTo>
                    <a:pt x="30996" y="290842"/>
                  </a:lnTo>
                  <a:lnTo>
                    <a:pt x="37832" y="297268"/>
                  </a:lnTo>
                  <a:lnTo>
                    <a:pt x="42037" y="300370"/>
                  </a:lnTo>
                  <a:lnTo>
                    <a:pt x="46825" y="303431"/>
                  </a:lnTo>
                  <a:lnTo>
                    <a:pt x="52001" y="306463"/>
                  </a:lnTo>
                  <a:lnTo>
                    <a:pt x="57436" y="308485"/>
                  </a:lnTo>
                  <a:lnTo>
                    <a:pt x="63044" y="309833"/>
                  </a:lnTo>
                  <a:lnTo>
                    <a:pt x="68767" y="310731"/>
                  </a:lnTo>
                  <a:lnTo>
                    <a:pt x="74566" y="311330"/>
                  </a:lnTo>
                  <a:lnTo>
                    <a:pt x="80417" y="311730"/>
                  </a:lnTo>
                  <a:lnTo>
                    <a:pt x="86302" y="311996"/>
                  </a:lnTo>
                  <a:lnTo>
                    <a:pt x="98131" y="312292"/>
                  </a:lnTo>
                  <a:lnTo>
                    <a:pt x="147435" y="312515"/>
                  </a:lnTo>
                  <a:lnTo>
                    <a:pt x="153800" y="311527"/>
                  </a:lnTo>
                  <a:lnTo>
                    <a:pt x="160029" y="309876"/>
                  </a:lnTo>
                  <a:lnTo>
                    <a:pt x="166165" y="307784"/>
                  </a:lnTo>
                  <a:lnTo>
                    <a:pt x="172240" y="306389"/>
                  </a:lnTo>
                  <a:lnTo>
                    <a:pt x="178275" y="305459"/>
                  </a:lnTo>
                  <a:lnTo>
                    <a:pt x="184283" y="304839"/>
                  </a:lnTo>
                  <a:lnTo>
                    <a:pt x="190272" y="303433"/>
                  </a:lnTo>
                  <a:lnTo>
                    <a:pt x="196249" y="301504"/>
                  </a:lnTo>
                  <a:lnTo>
                    <a:pt x="202218" y="299226"/>
                  </a:lnTo>
                  <a:lnTo>
                    <a:pt x="207190" y="297707"/>
                  </a:lnTo>
                  <a:lnTo>
                    <a:pt x="211497" y="296694"/>
                  </a:lnTo>
                  <a:lnTo>
                    <a:pt x="215360" y="296019"/>
                  </a:lnTo>
                  <a:lnTo>
                    <a:pt x="217936" y="294577"/>
                  </a:lnTo>
                  <a:lnTo>
                    <a:pt x="219653" y="292623"/>
                  </a:lnTo>
                  <a:lnTo>
                    <a:pt x="220797" y="290329"/>
                  </a:lnTo>
                  <a:lnTo>
                    <a:pt x="222552" y="288799"/>
                  </a:lnTo>
                  <a:lnTo>
                    <a:pt x="224715" y="287779"/>
                  </a:lnTo>
                  <a:lnTo>
                    <a:pt x="232016" y="2857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8" name="SMARTInkAnnotation10"/>
            <p:cNvSpPr/>
            <p:nvPr/>
          </p:nvSpPr>
          <p:spPr>
            <a:xfrm>
              <a:off x="6196680" y="1553400"/>
              <a:ext cx="44640" cy="22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638" h="223243">
                  <a:moveTo>
                    <a:pt x="44637" y="0"/>
                  </a:moveTo>
                  <a:lnTo>
                    <a:pt x="36949" y="7689"/>
                  </a:lnTo>
                  <a:lnTo>
                    <a:pt x="36259" y="11024"/>
                  </a:lnTo>
                  <a:lnTo>
                    <a:pt x="35953" y="15814"/>
                  </a:lnTo>
                  <a:lnTo>
                    <a:pt x="35816" y="21250"/>
                  </a:lnTo>
                  <a:lnTo>
                    <a:pt x="34788" y="25080"/>
                  </a:lnTo>
                  <a:lnTo>
                    <a:pt x="33111" y="29619"/>
                  </a:lnTo>
                  <a:lnTo>
                    <a:pt x="31000" y="34629"/>
                  </a:lnTo>
                  <a:lnTo>
                    <a:pt x="29593" y="39953"/>
                  </a:lnTo>
                  <a:lnTo>
                    <a:pt x="28655" y="45487"/>
                  </a:lnTo>
                  <a:lnTo>
                    <a:pt x="28030" y="51161"/>
                  </a:lnTo>
                  <a:lnTo>
                    <a:pt x="27612" y="56927"/>
                  </a:lnTo>
                  <a:lnTo>
                    <a:pt x="27334" y="62756"/>
                  </a:lnTo>
                  <a:lnTo>
                    <a:pt x="27149" y="68627"/>
                  </a:lnTo>
                  <a:lnTo>
                    <a:pt x="26034" y="73532"/>
                  </a:lnTo>
                  <a:lnTo>
                    <a:pt x="24298" y="77795"/>
                  </a:lnTo>
                  <a:lnTo>
                    <a:pt x="22147" y="81629"/>
                  </a:lnTo>
                  <a:lnTo>
                    <a:pt x="20714" y="86169"/>
                  </a:lnTo>
                  <a:lnTo>
                    <a:pt x="19759" y="91181"/>
                  </a:lnTo>
                  <a:lnTo>
                    <a:pt x="19122" y="96506"/>
                  </a:lnTo>
                  <a:lnTo>
                    <a:pt x="17705" y="102041"/>
                  </a:lnTo>
                  <a:lnTo>
                    <a:pt x="15769" y="107714"/>
                  </a:lnTo>
                  <a:lnTo>
                    <a:pt x="13485" y="113482"/>
                  </a:lnTo>
                  <a:lnTo>
                    <a:pt x="11963" y="119311"/>
                  </a:lnTo>
                  <a:lnTo>
                    <a:pt x="10948" y="125181"/>
                  </a:lnTo>
                  <a:lnTo>
                    <a:pt x="10271" y="131079"/>
                  </a:lnTo>
                  <a:lnTo>
                    <a:pt x="8829" y="136996"/>
                  </a:lnTo>
                  <a:lnTo>
                    <a:pt x="6874" y="142924"/>
                  </a:lnTo>
                  <a:lnTo>
                    <a:pt x="4579" y="148861"/>
                  </a:lnTo>
                  <a:lnTo>
                    <a:pt x="3050" y="153811"/>
                  </a:lnTo>
                  <a:lnTo>
                    <a:pt x="2029" y="158103"/>
                  </a:lnTo>
                  <a:lnTo>
                    <a:pt x="1349" y="161957"/>
                  </a:lnTo>
                  <a:lnTo>
                    <a:pt x="896" y="166510"/>
                  </a:lnTo>
                  <a:lnTo>
                    <a:pt x="593" y="171530"/>
                  </a:lnTo>
                  <a:lnTo>
                    <a:pt x="258" y="181408"/>
                  </a:lnTo>
                  <a:lnTo>
                    <a:pt x="69" y="192547"/>
                  </a:lnTo>
                  <a:lnTo>
                    <a:pt x="0" y="208237"/>
                  </a:lnTo>
                  <a:lnTo>
                    <a:pt x="989" y="210262"/>
                  </a:lnTo>
                  <a:lnTo>
                    <a:pt x="2639" y="211612"/>
                  </a:lnTo>
                  <a:lnTo>
                    <a:pt x="7678" y="213779"/>
                  </a:lnTo>
                  <a:lnTo>
                    <a:pt x="8092" y="214949"/>
                  </a:lnTo>
                  <a:lnTo>
                    <a:pt x="8367" y="216721"/>
                  </a:lnTo>
                  <a:lnTo>
                    <a:pt x="8919" y="223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SMARTInkAnnotation11"/>
            <p:cNvSpPr/>
            <p:nvPr/>
          </p:nvSpPr>
          <p:spPr>
            <a:xfrm>
              <a:off x="6214320" y="1589040"/>
              <a:ext cx="133920" cy="532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33947" h="53579">
                  <a:moveTo>
                    <a:pt x="0" y="53578"/>
                  </a:moveTo>
                  <a:lnTo>
                    <a:pt x="4740" y="48838"/>
                  </a:lnTo>
                  <a:lnTo>
                    <a:pt x="7129" y="47441"/>
                  </a:lnTo>
                  <a:lnTo>
                    <a:pt x="9714" y="46510"/>
                  </a:lnTo>
                  <a:lnTo>
                    <a:pt x="12429" y="45890"/>
                  </a:lnTo>
                  <a:lnTo>
                    <a:pt x="15232" y="45476"/>
                  </a:lnTo>
                  <a:lnTo>
                    <a:pt x="18091" y="45200"/>
                  </a:lnTo>
                  <a:lnTo>
                    <a:pt x="20991" y="45016"/>
                  </a:lnTo>
                  <a:lnTo>
                    <a:pt x="24908" y="43901"/>
                  </a:lnTo>
                  <a:lnTo>
                    <a:pt x="29503" y="42166"/>
                  </a:lnTo>
                  <a:lnTo>
                    <a:pt x="34552" y="40017"/>
                  </a:lnTo>
                  <a:lnTo>
                    <a:pt x="45453" y="34983"/>
                  </a:lnTo>
                  <a:lnTo>
                    <a:pt x="51138" y="32252"/>
                  </a:lnTo>
                  <a:lnTo>
                    <a:pt x="56912" y="30431"/>
                  </a:lnTo>
                  <a:lnTo>
                    <a:pt x="62747" y="29217"/>
                  </a:lnTo>
                  <a:lnTo>
                    <a:pt x="68620" y="28408"/>
                  </a:lnTo>
                  <a:lnTo>
                    <a:pt x="74521" y="26876"/>
                  </a:lnTo>
                  <a:lnTo>
                    <a:pt x="80439" y="24862"/>
                  </a:lnTo>
                  <a:lnTo>
                    <a:pt x="86368" y="22528"/>
                  </a:lnTo>
                  <a:lnTo>
                    <a:pt x="92305" y="19980"/>
                  </a:lnTo>
                  <a:lnTo>
                    <a:pt x="104194" y="14502"/>
                  </a:lnTo>
                  <a:lnTo>
                    <a:pt x="109150" y="12645"/>
                  </a:lnTo>
                  <a:lnTo>
                    <a:pt x="113446" y="11406"/>
                  </a:lnTo>
                  <a:lnTo>
                    <a:pt x="117303" y="10581"/>
                  </a:lnTo>
                  <a:lnTo>
                    <a:pt x="120866" y="9038"/>
                  </a:lnTo>
                  <a:lnTo>
                    <a:pt x="124234" y="7018"/>
                  </a:lnTo>
                  <a:lnTo>
                    <a:pt x="13394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SMARTInkAnnotation12"/>
            <p:cNvSpPr/>
            <p:nvPr/>
          </p:nvSpPr>
          <p:spPr>
            <a:xfrm>
              <a:off x="6214320" y="1660320"/>
              <a:ext cx="133920" cy="1339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133947" h="133947">
                  <a:moveTo>
                    <a:pt x="0" y="0"/>
                  </a:moveTo>
                  <a:lnTo>
                    <a:pt x="99438" y="99438"/>
                  </a:lnTo>
                  <a:lnTo>
                    <a:pt x="103995" y="103003"/>
                  </a:lnTo>
                  <a:lnTo>
                    <a:pt x="109018" y="106372"/>
                  </a:lnTo>
                  <a:lnTo>
                    <a:pt x="114350" y="109610"/>
                  </a:lnTo>
                  <a:lnTo>
                    <a:pt x="117905" y="112761"/>
                  </a:lnTo>
                  <a:lnTo>
                    <a:pt x="120276" y="115854"/>
                  </a:lnTo>
                  <a:lnTo>
                    <a:pt x="121855" y="118908"/>
                  </a:lnTo>
                  <a:lnTo>
                    <a:pt x="123901" y="121936"/>
                  </a:lnTo>
                  <a:lnTo>
                    <a:pt x="126257" y="124947"/>
                  </a:lnTo>
                  <a:lnTo>
                    <a:pt x="133946" y="1339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1" name="SMARTInkAnnotation13"/>
            <p:cNvSpPr/>
            <p:nvPr/>
          </p:nvSpPr>
          <p:spPr>
            <a:xfrm>
              <a:off x="6580440" y="2866320"/>
              <a:ext cx="240840" cy="3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1103" h="1">
                  <a:moveTo>
                    <a:pt x="0" y="0"/>
                  </a:moveTo>
                  <a:lnTo>
                    <a:pt x="241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2" name="SMARTInkAnnotation14"/>
            <p:cNvSpPr/>
            <p:nvPr/>
          </p:nvSpPr>
          <p:spPr>
            <a:xfrm>
              <a:off x="6553800" y="2919960"/>
              <a:ext cx="240840" cy="3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1103" h="1">
                  <a:moveTo>
                    <a:pt x="0" y="0"/>
                  </a:moveTo>
                  <a:lnTo>
                    <a:pt x="24110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3" name="SMARTInkAnnotation15"/>
            <p:cNvSpPr/>
            <p:nvPr/>
          </p:nvSpPr>
          <p:spPr>
            <a:xfrm>
              <a:off x="6884280" y="2723400"/>
              <a:ext cx="106920" cy="392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7157" h="392907">
                  <a:moveTo>
                    <a:pt x="107156" y="0"/>
                  </a:moveTo>
                  <a:lnTo>
                    <a:pt x="107156" y="37500"/>
                  </a:lnTo>
                  <a:lnTo>
                    <a:pt x="104510" y="46763"/>
                  </a:lnTo>
                  <a:lnTo>
                    <a:pt x="102416" y="52011"/>
                  </a:lnTo>
                  <a:lnTo>
                    <a:pt x="101019" y="58487"/>
                  </a:lnTo>
                  <a:lnTo>
                    <a:pt x="100088" y="65780"/>
                  </a:lnTo>
                  <a:lnTo>
                    <a:pt x="99467" y="73619"/>
                  </a:lnTo>
                  <a:lnTo>
                    <a:pt x="98062" y="80830"/>
                  </a:lnTo>
                  <a:lnTo>
                    <a:pt x="96132" y="87621"/>
                  </a:lnTo>
                  <a:lnTo>
                    <a:pt x="77267" y="143300"/>
                  </a:lnTo>
                  <a:lnTo>
                    <a:pt x="68425" y="169790"/>
                  </a:lnTo>
                  <a:lnTo>
                    <a:pt x="65460" y="179670"/>
                  </a:lnTo>
                  <a:lnTo>
                    <a:pt x="56547" y="211545"/>
                  </a:lnTo>
                  <a:lnTo>
                    <a:pt x="50598" y="230942"/>
                  </a:lnTo>
                  <a:lnTo>
                    <a:pt x="28772" y="298577"/>
                  </a:lnTo>
                  <a:lnTo>
                    <a:pt x="19072" y="331469"/>
                  </a:lnTo>
                  <a:lnTo>
                    <a:pt x="14699" y="344011"/>
                  </a:lnTo>
                  <a:lnTo>
                    <a:pt x="10791" y="353364"/>
                  </a:lnTo>
                  <a:lnTo>
                    <a:pt x="7194" y="360592"/>
                  </a:lnTo>
                  <a:lnTo>
                    <a:pt x="4795" y="366403"/>
                  </a:lnTo>
                  <a:lnTo>
                    <a:pt x="2131" y="375505"/>
                  </a:lnTo>
                  <a:lnTo>
                    <a:pt x="948" y="382857"/>
                  </a:lnTo>
                  <a:lnTo>
                    <a:pt x="0" y="3929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4" name="SMARTInkAnnotation16"/>
            <p:cNvSpPr/>
            <p:nvPr/>
          </p:nvSpPr>
          <p:spPr>
            <a:xfrm>
              <a:off x="6955560" y="2786040"/>
              <a:ext cx="205200" cy="1069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05384" h="107157">
                  <a:moveTo>
                    <a:pt x="0" y="107156"/>
                  </a:moveTo>
                  <a:lnTo>
                    <a:pt x="12429" y="94728"/>
                  </a:lnTo>
                  <a:lnTo>
                    <a:pt x="16223" y="91925"/>
                  </a:lnTo>
                  <a:lnTo>
                    <a:pt x="20738" y="89065"/>
                  </a:lnTo>
                  <a:lnTo>
                    <a:pt x="25732" y="86165"/>
                  </a:lnTo>
                  <a:lnTo>
                    <a:pt x="36571" y="80299"/>
                  </a:lnTo>
                  <a:lnTo>
                    <a:pt x="65597" y="65475"/>
                  </a:lnTo>
                  <a:lnTo>
                    <a:pt x="77441" y="59527"/>
                  </a:lnTo>
                  <a:lnTo>
                    <a:pt x="84370" y="55560"/>
                  </a:lnTo>
                  <a:lnTo>
                    <a:pt x="91965" y="50930"/>
                  </a:lnTo>
                  <a:lnTo>
                    <a:pt x="100006" y="45860"/>
                  </a:lnTo>
                  <a:lnTo>
                    <a:pt x="108343" y="41487"/>
                  </a:lnTo>
                  <a:lnTo>
                    <a:pt x="116877" y="37580"/>
                  </a:lnTo>
                  <a:lnTo>
                    <a:pt x="125543" y="33983"/>
                  </a:lnTo>
                  <a:lnTo>
                    <a:pt x="133304" y="30593"/>
                  </a:lnTo>
                  <a:lnTo>
                    <a:pt x="147221" y="24180"/>
                  </a:lnTo>
                  <a:lnTo>
                    <a:pt x="154701" y="21081"/>
                  </a:lnTo>
                  <a:lnTo>
                    <a:pt x="162665" y="18023"/>
                  </a:lnTo>
                  <a:lnTo>
                    <a:pt x="170952" y="14992"/>
                  </a:lnTo>
                  <a:lnTo>
                    <a:pt x="177468" y="12971"/>
                  </a:lnTo>
                  <a:lnTo>
                    <a:pt x="182804" y="11624"/>
                  </a:lnTo>
                  <a:lnTo>
                    <a:pt x="187354" y="10726"/>
                  </a:lnTo>
                  <a:lnTo>
                    <a:pt x="191379" y="9135"/>
                  </a:lnTo>
                  <a:lnTo>
                    <a:pt x="195056" y="7082"/>
                  </a:lnTo>
                  <a:lnTo>
                    <a:pt x="20538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5" name="SMARTInkAnnotation17"/>
            <p:cNvSpPr/>
            <p:nvPr/>
          </p:nvSpPr>
          <p:spPr>
            <a:xfrm>
              <a:off x="7000200" y="2919960"/>
              <a:ext cx="35640" cy="1695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5719" h="169665">
                  <a:moveTo>
                    <a:pt x="0" y="0"/>
                  </a:moveTo>
                  <a:lnTo>
                    <a:pt x="0" y="59700"/>
                  </a:lnTo>
                  <a:lnTo>
                    <a:pt x="992" y="65597"/>
                  </a:lnTo>
                  <a:lnTo>
                    <a:pt x="2646" y="71513"/>
                  </a:lnTo>
                  <a:lnTo>
                    <a:pt x="4740" y="77441"/>
                  </a:lnTo>
                  <a:lnTo>
                    <a:pt x="6137" y="83377"/>
                  </a:lnTo>
                  <a:lnTo>
                    <a:pt x="7068" y="89319"/>
                  </a:lnTo>
                  <a:lnTo>
                    <a:pt x="7688" y="95265"/>
                  </a:lnTo>
                  <a:lnTo>
                    <a:pt x="9094" y="100221"/>
                  </a:lnTo>
                  <a:lnTo>
                    <a:pt x="11024" y="104518"/>
                  </a:lnTo>
                  <a:lnTo>
                    <a:pt x="13303" y="108374"/>
                  </a:lnTo>
                  <a:lnTo>
                    <a:pt x="14821" y="112929"/>
                  </a:lnTo>
                  <a:lnTo>
                    <a:pt x="15834" y="117950"/>
                  </a:lnTo>
                  <a:lnTo>
                    <a:pt x="16509" y="123282"/>
                  </a:lnTo>
                  <a:lnTo>
                    <a:pt x="17951" y="127829"/>
                  </a:lnTo>
                  <a:lnTo>
                    <a:pt x="19905" y="131852"/>
                  </a:lnTo>
                  <a:lnTo>
                    <a:pt x="22200" y="135527"/>
                  </a:lnTo>
                  <a:lnTo>
                    <a:pt x="23730" y="139961"/>
                  </a:lnTo>
                  <a:lnTo>
                    <a:pt x="24749" y="144901"/>
                  </a:lnTo>
                  <a:lnTo>
                    <a:pt x="26385" y="157607"/>
                  </a:lnTo>
                  <a:lnTo>
                    <a:pt x="27513" y="159642"/>
                  </a:lnTo>
                  <a:lnTo>
                    <a:pt x="29256" y="161990"/>
                  </a:lnTo>
                  <a:lnTo>
                    <a:pt x="35718" y="1696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6" name="SMARTInkAnnotation18"/>
            <p:cNvSpPr/>
            <p:nvPr/>
          </p:nvSpPr>
          <p:spPr>
            <a:xfrm>
              <a:off x="7117200" y="2786040"/>
              <a:ext cx="204840" cy="2768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204847" h="276788">
                  <a:moveTo>
                    <a:pt x="204846" y="0"/>
                  </a:moveTo>
                  <a:lnTo>
                    <a:pt x="134986" y="0"/>
                  </a:lnTo>
                  <a:lnTo>
                    <a:pt x="130492" y="992"/>
                  </a:lnTo>
                  <a:lnTo>
                    <a:pt x="126504" y="2646"/>
                  </a:lnTo>
                  <a:lnTo>
                    <a:pt x="122852" y="4741"/>
                  </a:lnTo>
                  <a:lnTo>
                    <a:pt x="113504" y="9714"/>
                  </a:lnTo>
                  <a:lnTo>
                    <a:pt x="108233" y="12429"/>
                  </a:lnTo>
                  <a:lnTo>
                    <a:pt x="103726" y="15231"/>
                  </a:lnTo>
                  <a:lnTo>
                    <a:pt x="99729" y="18092"/>
                  </a:lnTo>
                  <a:lnTo>
                    <a:pt x="96074" y="20991"/>
                  </a:lnTo>
                  <a:lnTo>
                    <a:pt x="92644" y="22924"/>
                  </a:lnTo>
                  <a:lnTo>
                    <a:pt x="89364" y="24212"/>
                  </a:lnTo>
                  <a:lnTo>
                    <a:pt x="86187" y="25071"/>
                  </a:lnTo>
                  <a:lnTo>
                    <a:pt x="80010" y="28671"/>
                  </a:lnTo>
                  <a:lnTo>
                    <a:pt x="73957" y="33579"/>
                  </a:lnTo>
                  <a:lnTo>
                    <a:pt x="67959" y="39067"/>
                  </a:lnTo>
                  <a:lnTo>
                    <a:pt x="65963" y="41920"/>
                  </a:lnTo>
                  <a:lnTo>
                    <a:pt x="63154" y="49683"/>
                  </a:lnTo>
                  <a:lnTo>
                    <a:pt x="62498" y="51847"/>
                  </a:lnTo>
                  <a:lnTo>
                    <a:pt x="62128" y="57806"/>
                  </a:lnTo>
                  <a:lnTo>
                    <a:pt x="63068" y="60365"/>
                  </a:lnTo>
                  <a:lnTo>
                    <a:pt x="66758" y="65855"/>
                  </a:lnTo>
                  <a:lnTo>
                    <a:pt x="71706" y="71602"/>
                  </a:lnTo>
                  <a:lnTo>
                    <a:pt x="77211" y="77464"/>
                  </a:lnTo>
                  <a:lnTo>
                    <a:pt x="82967" y="83376"/>
                  </a:lnTo>
                  <a:lnTo>
                    <a:pt x="86882" y="86342"/>
                  </a:lnTo>
                  <a:lnTo>
                    <a:pt x="91477" y="89311"/>
                  </a:lnTo>
                  <a:lnTo>
                    <a:pt x="96525" y="92283"/>
                  </a:lnTo>
                  <a:lnTo>
                    <a:pt x="100882" y="94264"/>
                  </a:lnTo>
                  <a:lnTo>
                    <a:pt x="104779" y="95585"/>
                  </a:lnTo>
                  <a:lnTo>
                    <a:pt x="108369" y="96466"/>
                  </a:lnTo>
                  <a:lnTo>
                    <a:pt x="112746" y="97053"/>
                  </a:lnTo>
                  <a:lnTo>
                    <a:pt x="117649" y="97444"/>
                  </a:lnTo>
                  <a:lnTo>
                    <a:pt x="122903" y="97705"/>
                  </a:lnTo>
                  <a:lnTo>
                    <a:pt x="127397" y="98871"/>
                  </a:lnTo>
                  <a:lnTo>
                    <a:pt x="131386" y="100640"/>
                  </a:lnTo>
                  <a:lnTo>
                    <a:pt x="135036" y="102812"/>
                  </a:lnTo>
                  <a:lnTo>
                    <a:pt x="139454" y="104260"/>
                  </a:lnTo>
                  <a:lnTo>
                    <a:pt x="144386" y="105226"/>
                  </a:lnTo>
                  <a:lnTo>
                    <a:pt x="149657" y="105869"/>
                  </a:lnTo>
                  <a:lnTo>
                    <a:pt x="154162" y="106298"/>
                  </a:lnTo>
                  <a:lnTo>
                    <a:pt x="158158" y="106584"/>
                  </a:lnTo>
                  <a:lnTo>
                    <a:pt x="168938" y="107147"/>
                  </a:lnTo>
                  <a:lnTo>
                    <a:pt x="164331" y="111894"/>
                  </a:lnTo>
                  <a:lnTo>
                    <a:pt x="161961" y="113291"/>
                  </a:lnTo>
                  <a:lnTo>
                    <a:pt x="152894" y="116250"/>
                  </a:lnTo>
                  <a:lnTo>
                    <a:pt x="148383" y="118180"/>
                  </a:lnTo>
                  <a:lnTo>
                    <a:pt x="138080" y="122970"/>
                  </a:lnTo>
                  <a:lnTo>
                    <a:pt x="38157" y="172642"/>
                  </a:lnTo>
                  <a:lnTo>
                    <a:pt x="33198" y="175618"/>
                  </a:lnTo>
                  <a:lnTo>
                    <a:pt x="28897" y="178594"/>
                  </a:lnTo>
                  <a:lnTo>
                    <a:pt x="25039" y="181571"/>
                  </a:lnTo>
                  <a:lnTo>
                    <a:pt x="21474" y="184547"/>
                  </a:lnTo>
                  <a:lnTo>
                    <a:pt x="18107" y="187524"/>
                  </a:lnTo>
                  <a:lnTo>
                    <a:pt x="11719" y="193477"/>
                  </a:lnTo>
                  <a:lnTo>
                    <a:pt x="5572" y="199430"/>
                  </a:lnTo>
                  <a:lnTo>
                    <a:pt x="3536" y="202406"/>
                  </a:lnTo>
                  <a:lnTo>
                    <a:pt x="1273" y="208360"/>
                  </a:lnTo>
                  <a:lnTo>
                    <a:pt x="268" y="214313"/>
                  </a:lnTo>
                  <a:lnTo>
                    <a:pt x="0" y="217289"/>
                  </a:lnTo>
                  <a:lnTo>
                    <a:pt x="814" y="220266"/>
                  </a:lnTo>
                  <a:lnTo>
                    <a:pt x="4362" y="226219"/>
                  </a:lnTo>
                  <a:lnTo>
                    <a:pt x="9247" y="232172"/>
                  </a:lnTo>
                  <a:lnTo>
                    <a:pt x="11939" y="235149"/>
                  </a:lnTo>
                  <a:lnTo>
                    <a:pt x="15719" y="238125"/>
                  </a:lnTo>
                  <a:lnTo>
                    <a:pt x="20223" y="241102"/>
                  </a:lnTo>
                  <a:lnTo>
                    <a:pt x="25209" y="244078"/>
                  </a:lnTo>
                  <a:lnTo>
                    <a:pt x="29526" y="247055"/>
                  </a:lnTo>
                  <a:lnTo>
                    <a:pt x="33395" y="250031"/>
                  </a:lnTo>
                  <a:lnTo>
                    <a:pt x="36968" y="253008"/>
                  </a:lnTo>
                  <a:lnTo>
                    <a:pt x="41334" y="255984"/>
                  </a:lnTo>
                  <a:lnTo>
                    <a:pt x="46229" y="258961"/>
                  </a:lnTo>
                  <a:lnTo>
                    <a:pt x="51477" y="261938"/>
                  </a:lnTo>
                  <a:lnTo>
                    <a:pt x="56959" y="263922"/>
                  </a:lnTo>
                  <a:lnTo>
                    <a:pt x="62598" y="265245"/>
                  </a:lnTo>
                  <a:lnTo>
                    <a:pt x="68342" y="266127"/>
                  </a:lnTo>
                  <a:lnTo>
                    <a:pt x="75149" y="266715"/>
                  </a:lnTo>
                  <a:lnTo>
                    <a:pt x="82663" y="267107"/>
                  </a:lnTo>
                  <a:lnTo>
                    <a:pt x="90649" y="267368"/>
                  </a:lnTo>
                  <a:lnTo>
                    <a:pt x="97957" y="268534"/>
                  </a:lnTo>
                  <a:lnTo>
                    <a:pt x="104813" y="270304"/>
                  </a:lnTo>
                  <a:lnTo>
                    <a:pt x="111368" y="272476"/>
                  </a:lnTo>
                  <a:lnTo>
                    <a:pt x="117724" y="273924"/>
                  </a:lnTo>
                  <a:lnTo>
                    <a:pt x="123944" y="274890"/>
                  </a:lnTo>
                  <a:lnTo>
                    <a:pt x="130076" y="275533"/>
                  </a:lnTo>
                  <a:lnTo>
                    <a:pt x="136147" y="275962"/>
                  </a:lnTo>
                  <a:lnTo>
                    <a:pt x="142180" y="276248"/>
                  </a:lnTo>
                  <a:lnTo>
                    <a:pt x="157506" y="276651"/>
                  </a:lnTo>
                  <a:lnTo>
                    <a:pt x="171572" y="276787"/>
                  </a:lnTo>
                  <a:lnTo>
                    <a:pt x="173734" y="275806"/>
                  </a:lnTo>
                  <a:lnTo>
                    <a:pt x="175175" y="274160"/>
                  </a:lnTo>
                  <a:lnTo>
                    <a:pt x="176136" y="272070"/>
                  </a:lnTo>
                  <a:lnTo>
                    <a:pt x="177769" y="270677"/>
                  </a:lnTo>
                  <a:lnTo>
                    <a:pt x="179849" y="269748"/>
                  </a:lnTo>
                  <a:lnTo>
                    <a:pt x="186987" y="2678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7" name="SMARTInkAnnotation19"/>
            <p:cNvSpPr/>
            <p:nvPr/>
          </p:nvSpPr>
          <p:spPr>
            <a:xfrm>
              <a:off x="7331040" y="2948040"/>
              <a:ext cx="115920" cy="2037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5964" h="204024">
                  <a:moveTo>
                    <a:pt x="115963" y="25429"/>
                  </a:moveTo>
                  <a:lnTo>
                    <a:pt x="115963" y="20689"/>
                  </a:lnTo>
                  <a:lnTo>
                    <a:pt x="114971" y="19292"/>
                  </a:lnTo>
                  <a:lnTo>
                    <a:pt x="113317" y="18361"/>
                  </a:lnTo>
                  <a:lnTo>
                    <a:pt x="111223" y="17741"/>
                  </a:lnTo>
                  <a:lnTo>
                    <a:pt x="109826" y="16335"/>
                  </a:lnTo>
                  <a:lnTo>
                    <a:pt x="108895" y="14406"/>
                  </a:lnTo>
                  <a:lnTo>
                    <a:pt x="108274" y="12127"/>
                  </a:lnTo>
                  <a:lnTo>
                    <a:pt x="106869" y="10608"/>
                  </a:lnTo>
                  <a:lnTo>
                    <a:pt x="104939" y="9596"/>
                  </a:lnTo>
                  <a:lnTo>
                    <a:pt x="102661" y="8920"/>
                  </a:lnTo>
                  <a:lnTo>
                    <a:pt x="100149" y="7478"/>
                  </a:lnTo>
                  <a:lnTo>
                    <a:pt x="97483" y="5524"/>
                  </a:lnTo>
                  <a:lnTo>
                    <a:pt x="94714" y="3230"/>
                  </a:lnTo>
                  <a:lnTo>
                    <a:pt x="91874" y="1700"/>
                  </a:lnTo>
                  <a:lnTo>
                    <a:pt x="88989" y="680"/>
                  </a:lnTo>
                  <a:lnTo>
                    <a:pt x="86074" y="0"/>
                  </a:lnTo>
                  <a:lnTo>
                    <a:pt x="83139" y="539"/>
                  </a:lnTo>
                  <a:lnTo>
                    <a:pt x="80191" y="1891"/>
                  </a:lnTo>
                  <a:lnTo>
                    <a:pt x="77232" y="3783"/>
                  </a:lnTo>
                  <a:lnTo>
                    <a:pt x="74267" y="5046"/>
                  </a:lnTo>
                  <a:lnTo>
                    <a:pt x="71299" y="5887"/>
                  </a:lnTo>
                  <a:lnTo>
                    <a:pt x="68327" y="6448"/>
                  </a:lnTo>
                  <a:lnTo>
                    <a:pt x="65354" y="6822"/>
                  </a:lnTo>
                  <a:lnTo>
                    <a:pt x="62380" y="7072"/>
                  </a:lnTo>
                  <a:lnTo>
                    <a:pt x="59405" y="7238"/>
                  </a:lnTo>
                  <a:lnTo>
                    <a:pt x="55438" y="8341"/>
                  </a:lnTo>
                  <a:lnTo>
                    <a:pt x="50809" y="10068"/>
                  </a:lnTo>
                  <a:lnTo>
                    <a:pt x="45738" y="12212"/>
                  </a:lnTo>
                  <a:lnTo>
                    <a:pt x="41364" y="14634"/>
                  </a:lnTo>
                  <a:lnTo>
                    <a:pt x="37458" y="17240"/>
                  </a:lnTo>
                  <a:lnTo>
                    <a:pt x="33860" y="19970"/>
                  </a:lnTo>
                  <a:lnTo>
                    <a:pt x="30470" y="22782"/>
                  </a:lnTo>
                  <a:lnTo>
                    <a:pt x="27218" y="25649"/>
                  </a:lnTo>
                  <a:lnTo>
                    <a:pt x="20959" y="31480"/>
                  </a:lnTo>
                  <a:lnTo>
                    <a:pt x="14869" y="37379"/>
                  </a:lnTo>
                  <a:lnTo>
                    <a:pt x="12849" y="41333"/>
                  </a:lnTo>
                  <a:lnTo>
                    <a:pt x="11501" y="45954"/>
                  </a:lnTo>
                  <a:lnTo>
                    <a:pt x="10603" y="51019"/>
                  </a:lnTo>
                  <a:lnTo>
                    <a:pt x="9012" y="55387"/>
                  </a:lnTo>
                  <a:lnTo>
                    <a:pt x="6959" y="59292"/>
                  </a:lnTo>
                  <a:lnTo>
                    <a:pt x="4599" y="62888"/>
                  </a:lnTo>
                  <a:lnTo>
                    <a:pt x="3026" y="67269"/>
                  </a:lnTo>
                  <a:lnTo>
                    <a:pt x="1976" y="72174"/>
                  </a:lnTo>
                  <a:lnTo>
                    <a:pt x="1276" y="77428"/>
                  </a:lnTo>
                  <a:lnTo>
                    <a:pt x="810" y="82916"/>
                  </a:lnTo>
                  <a:lnTo>
                    <a:pt x="499" y="88558"/>
                  </a:lnTo>
                  <a:lnTo>
                    <a:pt x="61" y="103335"/>
                  </a:lnTo>
                  <a:lnTo>
                    <a:pt x="0" y="107132"/>
                  </a:lnTo>
                  <a:lnTo>
                    <a:pt x="952" y="111648"/>
                  </a:lnTo>
                  <a:lnTo>
                    <a:pt x="2578" y="116643"/>
                  </a:lnTo>
                  <a:lnTo>
                    <a:pt x="4654" y="121957"/>
                  </a:lnTo>
                  <a:lnTo>
                    <a:pt x="6038" y="127484"/>
                  </a:lnTo>
                  <a:lnTo>
                    <a:pt x="6961" y="133154"/>
                  </a:lnTo>
                  <a:lnTo>
                    <a:pt x="7576" y="138917"/>
                  </a:lnTo>
                  <a:lnTo>
                    <a:pt x="8979" y="143752"/>
                  </a:lnTo>
                  <a:lnTo>
                    <a:pt x="10906" y="147968"/>
                  </a:lnTo>
                  <a:lnTo>
                    <a:pt x="13183" y="151770"/>
                  </a:lnTo>
                  <a:lnTo>
                    <a:pt x="15693" y="155297"/>
                  </a:lnTo>
                  <a:lnTo>
                    <a:pt x="18359" y="158641"/>
                  </a:lnTo>
                  <a:lnTo>
                    <a:pt x="21128" y="161862"/>
                  </a:lnTo>
                  <a:lnTo>
                    <a:pt x="22974" y="165994"/>
                  </a:lnTo>
                  <a:lnTo>
                    <a:pt x="24205" y="170733"/>
                  </a:lnTo>
                  <a:lnTo>
                    <a:pt x="25025" y="175876"/>
                  </a:lnTo>
                  <a:lnTo>
                    <a:pt x="26565" y="179306"/>
                  </a:lnTo>
                  <a:lnTo>
                    <a:pt x="28583" y="181592"/>
                  </a:lnTo>
                  <a:lnTo>
                    <a:pt x="30921" y="183116"/>
                  </a:lnTo>
                  <a:lnTo>
                    <a:pt x="32479" y="185124"/>
                  </a:lnTo>
                  <a:lnTo>
                    <a:pt x="33518" y="187455"/>
                  </a:lnTo>
                  <a:lnTo>
                    <a:pt x="34211" y="190001"/>
                  </a:lnTo>
                  <a:lnTo>
                    <a:pt x="37626" y="195476"/>
                  </a:lnTo>
                  <a:lnTo>
                    <a:pt x="44525" y="2040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8" name="SMARTInkAnnotation20"/>
            <p:cNvSpPr/>
            <p:nvPr/>
          </p:nvSpPr>
          <p:spPr>
            <a:xfrm>
              <a:off x="7304040" y="3026880"/>
              <a:ext cx="142560" cy="8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2876" h="8563">
                  <a:moveTo>
                    <a:pt x="0" y="0"/>
                  </a:moveTo>
                  <a:lnTo>
                    <a:pt x="64146" y="0"/>
                  </a:lnTo>
                  <a:lnTo>
                    <a:pt x="68560" y="992"/>
                  </a:lnTo>
                  <a:lnTo>
                    <a:pt x="73488" y="2645"/>
                  </a:lnTo>
                  <a:lnTo>
                    <a:pt x="78759" y="4740"/>
                  </a:lnTo>
                  <a:lnTo>
                    <a:pt x="84255" y="6137"/>
                  </a:lnTo>
                  <a:lnTo>
                    <a:pt x="89904" y="7067"/>
                  </a:lnTo>
                  <a:lnTo>
                    <a:pt x="95655" y="7688"/>
                  </a:lnTo>
                  <a:lnTo>
                    <a:pt x="100481" y="8102"/>
                  </a:lnTo>
                  <a:lnTo>
                    <a:pt x="104690" y="8378"/>
                  </a:lnTo>
                  <a:lnTo>
                    <a:pt x="108489" y="8562"/>
                  </a:lnTo>
                  <a:lnTo>
                    <a:pt x="112014" y="7692"/>
                  </a:lnTo>
                  <a:lnTo>
                    <a:pt x="115356" y="6120"/>
                  </a:lnTo>
                  <a:lnTo>
                    <a:pt x="118576" y="4080"/>
                  </a:lnTo>
                  <a:lnTo>
                    <a:pt x="121714" y="2720"/>
                  </a:lnTo>
                  <a:lnTo>
                    <a:pt x="124799" y="1813"/>
                  </a:lnTo>
                  <a:lnTo>
                    <a:pt x="127848" y="1209"/>
                  </a:lnTo>
                  <a:lnTo>
                    <a:pt x="130873" y="806"/>
                  </a:lnTo>
                  <a:lnTo>
                    <a:pt x="133882" y="537"/>
                  </a:lnTo>
                  <a:lnTo>
                    <a:pt x="14287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9" name="SMARTInkAnnotation21"/>
            <p:cNvSpPr/>
            <p:nvPr/>
          </p:nvSpPr>
          <p:spPr>
            <a:xfrm>
              <a:off x="7536240" y="2937600"/>
              <a:ext cx="169560" cy="8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69556" h="8928">
                  <a:moveTo>
                    <a:pt x="8820" y="8927"/>
                  </a:moveTo>
                  <a:lnTo>
                    <a:pt x="0" y="8927"/>
                  </a:lnTo>
                  <a:lnTo>
                    <a:pt x="25881" y="8927"/>
                  </a:lnTo>
                  <a:lnTo>
                    <a:pt x="31109" y="7935"/>
                  </a:lnTo>
                  <a:lnTo>
                    <a:pt x="36578" y="6281"/>
                  </a:lnTo>
                  <a:lnTo>
                    <a:pt x="42208" y="4187"/>
                  </a:lnTo>
                  <a:lnTo>
                    <a:pt x="46955" y="2790"/>
                  </a:lnTo>
                  <a:lnTo>
                    <a:pt x="51110" y="1859"/>
                  </a:lnTo>
                  <a:lnTo>
                    <a:pt x="54873" y="1239"/>
                  </a:lnTo>
                  <a:lnTo>
                    <a:pt x="59366" y="825"/>
                  </a:lnTo>
                  <a:lnTo>
                    <a:pt x="64346" y="549"/>
                  </a:lnTo>
                  <a:lnTo>
                    <a:pt x="75170" y="243"/>
                  </a:lnTo>
                  <a:lnTo>
                    <a:pt x="127371" y="0"/>
                  </a:lnTo>
                  <a:lnTo>
                    <a:pt x="130518" y="992"/>
                  </a:lnTo>
                  <a:lnTo>
                    <a:pt x="133608" y="2645"/>
                  </a:lnTo>
                  <a:lnTo>
                    <a:pt x="136661" y="4739"/>
                  </a:lnTo>
                  <a:lnTo>
                    <a:pt x="139688" y="6135"/>
                  </a:lnTo>
                  <a:lnTo>
                    <a:pt x="142699" y="7066"/>
                  </a:lnTo>
                  <a:lnTo>
                    <a:pt x="145697" y="7687"/>
                  </a:lnTo>
                  <a:lnTo>
                    <a:pt x="148689" y="8100"/>
                  </a:lnTo>
                  <a:lnTo>
                    <a:pt x="151676" y="8376"/>
                  </a:lnTo>
                  <a:lnTo>
                    <a:pt x="154660" y="8560"/>
                  </a:lnTo>
                  <a:lnTo>
                    <a:pt x="160620" y="8764"/>
                  </a:lnTo>
                  <a:lnTo>
                    <a:pt x="169555" y="89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0" name="SMARTInkAnnotation22"/>
            <p:cNvSpPr/>
            <p:nvPr/>
          </p:nvSpPr>
          <p:spPr>
            <a:xfrm>
              <a:off x="7714800" y="2732400"/>
              <a:ext cx="169560" cy="4464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169662" h="446485">
                  <a:moveTo>
                    <a:pt x="160734" y="0"/>
                  </a:moveTo>
                  <a:lnTo>
                    <a:pt x="169296" y="0"/>
                  </a:lnTo>
                  <a:lnTo>
                    <a:pt x="169632" y="12429"/>
                  </a:lnTo>
                  <a:lnTo>
                    <a:pt x="169661" y="42240"/>
                  </a:lnTo>
                  <a:lnTo>
                    <a:pt x="167017" y="53831"/>
                  </a:lnTo>
                  <a:lnTo>
                    <a:pt x="163527" y="65596"/>
                  </a:lnTo>
                  <a:lnTo>
                    <a:pt x="161975" y="77440"/>
                  </a:lnTo>
                  <a:lnTo>
                    <a:pt x="158639" y="89319"/>
                  </a:lnTo>
                  <a:lnTo>
                    <a:pt x="153850" y="102205"/>
                  </a:lnTo>
                  <a:lnTo>
                    <a:pt x="148414" y="117854"/>
                  </a:lnTo>
                  <a:lnTo>
                    <a:pt x="144583" y="126194"/>
                  </a:lnTo>
                  <a:lnTo>
                    <a:pt x="140045" y="134731"/>
                  </a:lnTo>
                  <a:lnTo>
                    <a:pt x="135035" y="143399"/>
                  </a:lnTo>
                  <a:lnTo>
                    <a:pt x="130703" y="152154"/>
                  </a:lnTo>
                  <a:lnTo>
                    <a:pt x="126823" y="160967"/>
                  </a:lnTo>
                  <a:lnTo>
                    <a:pt x="123244" y="169819"/>
                  </a:lnTo>
                  <a:lnTo>
                    <a:pt x="118874" y="179689"/>
                  </a:lnTo>
                  <a:lnTo>
                    <a:pt x="108725" y="201240"/>
                  </a:lnTo>
                  <a:lnTo>
                    <a:pt x="103242" y="211550"/>
                  </a:lnTo>
                  <a:lnTo>
                    <a:pt x="97601" y="221401"/>
                  </a:lnTo>
                  <a:lnTo>
                    <a:pt x="91857" y="230944"/>
                  </a:lnTo>
                  <a:lnTo>
                    <a:pt x="87034" y="240283"/>
                  </a:lnTo>
                  <a:lnTo>
                    <a:pt x="82827" y="249486"/>
                  </a:lnTo>
                  <a:lnTo>
                    <a:pt x="79030" y="258597"/>
                  </a:lnTo>
                  <a:lnTo>
                    <a:pt x="74515" y="267648"/>
                  </a:lnTo>
                  <a:lnTo>
                    <a:pt x="69521" y="276659"/>
                  </a:lnTo>
                  <a:lnTo>
                    <a:pt x="64206" y="285642"/>
                  </a:lnTo>
                  <a:lnTo>
                    <a:pt x="59672" y="294608"/>
                  </a:lnTo>
                  <a:lnTo>
                    <a:pt x="55655" y="303561"/>
                  </a:lnTo>
                  <a:lnTo>
                    <a:pt x="51987" y="312507"/>
                  </a:lnTo>
                  <a:lnTo>
                    <a:pt x="48548" y="321447"/>
                  </a:lnTo>
                  <a:lnTo>
                    <a:pt x="42082" y="339319"/>
                  </a:lnTo>
                  <a:lnTo>
                    <a:pt x="32863" y="366114"/>
                  </a:lnTo>
                  <a:lnTo>
                    <a:pt x="29846" y="374053"/>
                  </a:lnTo>
                  <a:lnTo>
                    <a:pt x="26844" y="381330"/>
                  </a:lnTo>
                  <a:lnTo>
                    <a:pt x="23849" y="388165"/>
                  </a:lnTo>
                  <a:lnTo>
                    <a:pt x="17875" y="401052"/>
                  </a:lnTo>
                  <a:lnTo>
                    <a:pt x="12905" y="412402"/>
                  </a:lnTo>
                  <a:lnTo>
                    <a:pt x="9115" y="424369"/>
                  </a:lnTo>
                  <a:lnTo>
                    <a:pt x="4712" y="431033"/>
                  </a:lnTo>
                  <a:lnTo>
                    <a:pt x="2095" y="437302"/>
                  </a:lnTo>
                  <a:lnTo>
                    <a:pt x="0" y="4464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1" name="SMARTInkAnnotation23"/>
            <p:cNvSpPr/>
            <p:nvPr/>
          </p:nvSpPr>
          <p:spPr>
            <a:xfrm>
              <a:off x="7813080" y="2803680"/>
              <a:ext cx="249840" cy="9792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50032" h="98227">
                  <a:moveTo>
                    <a:pt x="0" y="98226"/>
                  </a:moveTo>
                  <a:lnTo>
                    <a:pt x="4740" y="93485"/>
                  </a:lnTo>
                  <a:lnTo>
                    <a:pt x="7129" y="92089"/>
                  </a:lnTo>
                  <a:lnTo>
                    <a:pt x="12429" y="90538"/>
                  </a:lnTo>
                  <a:lnTo>
                    <a:pt x="15232" y="89132"/>
                  </a:lnTo>
                  <a:lnTo>
                    <a:pt x="18091" y="87202"/>
                  </a:lnTo>
                  <a:lnTo>
                    <a:pt x="20991" y="84924"/>
                  </a:lnTo>
                  <a:lnTo>
                    <a:pt x="24908" y="83405"/>
                  </a:lnTo>
                  <a:lnTo>
                    <a:pt x="29503" y="82392"/>
                  </a:lnTo>
                  <a:lnTo>
                    <a:pt x="34551" y="81717"/>
                  </a:lnTo>
                  <a:lnTo>
                    <a:pt x="39902" y="80275"/>
                  </a:lnTo>
                  <a:lnTo>
                    <a:pt x="45453" y="78321"/>
                  </a:lnTo>
                  <a:lnTo>
                    <a:pt x="51138" y="76027"/>
                  </a:lnTo>
                  <a:lnTo>
                    <a:pt x="56912" y="73504"/>
                  </a:lnTo>
                  <a:lnTo>
                    <a:pt x="68620" y="68056"/>
                  </a:lnTo>
                  <a:lnTo>
                    <a:pt x="75512" y="66207"/>
                  </a:lnTo>
                  <a:lnTo>
                    <a:pt x="83084" y="64974"/>
                  </a:lnTo>
                  <a:lnTo>
                    <a:pt x="91108" y="64151"/>
                  </a:lnTo>
                  <a:lnTo>
                    <a:pt x="98443" y="62611"/>
                  </a:lnTo>
                  <a:lnTo>
                    <a:pt x="105316" y="60592"/>
                  </a:lnTo>
                  <a:lnTo>
                    <a:pt x="127116" y="53010"/>
                  </a:lnTo>
                  <a:lnTo>
                    <a:pt x="135345" y="50223"/>
                  </a:lnTo>
                  <a:lnTo>
                    <a:pt x="142817" y="47372"/>
                  </a:lnTo>
                  <a:lnTo>
                    <a:pt x="149782" y="44480"/>
                  </a:lnTo>
                  <a:lnTo>
                    <a:pt x="156409" y="41559"/>
                  </a:lnTo>
                  <a:lnTo>
                    <a:pt x="169065" y="35669"/>
                  </a:lnTo>
                  <a:lnTo>
                    <a:pt x="211301" y="14880"/>
                  </a:lnTo>
                  <a:lnTo>
                    <a:pt x="216274" y="12896"/>
                  </a:lnTo>
                  <a:lnTo>
                    <a:pt x="220580" y="11574"/>
                  </a:lnTo>
                  <a:lnTo>
                    <a:pt x="228013" y="10104"/>
                  </a:lnTo>
                  <a:lnTo>
                    <a:pt x="234623" y="9452"/>
                  </a:lnTo>
                  <a:lnTo>
                    <a:pt x="237775" y="8285"/>
                  </a:lnTo>
                  <a:lnTo>
                    <a:pt x="240868" y="6516"/>
                  </a:lnTo>
                  <a:lnTo>
                    <a:pt x="25003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2" name="SMARTInkAnnotation24"/>
            <p:cNvSpPr/>
            <p:nvPr/>
          </p:nvSpPr>
          <p:spPr>
            <a:xfrm>
              <a:off x="7875720" y="2928960"/>
              <a:ext cx="44640" cy="22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44649" h="223243">
                  <a:moveTo>
                    <a:pt x="0" y="0"/>
                  </a:moveTo>
                  <a:lnTo>
                    <a:pt x="0" y="77440"/>
                  </a:lnTo>
                  <a:lnTo>
                    <a:pt x="992" y="82385"/>
                  </a:lnTo>
                  <a:lnTo>
                    <a:pt x="2646" y="86673"/>
                  </a:lnTo>
                  <a:lnTo>
                    <a:pt x="4740" y="90524"/>
                  </a:lnTo>
                  <a:lnTo>
                    <a:pt x="6137" y="96068"/>
                  </a:lnTo>
                  <a:lnTo>
                    <a:pt x="7068" y="102741"/>
                  </a:lnTo>
                  <a:lnTo>
                    <a:pt x="7689" y="110166"/>
                  </a:lnTo>
                  <a:lnTo>
                    <a:pt x="8102" y="117100"/>
                  </a:lnTo>
                  <a:lnTo>
                    <a:pt x="8562" y="130097"/>
                  </a:lnTo>
                  <a:lnTo>
                    <a:pt x="9676" y="135348"/>
                  </a:lnTo>
                  <a:lnTo>
                    <a:pt x="11412" y="139842"/>
                  </a:lnTo>
                  <a:lnTo>
                    <a:pt x="13561" y="143829"/>
                  </a:lnTo>
                  <a:lnTo>
                    <a:pt x="14994" y="148472"/>
                  </a:lnTo>
                  <a:lnTo>
                    <a:pt x="15949" y="153552"/>
                  </a:lnTo>
                  <a:lnTo>
                    <a:pt x="16586" y="158923"/>
                  </a:lnTo>
                  <a:lnTo>
                    <a:pt x="17010" y="164487"/>
                  </a:lnTo>
                  <a:lnTo>
                    <a:pt x="17294" y="170182"/>
                  </a:lnTo>
                  <a:lnTo>
                    <a:pt x="17482" y="175963"/>
                  </a:lnTo>
                  <a:lnTo>
                    <a:pt x="18600" y="180808"/>
                  </a:lnTo>
                  <a:lnTo>
                    <a:pt x="20338" y="185031"/>
                  </a:lnTo>
                  <a:lnTo>
                    <a:pt x="22488" y="188838"/>
                  </a:lnTo>
                  <a:lnTo>
                    <a:pt x="23922" y="192369"/>
                  </a:lnTo>
                  <a:lnTo>
                    <a:pt x="24877" y="195715"/>
                  </a:lnTo>
                  <a:lnTo>
                    <a:pt x="25515" y="198938"/>
                  </a:lnTo>
                  <a:lnTo>
                    <a:pt x="26932" y="202078"/>
                  </a:lnTo>
                  <a:lnTo>
                    <a:pt x="28869" y="205164"/>
                  </a:lnTo>
                  <a:lnTo>
                    <a:pt x="34365" y="212506"/>
                  </a:lnTo>
                  <a:lnTo>
                    <a:pt x="35809" y="214100"/>
                  </a:lnTo>
                  <a:lnTo>
                    <a:pt x="44648" y="2232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3" name="SMARTInkAnnotation25"/>
            <p:cNvSpPr/>
            <p:nvPr/>
          </p:nvSpPr>
          <p:spPr>
            <a:xfrm>
              <a:off x="7987680" y="2777040"/>
              <a:ext cx="253800" cy="356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53969" h="357001">
                  <a:moveTo>
                    <a:pt x="253968" y="8897"/>
                  </a:moveTo>
                  <a:lnTo>
                    <a:pt x="249227" y="4157"/>
                  </a:lnTo>
                  <a:lnTo>
                    <a:pt x="246840" y="2760"/>
                  </a:lnTo>
                  <a:lnTo>
                    <a:pt x="241539" y="1209"/>
                  </a:lnTo>
                  <a:lnTo>
                    <a:pt x="235876" y="519"/>
                  </a:lnTo>
                  <a:lnTo>
                    <a:pt x="229060" y="213"/>
                  </a:lnTo>
                  <a:lnTo>
                    <a:pt x="207571" y="0"/>
                  </a:lnTo>
                  <a:lnTo>
                    <a:pt x="203193" y="981"/>
                  </a:lnTo>
                  <a:lnTo>
                    <a:pt x="198290" y="2628"/>
                  </a:lnTo>
                  <a:lnTo>
                    <a:pt x="193036" y="4718"/>
                  </a:lnTo>
                  <a:lnTo>
                    <a:pt x="187551" y="6111"/>
                  </a:lnTo>
                  <a:lnTo>
                    <a:pt x="181910" y="7039"/>
                  </a:lnTo>
                  <a:lnTo>
                    <a:pt x="176163" y="7659"/>
                  </a:lnTo>
                  <a:lnTo>
                    <a:pt x="170348" y="9063"/>
                  </a:lnTo>
                  <a:lnTo>
                    <a:pt x="164487" y="10992"/>
                  </a:lnTo>
                  <a:lnTo>
                    <a:pt x="158596" y="13271"/>
                  </a:lnTo>
                  <a:lnTo>
                    <a:pt x="152684" y="15782"/>
                  </a:lnTo>
                  <a:lnTo>
                    <a:pt x="140823" y="21217"/>
                  </a:lnTo>
                  <a:lnTo>
                    <a:pt x="135874" y="24056"/>
                  </a:lnTo>
                  <a:lnTo>
                    <a:pt x="131583" y="26940"/>
                  </a:lnTo>
                  <a:lnTo>
                    <a:pt x="127729" y="29855"/>
                  </a:lnTo>
                  <a:lnTo>
                    <a:pt x="123176" y="32791"/>
                  </a:lnTo>
                  <a:lnTo>
                    <a:pt x="118157" y="35741"/>
                  </a:lnTo>
                  <a:lnTo>
                    <a:pt x="112826" y="38699"/>
                  </a:lnTo>
                  <a:lnTo>
                    <a:pt x="108279" y="41663"/>
                  </a:lnTo>
                  <a:lnTo>
                    <a:pt x="100583" y="47603"/>
                  </a:lnTo>
                  <a:lnTo>
                    <a:pt x="93855" y="56196"/>
                  </a:lnTo>
                  <a:lnTo>
                    <a:pt x="88549" y="65638"/>
                  </a:lnTo>
                  <a:lnTo>
                    <a:pt x="84570" y="77523"/>
                  </a:lnTo>
                  <a:lnTo>
                    <a:pt x="80123" y="87684"/>
                  </a:lnTo>
                  <a:lnTo>
                    <a:pt x="77485" y="96169"/>
                  </a:lnTo>
                  <a:lnTo>
                    <a:pt x="76781" y="99820"/>
                  </a:lnTo>
                  <a:lnTo>
                    <a:pt x="77304" y="104239"/>
                  </a:lnTo>
                  <a:lnTo>
                    <a:pt x="81790" y="118947"/>
                  </a:lnTo>
                  <a:lnTo>
                    <a:pt x="83186" y="126600"/>
                  </a:lnTo>
                  <a:lnTo>
                    <a:pt x="86453" y="135954"/>
                  </a:lnTo>
                  <a:lnTo>
                    <a:pt x="88713" y="141227"/>
                  </a:lnTo>
                  <a:lnTo>
                    <a:pt x="92205" y="145734"/>
                  </a:lnTo>
                  <a:lnTo>
                    <a:pt x="96516" y="149731"/>
                  </a:lnTo>
                  <a:lnTo>
                    <a:pt x="101376" y="153388"/>
                  </a:lnTo>
                  <a:lnTo>
                    <a:pt x="105607" y="156818"/>
                  </a:lnTo>
                  <a:lnTo>
                    <a:pt x="112955" y="163275"/>
                  </a:lnTo>
                  <a:lnTo>
                    <a:pt x="117295" y="165394"/>
                  </a:lnTo>
                  <a:lnTo>
                    <a:pt x="122173" y="166807"/>
                  </a:lnTo>
                  <a:lnTo>
                    <a:pt x="127410" y="167748"/>
                  </a:lnTo>
                  <a:lnTo>
                    <a:pt x="132885" y="169368"/>
                  </a:lnTo>
                  <a:lnTo>
                    <a:pt x="138520" y="171440"/>
                  </a:lnTo>
                  <a:lnTo>
                    <a:pt x="144260" y="173814"/>
                  </a:lnTo>
                  <a:lnTo>
                    <a:pt x="150072" y="175396"/>
                  </a:lnTo>
                  <a:lnTo>
                    <a:pt x="155931" y="176451"/>
                  </a:lnTo>
                  <a:lnTo>
                    <a:pt x="161821" y="177155"/>
                  </a:lnTo>
                  <a:lnTo>
                    <a:pt x="166740" y="177623"/>
                  </a:lnTo>
                  <a:lnTo>
                    <a:pt x="171011" y="177936"/>
                  </a:lnTo>
                  <a:lnTo>
                    <a:pt x="174850" y="178144"/>
                  </a:lnTo>
                  <a:lnTo>
                    <a:pt x="178404" y="179275"/>
                  </a:lnTo>
                  <a:lnTo>
                    <a:pt x="184996" y="183178"/>
                  </a:lnTo>
                  <a:lnTo>
                    <a:pt x="191232" y="185574"/>
                  </a:lnTo>
                  <a:lnTo>
                    <a:pt x="197312" y="186639"/>
                  </a:lnTo>
                  <a:lnTo>
                    <a:pt x="203322" y="187112"/>
                  </a:lnTo>
                  <a:lnTo>
                    <a:pt x="207544" y="187378"/>
                  </a:lnTo>
                  <a:lnTo>
                    <a:pt x="201840" y="187469"/>
                  </a:lnTo>
                  <a:lnTo>
                    <a:pt x="174754" y="187490"/>
                  </a:lnTo>
                  <a:lnTo>
                    <a:pt x="169409" y="188483"/>
                  </a:lnTo>
                  <a:lnTo>
                    <a:pt x="163862" y="190136"/>
                  </a:lnTo>
                  <a:lnTo>
                    <a:pt x="158179" y="192231"/>
                  </a:lnTo>
                  <a:lnTo>
                    <a:pt x="152405" y="193628"/>
                  </a:lnTo>
                  <a:lnTo>
                    <a:pt x="146572" y="194558"/>
                  </a:lnTo>
                  <a:lnTo>
                    <a:pt x="140698" y="195179"/>
                  </a:lnTo>
                  <a:lnTo>
                    <a:pt x="134799" y="196585"/>
                  </a:lnTo>
                  <a:lnTo>
                    <a:pt x="128882" y="198514"/>
                  </a:lnTo>
                  <a:lnTo>
                    <a:pt x="122952" y="200793"/>
                  </a:lnTo>
                  <a:lnTo>
                    <a:pt x="116023" y="202312"/>
                  </a:lnTo>
                  <a:lnTo>
                    <a:pt x="108427" y="203325"/>
                  </a:lnTo>
                  <a:lnTo>
                    <a:pt x="100386" y="204000"/>
                  </a:lnTo>
                  <a:lnTo>
                    <a:pt x="93041" y="206434"/>
                  </a:lnTo>
                  <a:lnTo>
                    <a:pt x="86159" y="210042"/>
                  </a:lnTo>
                  <a:lnTo>
                    <a:pt x="79589" y="214431"/>
                  </a:lnTo>
                  <a:lnTo>
                    <a:pt x="73223" y="217357"/>
                  </a:lnTo>
                  <a:lnTo>
                    <a:pt x="66996" y="219308"/>
                  </a:lnTo>
                  <a:lnTo>
                    <a:pt x="60858" y="220608"/>
                  </a:lnTo>
                  <a:lnTo>
                    <a:pt x="54783" y="223460"/>
                  </a:lnTo>
                  <a:lnTo>
                    <a:pt x="48748" y="227345"/>
                  </a:lnTo>
                  <a:lnTo>
                    <a:pt x="42741" y="231920"/>
                  </a:lnTo>
                  <a:lnTo>
                    <a:pt x="37744" y="235962"/>
                  </a:lnTo>
                  <a:lnTo>
                    <a:pt x="33420" y="239649"/>
                  </a:lnTo>
                  <a:lnTo>
                    <a:pt x="25971" y="246391"/>
                  </a:lnTo>
                  <a:lnTo>
                    <a:pt x="19352" y="252695"/>
                  </a:lnTo>
                  <a:lnTo>
                    <a:pt x="1008" y="270810"/>
                  </a:lnTo>
                  <a:lnTo>
                    <a:pt x="0" y="274787"/>
                  </a:lnTo>
                  <a:lnTo>
                    <a:pt x="321" y="279422"/>
                  </a:lnTo>
                  <a:lnTo>
                    <a:pt x="2330" y="288873"/>
                  </a:lnTo>
                  <a:lnTo>
                    <a:pt x="3223" y="296380"/>
                  </a:lnTo>
                  <a:lnTo>
                    <a:pt x="4454" y="299771"/>
                  </a:lnTo>
                  <a:lnTo>
                    <a:pt x="8466" y="306185"/>
                  </a:lnTo>
                  <a:lnTo>
                    <a:pt x="16303" y="315374"/>
                  </a:lnTo>
                  <a:lnTo>
                    <a:pt x="20120" y="318387"/>
                  </a:lnTo>
                  <a:lnTo>
                    <a:pt x="24646" y="321388"/>
                  </a:lnTo>
                  <a:lnTo>
                    <a:pt x="29650" y="324380"/>
                  </a:lnTo>
                  <a:lnTo>
                    <a:pt x="34970" y="327368"/>
                  </a:lnTo>
                  <a:lnTo>
                    <a:pt x="46172" y="333333"/>
                  </a:lnTo>
                  <a:lnTo>
                    <a:pt x="81378" y="351201"/>
                  </a:lnTo>
                  <a:lnTo>
                    <a:pt x="88305" y="353185"/>
                  </a:lnTo>
                  <a:lnTo>
                    <a:pt x="95903" y="354509"/>
                  </a:lnTo>
                  <a:lnTo>
                    <a:pt x="103942" y="355391"/>
                  </a:lnTo>
                  <a:lnTo>
                    <a:pt x="111288" y="355979"/>
                  </a:lnTo>
                  <a:lnTo>
                    <a:pt x="118168" y="356371"/>
                  </a:lnTo>
                  <a:lnTo>
                    <a:pt x="131105" y="356806"/>
                  </a:lnTo>
                  <a:lnTo>
                    <a:pt x="143469" y="357000"/>
                  </a:lnTo>
                  <a:lnTo>
                    <a:pt x="149544" y="356060"/>
                  </a:lnTo>
                  <a:lnTo>
                    <a:pt x="155579" y="354440"/>
                  </a:lnTo>
                  <a:lnTo>
                    <a:pt x="161587" y="352368"/>
                  </a:lnTo>
                  <a:lnTo>
                    <a:pt x="167576" y="350987"/>
                  </a:lnTo>
                  <a:lnTo>
                    <a:pt x="173553" y="350067"/>
                  </a:lnTo>
                  <a:lnTo>
                    <a:pt x="179521" y="349453"/>
                  </a:lnTo>
                  <a:lnTo>
                    <a:pt x="184494" y="348051"/>
                  </a:lnTo>
                  <a:lnTo>
                    <a:pt x="188801" y="346125"/>
                  </a:lnTo>
                  <a:lnTo>
                    <a:pt x="196232" y="342331"/>
                  </a:lnTo>
                  <a:lnTo>
                    <a:pt x="202842" y="340645"/>
                  </a:lnTo>
                  <a:lnTo>
                    <a:pt x="209086" y="337249"/>
                  </a:lnTo>
                  <a:lnTo>
                    <a:pt x="218249" y="330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4" name="SMARTInkAnnotation26"/>
            <p:cNvSpPr/>
            <p:nvPr/>
          </p:nvSpPr>
          <p:spPr>
            <a:xfrm>
              <a:off x="8268480" y="3089520"/>
              <a:ext cx="53280" cy="1249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3579" h="125017">
                  <a:moveTo>
                    <a:pt x="8930" y="0"/>
                  </a:moveTo>
                  <a:lnTo>
                    <a:pt x="1241" y="0"/>
                  </a:lnTo>
                  <a:lnTo>
                    <a:pt x="828" y="993"/>
                  </a:lnTo>
                  <a:lnTo>
                    <a:pt x="368" y="4741"/>
                  </a:lnTo>
                  <a:lnTo>
                    <a:pt x="245" y="7130"/>
                  </a:lnTo>
                  <a:lnTo>
                    <a:pt x="33" y="16251"/>
                  </a:lnTo>
                  <a:lnTo>
                    <a:pt x="0" y="74415"/>
                  </a:lnTo>
                  <a:lnTo>
                    <a:pt x="992" y="77392"/>
                  </a:lnTo>
                  <a:lnTo>
                    <a:pt x="2646" y="80368"/>
                  </a:lnTo>
                  <a:lnTo>
                    <a:pt x="4742" y="83344"/>
                  </a:lnTo>
                  <a:lnTo>
                    <a:pt x="7129" y="86321"/>
                  </a:lnTo>
                  <a:lnTo>
                    <a:pt x="9714" y="89297"/>
                  </a:lnTo>
                  <a:lnTo>
                    <a:pt x="12429" y="92274"/>
                  </a:lnTo>
                  <a:lnTo>
                    <a:pt x="18093" y="98227"/>
                  </a:lnTo>
                  <a:lnTo>
                    <a:pt x="29811" y="110133"/>
                  </a:lnTo>
                  <a:lnTo>
                    <a:pt x="32773" y="112118"/>
                  </a:lnTo>
                  <a:lnTo>
                    <a:pt x="35739" y="113441"/>
                  </a:lnTo>
                  <a:lnTo>
                    <a:pt x="38709" y="114322"/>
                  </a:lnTo>
                  <a:lnTo>
                    <a:pt x="41681" y="114910"/>
                  </a:lnTo>
                  <a:lnTo>
                    <a:pt x="44655" y="115302"/>
                  </a:lnTo>
                  <a:lnTo>
                    <a:pt x="47630" y="115564"/>
                  </a:lnTo>
                  <a:lnTo>
                    <a:pt x="49612" y="116730"/>
                  </a:lnTo>
                  <a:lnTo>
                    <a:pt x="50933" y="118500"/>
                  </a:lnTo>
                  <a:lnTo>
                    <a:pt x="53578" y="1250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5" name="SMARTInkAnnotation27"/>
            <p:cNvSpPr/>
            <p:nvPr/>
          </p:nvSpPr>
          <p:spPr>
            <a:xfrm>
              <a:off x="8286480" y="30002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8930" h="1">
                  <a:moveTo>
                    <a:pt x="0" y="0"/>
                  </a:moveTo>
                  <a:lnTo>
                    <a:pt x="892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6" name="SMARTInkAnnotation28"/>
            <p:cNvSpPr/>
            <p:nvPr/>
          </p:nvSpPr>
          <p:spPr>
            <a:xfrm>
              <a:off x="5428440" y="3634560"/>
              <a:ext cx="62280" cy="47304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2508" h="473275">
                  <a:moveTo>
                    <a:pt x="0" y="0"/>
                  </a:moveTo>
                  <a:lnTo>
                    <a:pt x="0" y="77806"/>
                  </a:lnTo>
                  <a:lnTo>
                    <a:pt x="992" y="83621"/>
                  </a:lnTo>
                  <a:lnTo>
                    <a:pt x="2645" y="89482"/>
                  </a:lnTo>
                  <a:lnTo>
                    <a:pt x="4740" y="95373"/>
                  </a:lnTo>
                  <a:lnTo>
                    <a:pt x="6137" y="101286"/>
                  </a:lnTo>
                  <a:lnTo>
                    <a:pt x="7688" y="113146"/>
                  </a:lnTo>
                  <a:lnTo>
                    <a:pt x="8378" y="127678"/>
                  </a:lnTo>
                  <a:lnTo>
                    <a:pt x="8766" y="149948"/>
                  </a:lnTo>
                  <a:lnTo>
                    <a:pt x="8920" y="201057"/>
                  </a:lnTo>
                  <a:lnTo>
                    <a:pt x="9915" y="208452"/>
                  </a:lnTo>
                  <a:lnTo>
                    <a:pt x="11570" y="216359"/>
                  </a:lnTo>
                  <a:lnTo>
                    <a:pt x="13666" y="224607"/>
                  </a:lnTo>
                  <a:lnTo>
                    <a:pt x="15064" y="233082"/>
                  </a:lnTo>
                  <a:lnTo>
                    <a:pt x="15995" y="241708"/>
                  </a:lnTo>
                  <a:lnTo>
                    <a:pt x="16617" y="250436"/>
                  </a:lnTo>
                  <a:lnTo>
                    <a:pt x="17031" y="259231"/>
                  </a:lnTo>
                  <a:lnTo>
                    <a:pt x="17491" y="276941"/>
                  </a:lnTo>
                  <a:lnTo>
                    <a:pt x="17827" y="322721"/>
                  </a:lnTo>
                  <a:lnTo>
                    <a:pt x="18830" y="331234"/>
                  </a:lnTo>
                  <a:lnTo>
                    <a:pt x="20490" y="339885"/>
                  </a:lnTo>
                  <a:lnTo>
                    <a:pt x="22590" y="348629"/>
                  </a:lnTo>
                  <a:lnTo>
                    <a:pt x="23990" y="356443"/>
                  </a:lnTo>
                  <a:lnTo>
                    <a:pt x="25545" y="370417"/>
                  </a:lnTo>
                  <a:lnTo>
                    <a:pt x="26236" y="383242"/>
                  </a:lnTo>
                  <a:lnTo>
                    <a:pt x="26421" y="389440"/>
                  </a:lnTo>
                  <a:lnTo>
                    <a:pt x="27535" y="395557"/>
                  </a:lnTo>
                  <a:lnTo>
                    <a:pt x="29271" y="401618"/>
                  </a:lnTo>
                  <a:lnTo>
                    <a:pt x="31420" y="407644"/>
                  </a:lnTo>
                  <a:lnTo>
                    <a:pt x="32852" y="413646"/>
                  </a:lnTo>
                  <a:lnTo>
                    <a:pt x="34444" y="425606"/>
                  </a:lnTo>
                  <a:lnTo>
                    <a:pt x="35862" y="430581"/>
                  </a:lnTo>
                  <a:lnTo>
                    <a:pt x="37799" y="434890"/>
                  </a:lnTo>
                  <a:lnTo>
                    <a:pt x="40081" y="438755"/>
                  </a:lnTo>
                  <a:lnTo>
                    <a:pt x="41604" y="442324"/>
                  </a:lnTo>
                  <a:lnTo>
                    <a:pt x="43295" y="448935"/>
                  </a:lnTo>
                  <a:lnTo>
                    <a:pt x="44739" y="452087"/>
                  </a:lnTo>
                  <a:lnTo>
                    <a:pt x="46692" y="455181"/>
                  </a:lnTo>
                  <a:lnTo>
                    <a:pt x="48987" y="458235"/>
                  </a:lnTo>
                  <a:lnTo>
                    <a:pt x="50518" y="461264"/>
                  </a:lnTo>
                  <a:lnTo>
                    <a:pt x="52218" y="467275"/>
                  </a:lnTo>
                  <a:lnTo>
                    <a:pt x="53175" y="471496"/>
                  </a:lnTo>
                  <a:lnTo>
                    <a:pt x="54302" y="472089"/>
                  </a:lnTo>
                  <a:lnTo>
                    <a:pt x="56045" y="472483"/>
                  </a:lnTo>
                  <a:lnTo>
                    <a:pt x="62507" y="4732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7" name="SMARTInkAnnotation29"/>
            <p:cNvSpPr/>
            <p:nvPr/>
          </p:nvSpPr>
          <p:spPr>
            <a:xfrm>
              <a:off x="5437440" y="3634560"/>
              <a:ext cx="258840" cy="17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640"/>
                <a:gd name="textAreaBottom" fmla="*/ 17640 h 17640"/>
              </a:gdLst>
              <a:ahLst/>
              <a:rect l="textAreaLeft" t="textAreaTop" r="textAreaRight" b="textAreaBottom"/>
              <a:pathLst>
                <a:path w="258962" h="17861">
                  <a:moveTo>
                    <a:pt x="0" y="17860"/>
                  </a:moveTo>
                  <a:lnTo>
                    <a:pt x="4741" y="17860"/>
                  </a:lnTo>
                  <a:lnTo>
                    <a:pt x="7129" y="16868"/>
                  </a:lnTo>
                  <a:lnTo>
                    <a:pt x="9714" y="15214"/>
                  </a:lnTo>
                  <a:lnTo>
                    <a:pt x="12429" y="13119"/>
                  </a:lnTo>
                  <a:lnTo>
                    <a:pt x="15232" y="11723"/>
                  </a:lnTo>
                  <a:lnTo>
                    <a:pt x="18091" y="10792"/>
                  </a:lnTo>
                  <a:lnTo>
                    <a:pt x="20991" y="10171"/>
                  </a:lnTo>
                  <a:lnTo>
                    <a:pt x="23916" y="9757"/>
                  </a:lnTo>
                  <a:lnTo>
                    <a:pt x="29812" y="9298"/>
                  </a:lnTo>
                  <a:lnTo>
                    <a:pt x="38386" y="9094"/>
                  </a:lnTo>
                  <a:lnTo>
                    <a:pt x="175985" y="8930"/>
                  </a:lnTo>
                  <a:lnTo>
                    <a:pt x="181816" y="7938"/>
                  </a:lnTo>
                  <a:lnTo>
                    <a:pt x="187688" y="6284"/>
                  </a:lnTo>
                  <a:lnTo>
                    <a:pt x="193585" y="4190"/>
                  </a:lnTo>
                  <a:lnTo>
                    <a:pt x="198510" y="2793"/>
                  </a:lnTo>
                  <a:lnTo>
                    <a:pt x="202787" y="1862"/>
                  </a:lnTo>
                  <a:lnTo>
                    <a:pt x="206628" y="1242"/>
                  </a:lnTo>
                  <a:lnTo>
                    <a:pt x="211174" y="828"/>
                  </a:lnTo>
                  <a:lnTo>
                    <a:pt x="216190" y="552"/>
                  </a:lnTo>
                  <a:lnTo>
                    <a:pt x="226060" y="246"/>
                  </a:lnTo>
                  <a:lnTo>
                    <a:pt x="240482" y="49"/>
                  </a:lnTo>
                  <a:lnTo>
                    <a:pt x="2589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8" name="SMARTInkAnnotation30"/>
            <p:cNvSpPr/>
            <p:nvPr/>
          </p:nvSpPr>
          <p:spPr>
            <a:xfrm>
              <a:off x="5437440" y="3790080"/>
              <a:ext cx="142560" cy="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2876" h="5146">
                  <a:moveTo>
                    <a:pt x="0" y="5145"/>
                  </a:moveTo>
                  <a:lnTo>
                    <a:pt x="47638" y="5145"/>
                  </a:lnTo>
                  <a:lnTo>
                    <a:pt x="51602" y="4153"/>
                  </a:lnTo>
                  <a:lnTo>
                    <a:pt x="56230" y="2499"/>
                  </a:lnTo>
                  <a:lnTo>
                    <a:pt x="61299" y="404"/>
                  </a:lnTo>
                  <a:lnTo>
                    <a:pt x="65671" y="0"/>
                  </a:lnTo>
                  <a:lnTo>
                    <a:pt x="69578" y="723"/>
                  </a:lnTo>
                  <a:lnTo>
                    <a:pt x="73175" y="2197"/>
                  </a:lnTo>
                  <a:lnTo>
                    <a:pt x="77556" y="3179"/>
                  </a:lnTo>
                  <a:lnTo>
                    <a:pt x="82463" y="3834"/>
                  </a:lnTo>
                  <a:lnTo>
                    <a:pt x="87718" y="4271"/>
                  </a:lnTo>
                  <a:lnTo>
                    <a:pt x="93205" y="4562"/>
                  </a:lnTo>
                  <a:lnTo>
                    <a:pt x="104594" y="4886"/>
                  </a:lnTo>
                  <a:lnTo>
                    <a:pt x="121937" y="5093"/>
                  </a:lnTo>
                  <a:lnTo>
                    <a:pt x="142875" y="51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9" name="SMARTInkAnnotation31"/>
            <p:cNvSpPr/>
            <p:nvPr/>
          </p:nvSpPr>
          <p:spPr>
            <a:xfrm>
              <a:off x="5599800" y="3643560"/>
              <a:ext cx="194760" cy="4820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194799" h="482077">
                  <a:moveTo>
                    <a:pt x="105502" y="312412"/>
                  </a:moveTo>
                  <a:lnTo>
                    <a:pt x="105502" y="307671"/>
                  </a:lnTo>
                  <a:lnTo>
                    <a:pt x="106494" y="306275"/>
                  </a:lnTo>
                  <a:lnTo>
                    <a:pt x="108148" y="305344"/>
                  </a:lnTo>
                  <a:lnTo>
                    <a:pt x="110242" y="304724"/>
                  </a:lnTo>
                  <a:lnTo>
                    <a:pt x="111639" y="303318"/>
                  </a:lnTo>
                  <a:lnTo>
                    <a:pt x="112570" y="301388"/>
                  </a:lnTo>
                  <a:lnTo>
                    <a:pt x="113604" y="296598"/>
                  </a:lnTo>
                  <a:lnTo>
                    <a:pt x="114323" y="287264"/>
                  </a:lnTo>
                  <a:lnTo>
                    <a:pt x="111737" y="283707"/>
                  </a:lnTo>
                  <a:lnTo>
                    <a:pt x="107281" y="278818"/>
                  </a:lnTo>
                  <a:lnTo>
                    <a:pt x="98179" y="269415"/>
                  </a:lnTo>
                  <a:lnTo>
                    <a:pt x="96651" y="268865"/>
                  </a:lnTo>
                  <a:lnTo>
                    <a:pt x="92307" y="268253"/>
                  </a:lnTo>
                  <a:lnTo>
                    <a:pt x="87069" y="267981"/>
                  </a:lnTo>
                  <a:lnTo>
                    <a:pt x="80443" y="267861"/>
                  </a:lnTo>
                  <a:lnTo>
                    <a:pt x="59084" y="267776"/>
                  </a:lnTo>
                  <a:lnTo>
                    <a:pt x="55705" y="268764"/>
                  </a:lnTo>
                  <a:lnTo>
                    <a:pt x="52460" y="270415"/>
                  </a:lnTo>
                  <a:lnTo>
                    <a:pt x="49304" y="272508"/>
                  </a:lnTo>
                  <a:lnTo>
                    <a:pt x="46209" y="274895"/>
                  </a:lnTo>
                  <a:lnTo>
                    <a:pt x="40123" y="280193"/>
                  </a:lnTo>
                  <a:lnTo>
                    <a:pt x="34111" y="285856"/>
                  </a:lnTo>
                  <a:lnTo>
                    <a:pt x="22167" y="297575"/>
                  </a:lnTo>
                  <a:lnTo>
                    <a:pt x="20180" y="300536"/>
                  </a:lnTo>
                  <a:lnTo>
                    <a:pt x="14345" y="315064"/>
                  </a:lnTo>
                  <a:lnTo>
                    <a:pt x="9425" y="325497"/>
                  </a:lnTo>
                  <a:lnTo>
                    <a:pt x="3930" y="336748"/>
                  </a:lnTo>
                  <a:lnTo>
                    <a:pt x="828" y="348364"/>
                  </a:lnTo>
                  <a:lnTo>
                    <a:pt x="0" y="354239"/>
                  </a:lnTo>
                  <a:lnTo>
                    <a:pt x="1726" y="366059"/>
                  </a:lnTo>
                  <a:lnTo>
                    <a:pt x="4810" y="377927"/>
                  </a:lnTo>
                  <a:lnTo>
                    <a:pt x="6179" y="389816"/>
                  </a:lnTo>
                  <a:lnTo>
                    <a:pt x="7536" y="394773"/>
                  </a:lnTo>
                  <a:lnTo>
                    <a:pt x="11691" y="402926"/>
                  </a:lnTo>
                  <a:lnTo>
                    <a:pt x="16844" y="412502"/>
                  </a:lnTo>
                  <a:lnTo>
                    <a:pt x="22443" y="422381"/>
                  </a:lnTo>
                  <a:lnTo>
                    <a:pt x="28238" y="430079"/>
                  </a:lnTo>
                  <a:lnTo>
                    <a:pt x="34120" y="436807"/>
                  </a:lnTo>
                  <a:lnTo>
                    <a:pt x="37078" y="439991"/>
                  </a:lnTo>
                  <a:lnTo>
                    <a:pt x="41034" y="442113"/>
                  </a:lnTo>
                  <a:lnTo>
                    <a:pt x="45656" y="443528"/>
                  </a:lnTo>
                  <a:lnTo>
                    <a:pt x="50723" y="444471"/>
                  </a:lnTo>
                  <a:lnTo>
                    <a:pt x="55092" y="446092"/>
                  </a:lnTo>
                  <a:lnTo>
                    <a:pt x="58997" y="448165"/>
                  </a:lnTo>
                  <a:lnTo>
                    <a:pt x="62592" y="450539"/>
                  </a:lnTo>
                  <a:lnTo>
                    <a:pt x="66974" y="452122"/>
                  </a:lnTo>
                  <a:lnTo>
                    <a:pt x="71879" y="453177"/>
                  </a:lnTo>
                  <a:lnTo>
                    <a:pt x="77133" y="453880"/>
                  </a:lnTo>
                  <a:lnTo>
                    <a:pt x="82621" y="453357"/>
                  </a:lnTo>
                  <a:lnTo>
                    <a:pt x="88264" y="452016"/>
                  </a:lnTo>
                  <a:lnTo>
                    <a:pt x="94010" y="450130"/>
                  </a:lnTo>
                  <a:lnTo>
                    <a:pt x="99825" y="447880"/>
                  </a:lnTo>
                  <a:lnTo>
                    <a:pt x="105686" y="445388"/>
                  </a:lnTo>
                  <a:lnTo>
                    <a:pt x="111578" y="442734"/>
                  </a:lnTo>
                  <a:lnTo>
                    <a:pt x="116498" y="439974"/>
                  </a:lnTo>
                  <a:lnTo>
                    <a:pt x="120769" y="437140"/>
                  </a:lnTo>
                  <a:lnTo>
                    <a:pt x="124611" y="434260"/>
                  </a:lnTo>
                  <a:lnTo>
                    <a:pt x="128163" y="431347"/>
                  </a:lnTo>
                  <a:lnTo>
                    <a:pt x="131523" y="428413"/>
                  </a:lnTo>
                  <a:lnTo>
                    <a:pt x="134755" y="425464"/>
                  </a:lnTo>
                  <a:lnTo>
                    <a:pt x="143639" y="416897"/>
                  </a:lnTo>
                  <a:lnTo>
                    <a:pt x="148786" y="411834"/>
                  </a:lnTo>
                  <a:lnTo>
                    <a:pt x="153210" y="405483"/>
                  </a:lnTo>
                  <a:lnTo>
                    <a:pt x="157150" y="398272"/>
                  </a:lnTo>
                  <a:lnTo>
                    <a:pt x="163184" y="383314"/>
                  </a:lnTo>
                  <a:lnTo>
                    <a:pt x="167572" y="362745"/>
                  </a:lnTo>
                  <a:lnTo>
                    <a:pt x="169703" y="354897"/>
                  </a:lnTo>
                  <a:lnTo>
                    <a:pt x="174715" y="338240"/>
                  </a:lnTo>
                  <a:lnTo>
                    <a:pt x="180250" y="320914"/>
                  </a:lnTo>
                  <a:lnTo>
                    <a:pt x="182123" y="312127"/>
                  </a:lnTo>
                  <a:lnTo>
                    <a:pt x="183372" y="303292"/>
                  </a:lnTo>
                  <a:lnTo>
                    <a:pt x="184204" y="294426"/>
                  </a:lnTo>
                  <a:lnTo>
                    <a:pt x="185752" y="285539"/>
                  </a:lnTo>
                  <a:lnTo>
                    <a:pt x="187775" y="276638"/>
                  </a:lnTo>
                  <a:lnTo>
                    <a:pt x="190116" y="267726"/>
                  </a:lnTo>
                  <a:lnTo>
                    <a:pt x="191677" y="258809"/>
                  </a:lnTo>
                  <a:lnTo>
                    <a:pt x="192718" y="249888"/>
                  </a:lnTo>
                  <a:lnTo>
                    <a:pt x="193411" y="240963"/>
                  </a:lnTo>
                  <a:lnTo>
                    <a:pt x="193874" y="232038"/>
                  </a:lnTo>
                  <a:lnTo>
                    <a:pt x="194388" y="214182"/>
                  </a:lnTo>
                  <a:lnTo>
                    <a:pt x="194775" y="151677"/>
                  </a:lnTo>
                  <a:lnTo>
                    <a:pt x="194798" y="84981"/>
                  </a:lnTo>
                  <a:lnTo>
                    <a:pt x="192153" y="72095"/>
                  </a:lnTo>
                  <a:lnTo>
                    <a:pt x="188661" y="59753"/>
                  </a:lnTo>
                  <a:lnTo>
                    <a:pt x="187110" y="47653"/>
                  </a:lnTo>
                  <a:lnTo>
                    <a:pt x="186421" y="35660"/>
                  </a:lnTo>
                  <a:lnTo>
                    <a:pt x="186237" y="29685"/>
                  </a:lnTo>
                  <a:lnTo>
                    <a:pt x="185123" y="24708"/>
                  </a:lnTo>
                  <a:lnTo>
                    <a:pt x="179805" y="13957"/>
                  </a:lnTo>
                  <a:lnTo>
                    <a:pt x="178214" y="11093"/>
                  </a:lnTo>
                  <a:lnTo>
                    <a:pt x="172577" y="4741"/>
                  </a:lnTo>
                  <a:lnTo>
                    <a:pt x="168129" y="0"/>
                  </a:lnTo>
                  <a:lnTo>
                    <a:pt x="168020" y="12313"/>
                  </a:lnTo>
                  <a:lnTo>
                    <a:pt x="168010" y="213931"/>
                  </a:lnTo>
                  <a:lnTo>
                    <a:pt x="169002" y="223938"/>
                  </a:lnTo>
                  <a:lnTo>
                    <a:pt x="170656" y="234577"/>
                  </a:lnTo>
                  <a:lnTo>
                    <a:pt x="172750" y="245639"/>
                  </a:lnTo>
                  <a:lnTo>
                    <a:pt x="174147" y="255991"/>
                  </a:lnTo>
                  <a:lnTo>
                    <a:pt x="175078" y="265868"/>
                  </a:lnTo>
                  <a:lnTo>
                    <a:pt x="175698" y="275430"/>
                  </a:lnTo>
                  <a:lnTo>
                    <a:pt x="176112" y="284781"/>
                  </a:lnTo>
                  <a:lnTo>
                    <a:pt x="176572" y="303108"/>
                  </a:lnTo>
                  <a:lnTo>
                    <a:pt x="176937" y="397334"/>
                  </a:lnTo>
                  <a:lnTo>
                    <a:pt x="179584" y="410017"/>
                  </a:lnTo>
                  <a:lnTo>
                    <a:pt x="183076" y="421276"/>
                  </a:lnTo>
                  <a:lnTo>
                    <a:pt x="185042" y="434185"/>
                  </a:lnTo>
                  <a:lnTo>
                    <a:pt x="185624" y="448153"/>
                  </a:lnTo>
                  <a:lnTo>
                    <a:pt x="185847" y="461790"/>
                  </a:lnTo>
                  <a:lnTo>
                    <a:pt x="185869" y="4820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0" name="SMARTInkAnnotation32"/>
            <p:cNvSpPr/>
            <p:nvPr/>
          </p:nvSpPr>
          <p:spPr>
            <a:xfrm>
              <a:off x="5874840" y="3839760"/>
              <a:ext cx="214200" cy="8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14314" h="8930">
                  <a:moveTo>
                    <a:pt x="0" y="8929"/>
                  </a:moveTo>
                  <a:lnTo>
                    <a:pt x="7689" y="8929"/>
                  </a:lnTo>
                  <a:lnTo>
                    <a:pt x="9094" y="7937"/>
                  </a:lnTo>
                  <a:lnTo>
                    <a:pt x="11024" y="6283"/>
                  </a:lnTo>
                  <a:lnTo>
                    <a:pt x="13303" y="4188"/>
                  </a:lnTo>
                  <a:lnTo>
                    <a:pt x="15814" y="2792"/>
                  </a:lnTo>
                  <a:lnTo>
                    <a:pt x="18480" y="1861"/>
                  </a:lnTo>
                  <a:lnTo>
                    <a:pt x="21250" y="1241"/>
                  </a:lnTo>
                  <a:lnTo>
                    <a:pt x="24088" y="827"/>
                  </a:lnTo>
                  <a:lnTo>
                    <a:pt x="26973" y="551"/>
                  </a:lnTo>
                  <a:lnTo>
                    <a:pt x="29889" y="367"/>
                  </a:lnTo>
                  <a:lnTo>
                    <a:pt x="35774" y="163"/>
                  </a:lnTo>
                  <a:lnTo>
                    <a:pt x="47636" y="32"/>
                  </a:lnTo>
                  <a:lnTo>
                    <a:pt x="21431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1" name="SMARTInkAnnotation33"/>
            <p:cNvSpPr/>
            <p:nvPr/>
          </p:nvSpPr>
          <p:spPr>
            <a:xfrm>
              <a:off x="5883840" y="3920040"/>
              <a:ext cx="214200" cy="17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4313" h="17860">
                  <a:moveTo>
                    <a:pt x="0" y="0"/>
                  </a:moveTo>
                  <a:lnTo>
                    <a:pt x="4740" y="0"/>
                  </a:lnTo>
                  <a:lnTo>
                    <a:pt x="7128" y="992"/>
                  </a:lnTo>
                  <a:lnTo>
                    <a:pt x="9714" y="2645"/>
                  </a:lnTo>
                  <a:lnTo>
                    <a:pt x="12429" y="4740"/>
                  </a:lnTo>
                  <a:lnTo>
                    <a:pt x="15231" y="6137"/>
                  </a:lnTo>
                  <a:lnTo>
                    <a:pt x="18091" y="7067"/>
                  </a:lnTo>
                  <a:lnTo>
                    <a:pt x="20990" y="7688"/>
                  </a:lnTo>
                  <a:lnTo>
                    <a:pt x="23915" y="8102"/>
                  </a:lnTo>
                  <a:lnTo>
                    <a:pt x="29811" y="8562"/>
                  </a:lnTo>
                  <a:lnTo>
                    <a:pt x="35738" y="8766"/>
                  </a:lnTo>
                  <a:lnTo>
                    <a:pt x="47629" y="8896"/>
                  </a:lnTo>
                  <a:lnTo>
                    <a:pt x="122161" y="8929"/>
                  </a:lnTo>
                  <a:lnTo>
                    <a:pt x="128074" y="9921"/>
                  </a:lnTo>
                  <a:lnTo>
                    <a:pt x="134000" y="11575"/>
                  </a:lnTo>
                  <a:lnTo>
                    <a:pt x="139935" y="13669"/>
                  </a:lnTo>
                  <a:lnTo>
                    <a:pt x="145875" y="15066"/>
                  </a:lnTo>
                  <a:lnTo>
                    <a:pt x="151821" y="15997"/>
                  </a:lnTo>
                  <a:lnTo>
                    <a:pt x="157768" y="16618"/>
                  </a:lnTo>
                  <a:lnTo>
                    <a:pt x="163717" y="17032"/>
                  </a:lnTo>
                  <a:lnTo>
                    <a:pt x="169669" y="17307"/>
                  </a:lnTo>
                  <a:lnTo>
                    <a:pt x="181572" y="17613"/>
                  </a:lnTo>
                  <a:lnTo>
                    <a:pt x="214312" y="178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SMARTInkAnnotation34"/>
            <p:cNvSpPr/>
            <p:nvPr/>
          </p:nvSpPr>
          <p:spPr>
            <a:xfrm>
              <a:off x="6196680" y="3544920"/>
              <a:ext cx="44640" cy="330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44649" h="330400">
                  <a:moveTo>
                    <a:pt x="0" y="0"/>
                  </a:moveTo>
                  <a:lnTo>
                    <a:pt x="4740" y="9482"/>
                  </a:lnTo>
                  <a:lnTo>
                    <a:pt x="6137" y="13266"/>
                  </a:lnTo>
                  <a:lnTo>
                    <a:pt x="7068" y="16782"/>
                  </a:lnTo>
                  <a:lnTo>
                    <a:pt x="8102" y="24326"/>
                  </a:lnTo>
                  <a:lnTo>
                    <a:pt x="8562" y="34294"/>
                  </a:lnTo>
                  <a:lnTo>
                    <a:pt x="9676" y="39730"/>
                  </a:lnTo>
                  <a:lnTo>
                    <a:pt x="11412" y="45338"/>
                  </a:lnTo>
                  <a:lnTo>
                    <a:pt x="13561" y="51062"/>
                  </a:lnTo>
                  <a:lnTo>
                    <a:pt x="14994" y="56862"/>
                  </a:lnTo>
                  <a:lnTo>
                    <a:pt x="15949" y="62713"/>
                  </a:lnTo>
                  <a:lnTo>
                    <a:pt x="16585" y="68598"/>
                  </a:lnTo>
                  <a:lnTo>
                    <a:pt x="17010" y="74506"/>
                  </a:lnTo>
                  <a:lnTo>
                    <a:pt x="17294" y="80428"/>
                  </a:lnTo>
                  <a:lnTo>
                    <a:pt x="17482" y="86361"/>
                  </a:lnTo>
                  <a:lnTo>
                    <a:pt x="18600" y="93293"/>
                  </a:lnTo>
                  <a:lnTo>
                    <a:pt x="20338" y="100891"/>
                  </a:lnTo>
                  <a:lnTo>
                    <a:pt x="22488" y="108933"/>
                  </a:lnTo>
                  <a:lnTo>
                    <a:pt x="23922" y="116278"/>
                  </a:lnTo>
                  <a:lnTo>
                    <a:pt x="24877" y="123160"/>
                  </a:lnTo>
                  <a:lnTo>
                    <a:pt x="25515" y="129732"/>
                  </a:lnTo>
                  <a:lnTo>
                    <a:pt x="26932" y="137090"/>
                  </a:lnTo>
                  <a:lnTo>
                    <a:pt x="28868" y="144971"/>
                  </a:lnTo>
                  <a:lnTo>
                    <a:pt x="31152" y="153202"/>
                  </a:lnTo>
                  <a:lnTo>
                    <a:pt x="32674" y="160674"/>
                  </a:lnTo>
                  <a:lnTo>
                    <a:pt x="33689" y="167640"/>
                  </a:lnTo>
                  <a:lnTo>
                    <a:pt x="34365" y="174268"/>
                  </a:lnTo>
                  <a:lnTo>
                    <a:pt x="34816" y="180671"/>
                  </a:lnTo>
                  <a:lnTo>
                    <a:pt x="35117" y="186924"/>
                  </a:lnTo>
                  <a:lnTo>
                    <a:pt x="35318" y="193077"/>
                  </a:lnTo>
                  <a:lnTo>
                    <a:pt x="36443" y="200156"/>
                  </a:lnTo>
                  <a:lnTo>
                    <a:pt x="38186" y="207852"/>
                  </a:lnTo>
                  <a:lnTo>
                    <a:pt x="40341" y="215958"/>
                  </a:lnTo>
                  <a:lnTo>
                    <a:pt x="41777" y="223347"/>
                  </a:lnTo>
                  <a:lnTo>
                    <a:pt x="42734" y="230258"/>
                  </a:lnTo>
                  <a:lnTo>
                    <a:pt x="43372" y="236849"/>
                  </a:lnTo>
                  <a:lnTo>
                    <a:pt x="43798" y="243228"/>
                  </a:lnTo>
                  <a:lnTo>
                    <a:pt x="44081" y="249464"/>
                  </a:lnTo>
                  <a:lnTo>
                    <a:pt x="44396" y="261686"/>
                  </a:lnTo>
                  <a:lnTo>
                    <a:pt x="44648" y="3303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3" name="SMARTInkAnnotation35"/>
            <p:cNvSpPr/>
            <p:nvPr/>
          </p:nvSpPr>
          <p:spPr>
            <a:xfrm>
              <a:off x="6134040" y="3661200"/>
              <a:ext cx="285480" cy="4910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285751" h="491134">
                  <a:moveTo>
                    <a:pt x="285750" y="0"/>
                  </a:moveTo>
                  <a:lnTo>
                    <a:pt x="285750" y="4741"/>
                  </a:lnTo>
                  <a:lnTo>
                    <a:pt x="284758" y="7130"/>
                  </a:lnTo>
                  <a:lnTo>
                    <a:pt x="278622" y="15232"/>
                  </a:lnTo>
                  <a:lnTo>
                    <a:pt x="273321" y="20991"/>
                  </a:lnTo>
                  <a:lnTo>
                    <a:pt x="271512" y="23916"/>
                  </a:lnTo>
                  <a:lnTo>
                    <a:pt x="265960" y="38386"/>
                  </a:lnTo>
                  <a:lnTo>
                    <a:pt x="261080" y="48811"/>
                  </a:lnTo>
                  <a:lnTo>
                    <a:pt x="246942" y="77547"/>
                  </a:lnTo>
                  <a:lnTo>
                    <a:pt x="238406" y="92013"/>
                  </a:lnTo>
                  <a:lnTo>
                    <a:pt x="233351" y="100037"/>
                  </a:lnTo>
                  <a:lnTo>
                    <a:pt x="225089" y="114245"/>
                  </a:lnTo>
                  <a:lnTo>
                    <a:pt x="218109" y="128167"/>
                  </a:lnTo>
                  <a:lnTo>
                    <a:pt x="214859" y="136046"/>
                  </a:lnTo>
                  <a:lnTo>
                    <a:pt x="211701" y="144276"/>
                  </a:lnTo>
                  <a:lnTo>
                    <a:pt x="207610" y="152739"/>
                  </a:lnTo>
                  <a:lnTo>
                    <a:pt x="202899" y="161357"/>
                  </a:lnTo>
                  <a:lnTo>
                    <a:pt x="197774" y="170079"/>
                  </a:lnTo>
                  <a:lnTo>
                    <a:pt x="192372" y="177879"/>
                  </a:lnTo>
                  <a:lnTo>
                    <a:pt x="186788" y="185063"/>
                  </a:lnTo>
                  <a:lnTo>
                    <a:pt x="181080" y="191836"/>
                  </a:lnTo>
                  <a:lnTo>
                    <a:pt x="176282" y="199328"/>
                  </a:lnTo>
                  <a:lnTo>
                    <a:pt x="172091" y="207300"/>
                  </a:lnTo>
                  <a:lnTo>
                    <a:pt x="168306" y="215591"/>
                  </a:lnTo>
                  <a:lnTo>
                    <a:pt x="153497" y="246221"/>
                  </a:lnTo>
                  <a:lnTo>
                    <a:pt x="147972" y="256421"/>
                  </a:lnTo>
                  <a:lnTo>
                    <a:pt x="142305" y="266197"/>
                  </a:lnTo>
                  <a:lnTo>
                    <a:pt x="136541" y="275692"/>
                  </a:lnTo>
                  <a:lnTo>
                    <a:pt x="131707" y="284006"/>
                  </a:lnTo>
                  <a:lnTo>
                    <a:pt x="123690" y="298535"/>
                  </a:lnTo>
                  <a:lnTo>
                    <a:pt x="119171" y="306180"/>
                  </a:lnTo>
                  <a:lnTo>
                    <a:pt x="108858" y="322611"/>
                  </a:lnTo>
                  <a:lnTo>
                    <a:pt x="91897" y="348597"/>
                  </a:lnTo>
                  <a:lnTo>
                    <a:pt x="87061" y="357414"/>
                  </a:lnTo>
                  <a:lnTo>
                    <a:pt x="82846" y="366268"/>
                  </a:lnTo>
                  <a:lnTo>
                    <a:pt x="79043" y="375148"/>
                  </a:lnTo>
                  <a:lnTo>
                    <a:pt x="74523" y="383051"/>
                  </a:lnTo>
                  <a:lnTo>
                    <a:pt x="69526" y="390305"/>
                  </a:lnTo>
                  <a:lnTo>
                    <a:pt x="64209" y="397125"/>
                  </a:lnTo>
                  <a:lnTo>
                    <a:pt x="59674" y="404649"/>
                  </a:lnTo>
                  <a:lnTo>
                    <a:pt x="55657" y="412641"/>
                  </a:lnTo>
                  <a:lnTo>
                    <a:pt x="51988" y="420946"/>
                  </a:lnTo>
                  <a:lnTo>
                    <a:pt x="47556" y="428466"/>
                  </a:lnTo>
                  <a:lnTo>
                    <a:pt x="42619" y="435464"/>
                  </a:lnTo>
                  <a:lnTo>
                    <a:pt x="37342" y="442114"/>
                  </a:lnTo>
                  <a:lnTo>
                    <a:pt x="28833" y="452149"/>
                  </a:lnTo>
                  <a:lnTo>
                    <a:pt x="21744" y="459916"/>
                  </a:lnTo>
                  <a:lnTo>
                    <a:pt x="15286" y="466676"/>
                  </a:lnTo>
                  <a:lnTo>
                    <a:pt x="13168" y="469867"/>
                  </a:lnTo>
                  <a:lnTo>
                    <a:pt x="9193" y="479100"/>
                  </a:lnTo>
                  <a:lnTo>
                    <a:pt x="2109" y="488462"/>
                  </a:lnTo>
                  <a:lnTo>
                    <a:pt x="0" y="491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4" name="SMARTInkAnnotation36"/>
            <p:cNvSpPr/>
            <p:nvPr/>
          </p:nvSpPr>
          <p:spPr>
            <a:xfrm>
              <a:off x="6303960" y="3911400"/>
              <a:ext cx="106560" cy="231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06700" h="232064">
                  <a:moveTo>
                    <a:pt x="8517" y="8821"/>
                  </a:moveTo>
                  <a:lnTo>
                    <a:pt x="8517" y="1132"/>
                  </a:lnTo>
                  <a:lnTo>
                    <a:pt x="9508" y="718"/>
                  </a:lnTo>
                  <a:lnTo>
                    <a:pt x="11162" y="443"/>
                  </a:lnTo>
                  <a:lnTo>
                    <a:pt x="16205" y="0"/>
                  </a:lnTo>
                  <a:lnTo>
                    <a:pt x="17611" y="955"/>
                  </a:lnTo>
                  <a:lnTo>
                    <a:pt x="19541" y="2585"/>
                  </a:lnTo>
                  <a:lnTo>
                    <a:pt x="21818" y="4664"/>
                  </a:lnTo>
                  <a:lnTo>
                    <a:pt x="24330" y="6049"/>
                  </a:lnTo>
                  <a:lnTo>
                    <a:pt x="26997" y="6973"/>
                  </a:lnTo>
                  <a:lnTo>
                    <a:pt x="29765" y="7589"/>
                  </a:lnTo>
                  <a:lnTo>
                    <a:pt x="32605" y="8992"/>
                  </a:lnTo>
                  <a:lnTo>
                    <a:pt x="35489" y="10919"/>
                  </a:lnTo>
                  <a:lnTo>
                    <a:pt x="38405" y="13196"/>
                  </a:lnTo>
                  <a:lnTo>
                    <a:pt x="41341" y="15706"/>
                  </a:lnTo>
                  <a:lnTo>
                    <a:pt x="44290" y="18372"/>
                  </a:lnTo>
                  <a:lnTo>
                    <a:pt x="47248" y="21141"/>
                  </a:lnTo>
                  <a:lnTo>
                    <a:pt x="50213" y="22988"/>
                  </a:lnTo>
                  <a:lnTo>
                    <a:pt x="53181" y="24218"/>
                  </a:lnTo>
                  <a:lnTo>
                    <a:pt x="56152" y="25039"/>
                  </a:lnTo>
                  <a:lnTo>
                    <a:pt x="59125" y="26578"/>
                  </a:lnTo>
                  <a:lnTo>
                    <a:pt x="62100" y="28596"/>
                  </a:lnTo>
                  <a:lnTo>
                    <a:pt x="65075" y="30934"/>
                  </a:lnTo>
                  <a:lnTo>
                    <a:pt x="69042" y="34477"/>
                  </a:lnTo>
                  <a:lnTo>
                    <a:pt x="78743" y="43705"/>
                  </a:lnTo>
                  <a:lnTo>
                    <a:pt x="82123" y="47952"/>
                  </a:lnTo>
                  <a:lnTo>
                    <a:pt x="84377" y="51775"/>
                  </a:lnTo>
                  <a:lnTo>
                    <a:pt x="85879" y="55316"/>
                  </a:lnTo>
                  <a:lnTo>
                    <a:pt x="87873" y="58669"/>
                  </a:lnTo>
                  <a:lnTo>
                    <a:pt x="90194" y="61897"/>
                  </a:lnTo>
                  <a:lnTo>
                    <a:pt x="92734" y="65041"/>
                  </a:lnTo>
                  <a:lnTo>
                    <a:pt x="95419" y="69121"/>
                  </a:lnTo>
                  <a:lnTo>
                    <a:pt x="98201" y="73826"/>
                  </a:lnTo>
                  <a:lnTo>
                    <a:pt x="101049" y="78946"/>
                  </a:lnTo>
                  <a:lnTo>
                    <a:pt x="102947" y="83352"/>
                  </a:lnTo>
                  <a:lnTo>
                    <a:pt x="104212" y="87281"/>
                  </a:lnTo>
                  <a:lnTo>
                    <a:pt x="105056" y="90894"/>
                  </a:lnTo>
                  <a:lnTo>
                    <a:pt x="105618" y="95286"/>
                  </a:lnTo>
                  <a:lnTo>
                    <a:pt x="105993" y="100198"/>
                  </a:lnTo>
                  <a:lnTo>
                    <a:pt x="106243" y="105457"/>
                  </a:lnTo>
                  <a:lnTo>
                    <a:pt x="106521" y="116593"/>
                  </a:lnTo>
                  <a:lnTo>
                    <a:pt x="106699" y="135170"/>
                  </a:lnTo>
                  <a:lnTo>
                    <a:pt x="105722" y="139687"/>
                  </a:lnTo>
                  <a:lnTo>
                    <a:pt x="104078" y="144682"/>
                  </a:lnTo>
                  <a:lnTo>
                    <a:pt x="101989" y="149996"/>
                  </a:lnTo>
                  <a:lnTo>
                    <a:pt x="99605" y="154532"/>
                  </a:lnTo>
                  <a:lnTo>
                    <a:pt x="97024" y="158547"/>
                  </a:lnTo>
                  <a:lnTo>
                    <a:pt x="94311" y="162216"/>
                  </a:lnTo>
                  <a:lnTo>
                    <a:pt x="91509" y="164663"/>
                  </a:lnTo>
                  <a:lnTo>
                    <a:pt x="88649" y="166293"/>
                  </a:lnTo>
                  <a:lnTo>
                    <a:pt x="85751" y="167380"/>
                  </a:lnTo>
                  <a:lnTo>
                    <a:pt x="82827" y="169098"/>
                  </a:lnTo>
                  <a:lnTo>
                    <a:pt x="79884" y="171234"/>
                  </a:lnTo>
                  <a:lnTo>
                    <a:pt x="76931" y="173651"/>
                  </a:lnTo>
                  <a:lnTo>
                    <a:pt x="73970" y="175262"/>
                  </a:lnTo>
                  <a:lnTo>
                    <a:pt x="71004" y="176336"/>
                  </a:lnTo>
                  <a:lnTo>
                    <a:pt x="68035" y="177053"/>
                  </a:lnTo>
                  <a:lnTo>
                    <a:pt x="64070" y="178522"/>
                  </a:lnTo>
                  <a:lnTo>
                    <a:pt x="59443" y="180494"/>
                  </a:lnTo>
                  <a:lnTo>
                    <a:pt x="54373" y="182801"/>
                  </a:lnTo>
                  <a:lnTo>
                    <a:pt x="50002" y="183346"/>
                  </a:lnTo>
                  <a:lnTo>
                    <a:pt x="46095" y="182717"/>
                  </a:lnTo>
                  <a:lnTo>
                    <a:pt x="42499" y="181307"/>
                  </a:lnTo>
                  <a:lnTo>
                    <a:pt x="39108" y="180366"/>
                  </a:lnTo>
                  <a:lnTo>
                    <a:pt x="35856" y="179739"/>
                  </a:lnTo>
                  <a:lnTo>
                    <a:pt x="32696" y="179321"/>
                  </a:lnTo>
                  <a:lnTo>
                    <a:pt x="29597" y="178050"/>
                  </a:lnTo>
                  <a:lnTo>
                    <a:pt x="26540" y="176210"/>
                  </a:lnTo>
                  <a:lnTo>
                    <a:pt x="23508" y="173992"/>
                  </a:lnTo>
                  <a:lnTo>
                    <a:pt x="20495" y="172513"/>
                  </a:lnTo>
                  <a:lnTo>
                    <a:pt x="17495" y="171527"/>
                  </a:lnTo>
                  <a:lnTo>
                    <a:pt x="14502" y="170870"/>
                  </a:lnTo>
                  <a:lnTo>
                    <a:pt x="12507" y="169439"/>
                  </a:lnTo>
                  <a:lnTo>
                    <a:pt x="11177" y="167494"/>
                  </a:lnTo>
                  <a:lnTo>
                    <a:pt x="10290" y="165204"/>
                  </a:lnTo>
                  <a:lnTo>
                    <a:pt x="8707" y="162686"/>
                  </a:lnTo>
                  <a:lnTo>
                    <a:pt x="6659" y="160014"/>
                  </a:lnTo>
                  <a:lnTo>
                    <a:pt x="4302" y="157241"/>
                  </a:lnTo>
                  <a:lnTo>
                    <a:pt x="2729" y="154401"/>
                  </a:lnTo>
                  <a:lnTo>
                    <a:pt x="983" y="148598"/>
                  </a:lnTo>
                  <a:lnTo>
                    <a:pt x="208" y="142713"/>
                  </a:lnTo>
                  <a:lnTo>
                    <a:pt x="0" y="139753"/>
                  </a:lnTo>
                  <a:lnTo>
                    <a:pt x="855" y="137781"/>
                  </a:lnTo>
                  <a:lnTo>
                    <a:pt x="2417" y="136466"/>
                  </a:lnTo>
                  <a:lnTo>
                    <a:pt x="4450" y="135590"/>
                  </a:lnTo>
                  <a:lnTo>
                    <a:pt x="5806" y="134013"/>
                  </a:lnTo>
                  <a:lnTo>
                    <a:pt x="6709" y="131969"/>
                  </a:lnTo>
                  <a:lnTo>
                    <a:pt x="8159" y="126302"/>
                  </a:lnTo>
                  <a:lnTo>
                    <a:pt x="9271" y="125836"/>
                  </a:lnTo>
                  <a:lnTo>
                    <a:pt x="11004" y="125527"/>
                  </a:lnTo>
                  <a:lnTo>
                    <a:pt x="13151" y="125320"/>
                  </a:lnTo>
                  <a:lnTo>
                    <a:pt x="15575" y="125182"/>
                  </a:lnTo>
                  <a:lnTo>
                    <a:pt x="20914" y="125029"/>
                  </a:lnTo>
                  <a:lnTo>
                    <a:pt x="23726" y="125980"/>
                  </a:lnTo>
                  <a:lnTo>
                    <a:pt x="26595" y="127607"/>
                  </a:lnTo>
                  <a:lnTo>
                    <a:pt x="29499" y="129683"/>
                  </a:lnTo>
                  <a:lnTo>
                    <a:pt x="31434" y="132060"/>
                  </a:lnTo>
                  <a:lnTo>
                    <a:pt x="32724" y="134636"/>
                  </a:lnTo>
                  <a:lnTo>
                    <a:pt x="33585" y="137346"/>
                  </a:lnTo>
                  <a:lnTo>
                    <a:pt x="35151" y="139153"/>
                  </a:lnTo>
                  <a:lnTo>
                    <a:pt x="37187" y="140357"/>
                  </a:lnTo>
                  <a:lnTo>
                    <a:pt x="39536" y="141160"/>
                  </a:lnTo>
                  <a:lnTo>
                    <a:pt x="42095" y="142687"/>
                  </a:lnTo>
                  <a:lnTo>
                    <a:pt x="44793" y="144698"/>
                  </a:lnTo>
                  <a:lnTo>
                    <a:pt x="47583" y="147030"/>
                  </a:lnTo>
                  <a:lnTo>
                    <a:pt x="50436" y="149578"/>
                  </a:lnTo>
                  <a:lnTo>
                    <a:pt x="56252" y="155054"/>
                  </a:lnTo>
                  <a:lnTo>
                    <a:pt x="58200" y="157903"/>
                  </a:lnTo>
                  <a:lnTo>
                    <a:pt x="60364" y="163715"/>
                  </a:lnTo>
                  <a:lnTo>
                    <a:pt x="61933" y="166654"/>
                  </a:lnTo>
                  <a:lnTo>
                    <a:pt x="63971" y="169605"/>
                  </a:lnTo>
                  <a:lnTo>
                    <a:pt x="66321" y="172565"/>
                  </a:lnTo>
                  <a:lnTo>
                    <a:pt x="67890" y="175530"/>
                  </a:lnTo>
                  <a:lnTo>
                    <a:pt x="69631" y="181471"/>
                  </a:lnTo>
                  <a:lnTo>
                    <a:pt x="71088" y="184444"/>
                  </a:lnTo>
                  <a:lnTo>
                    <a:pt x="73051" y="187419"/>
                  </a:lnTo>
                  <a:lnTo>
                    <a:pt x="75351" y="190394"/>
                  </a:lnTo>
                  <a:lnTo>
                    <a:pt x="77908" y="196345"/>
                  </a:lnTo>
                  <a:lnTo>
                    <a:pt x="78590" y="199321"/>
                  </a:lnTo>
                  <a:lnTo>
                    <a:pt x="80037" y="202298"/>
                  </a:lnTo>
                  <a:lnTo>
                    <a:pt x="81994" y="205274"/>
                  </a:lnTo>
                  <a:lnTo>
                    <a:pt x="84291" y="208250"/>
                  </a:lnTo>
                  <a:lnTo>
                    <a:pt x="86842" y="214203"/>
                  </a:lnTo>
                  <a:lnTo>
                    <a:pt x="87523" y="217180"/>
                  </a:lnTo>
                  <a:lnTo>
                    <a:pt x="88969" y="219164"/>
                  </a:lnTo>
                  <a:lnTo>
                    <a:pt x="90924" y="220488"/>
                  </a:lnTo>
                  <a:lnTo>
                    <a:pt x="93221" y="221369"/>
                  </a:lnTo>
                  <a:lnTo>
                    <a:pt x="94752" y="222949"/>
                  </a:lnTo>
                  <a:lnTo>
                    <a:pt x="95772" y="224995"/>
                  </a:lnTo>
                  <a:lnTo>
                    <a:pt x="97814" y="2320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5" name="SMARTInkAnnotation37"/>
            <p:cNvSpPr/>
            <p:nvPr/>
          </p:nvSpPr>
          <p:spPr>
            <a:xfrm>
              <a:off x="6500160" y="3786480"/>
              <a:ext cx="151560" cy="2314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51806" h="231756">
                  <a:moveTo>
                    <a:pt x="8930" y="44232"/>
                  </a:moveTo>
                  <a:lnTo>
                    <a:pt x="8930" y="130675"/>
                  </a:lnTo>
                  <a:lnTo>
                    <a:pt x="7938" y="136587"/>
                  </a:lnTo>
                  <a:lnTo>
                    <a:pt x="6284" y="142513"/>
                  </a:lnTo>
                  <a:lnTo>
                    <a:pt x="4190" y="148448"/>
                  </a:lnTo>
                  <a:lnTo>
                    <a:pt x="2793" y="154389"/>
                  </a:lnTo>
                  <a:lnTo>
                    <a:pt x="1862" y="160334"/>
                  </a:lnTo>
                  <a:lnTo>
                    <a:pt x="1241" y="166281"/>
                  </a:lnTo>
                  <a:lnTo>
                    <a:pt x="828" y="172231"/>
                  </a:lnTo>
                  <a:lnTo>
                    <a:pt x="552" y="178182"/>
                  </a:lnTo>
                  <a:lnTo>
                    <a:pt x="164" y="193392"/>
                  </a:lnTo>
                  <a:lnTo>
                    <a:pt x="0" y="222811"/>
                  </a:lnTo>
                  <a:lnTo>
                    <a:pt x="0" y="146540"/>
                  </a:lnTo>
                  <a:lnTo>
                    <a:pt x="993" y="140218"/>
                  </a:lnTo>
                  <a:lnTo>
                    <a:pt x="2646" y="134020"/>
                  </a:lnTo>
                  <a:lnTo>
                    <a:pt x="4740" y="127903"/>
                  </a:lnTo>
                  <a:lnTo>
                    <a:pt x="6138" y="121841"/>
                  </a:lnTo>
                  <a:lnTo>
                    <a:pt x="7069" y="115815"/>
                  </a:lnTo>
                  <a:lnTo>
                    <a:pt x="7689" y="109813"/>
                  </a:lnTo>
                  <a:lnTo>
                    <a:pt x="8102" y="103827"/>
                  </a:lnTo>
                  <a:lnTo>
                    <a:pt x="8379" y="97853"/>
                  </a:lnTo>
                  <a:lnTo>
                    <a:pt x="8562" y="91885"/>
                  </a:lnTo>
                  <a:lnTo>
                    <a:pt x="9676" y="86915"/>
                  </a:lnTo>
                  <a:lnTo>
                    <a:pt x="11412" y="82609"/>
                  </a:lnTo>
                  <a:lnTo>
                    <a:pt x="13561" y="78746"/>
                  </a:lnTo>
                  <a:lnTo>
                    <a:pt x="14994" y="74187"/>
                  </a:lnTo>
                  <a:lnTo>
                    <a:pt x="15949" y="69162"/>
                  </a:lnTo>
                  <a:lnTo>
                    <a:pt x="16585" y="63829"/>
                  </a:lnTo>
                  <a:lnTo>
                    <a:pt x="18004" y="59281"/>
                  </a:lnTo>
                  <a:lnTo>
                    <a:pt x="19940" y="55257"/>
                  </a:lnTo>
                  <a:lnTo>
                    <a:pt x="22222" y="51582"/>
                  </a:lnTo>
                  <a:lnTo>
                    <a:pt x="23745" y="47147"/>
                  </a:lnTo>
                  <a:lnTo>
                    <a:pt x="24759" y="42206"/>
                  </a:lnTo>
                  <a:lnTo>
                    <a:pt x="25436" y="36928"/>
                  </a:lnTo>
                  <a:lnTo>
                    <a:pt x="26880" y="32418"/>
                  </a:lnTo>
                  <a:lnTo>
                    <a:pt x="28833" y="28418"/>
                  </a:lnTo>
                  <a:lnTo>
                    <a:pt x="32658" y="21329"/>
                  </a:lnTo>
                  <a:lnTo>
                    <a:pt x="34358" y="14870"/>
                  </a:lnTo>
                  <a:lnTo>
                    <a:pt x="35804" y="12751"/>
                  </a:lnTo>
                  <a:lnTo>
                    <a:pt x="37760" y="11338"/>
                  </a:lnTo>
                  <a:lnTo>
                    <a:pt x="40057" y="10396"/>
                  </a:lnTo>
                  <a:lnTo>
                    <a:pt x="42579" y="8777"/>
                  </a:lnTo>
                  <a:lnTo>
                    <a:pt x="45254" y="6704"/>
                  </a:lnTo>
                  <a:lnTo>
                    <a:pt x="51934" y="990"/>
                  </a:lnTo>
                  <a:lnTo>
                    <a:pt x="55494" y="208"/>
                  </a:lnTo>
                  <a:lnTo>
                    <a:pt x="57831" y="0"/>
                  </a:lnTo>
                  <a:lnTo>
                    <a:pt x="59390" y="854"/>
                  </a:lnTo>
                  <a:lnTo>
                    <a:pt x="60430" y="2414"/>
                  </a:lnTo>
                  <a:lnTo>
                    <a:pt x="61122" y="4447"/>
                  </a:lnTo>
                  <a:lnTo>
                    <a:pt x="62577" y="5802"/>
                  </a:lnTo>
                  <a:lnTo>
                    <a:pt x="64538" y="6706"/>
                  </a:lnTo>
                  <a:lnTo>
                    <a:pt x="66838" y="7308"/>
                  </a:lnTo>
                  <a:lnTo>
                    <a:pt x="68371" y="8702"/>
                  </a:lnTo>
                  <a:lnTo>
                    <a:pt x="69393" y="10623"/>
                  </a:lnTo>
                  <a:lnTo>
                    <a:pt x="70075" y="12897"/>
                  </a:lnTo>
                  <a:lnTo>
                    <a:pt x="73478" y="18068"/>
                  </a:lnTo>
                  <a:lnTo>
                    <a:pt x="75775" y="20836"/>
                  </a:lnTo>
                  <a:lnTo>
                    <a:pt x="77305" y="24666"/>
                  </a:lnTo>
                  <a:lnTo>
                    <a:pt x="78326" y="29203"/>
                  </a:lnTo>
                  <a:lnTo>
                    <a:pt x="79006" y="34213"/>
                  </a:lnTo>
                  <a:lnTo>
                    <a:pt x="80452" y="38545"/>
                  </a:lnTo>
                  <a:lnTo>
                    <a:pt x="82409" y="42425"/>
                  </a:lnTo>
                  <a:lnTo>
                    <a:pt x="84705" y="46003"/>
                  </a:lnTo>
                  <a:lnTo>
                    <a:pt x="86236" y="50374"/>
                  </a:lnTo>
                  <a:lnTo>
                    <a:pt x="87256" y="55272"/>
                  </a:lnTo>
                  <a:lnTo>
                    <a:pt x="87936" y="60522"/>
                  </a:lnTo>
                  <a:lnTo>
                    <a:pt x="88390" y="66997"/>
                  </a:lnTo>
                  <a:lnTo>
                    <a:pt x="88692" y="74292"/>
                  </a:lnTo>
                  <a:lnTo>
                    <a:pt x="89117" y="96133"/>
                  </a:lnTo>
                  <a:lnTo>
                    <a:pt x="89296" y="158683"/>
                  </a:lnTo>
                  <a:lnTo>
                    <a:pt x="88304" y="163196"/>
                  </a:lnTo>
                  <a:lnTo>
                    <a:pt x="86651" y="167198"/>
                  </a:lnTo>
                  <a:lnTo>
                    <a:pt x="83160" y="174289"/>
                  </a:lnTo>
                  <a:lnTo>
                    <a:pt x="81608" y="180749"/>
                  </a:lnTo>
                  <a:lnTo>
                    <a:pt x="80612" y="186843"/>
                  </a:lnTo>
                  <a:lnTo>
                    <a:pt x="80416" y="193926"/>
                  </a:lnTo>
                  <a:lnTo>
                    <a:pt x="80376" y="195619"/>
                  </a:lnTo>
                  <a:lnTo>
                    <a:pt x="80367" y="135105"/>
                  </a:lnTo>
                  <a:lnTo>
                    <a:pt x="81359" y="129618"/>
                  </a:lnTo>
                  <a:lnTo>
                    <a:pt x="83014" y="123977"/>
                  </a:lnTo>
                  <a:lnTo>
                    <a:pt x="85107" y="118231"/>
                  </a:lnTo>
                  <a:lnTo>
                    <a:pt x="86505" y="112416"/>
                  </a:lnTo>
                  <a:lnTo>
                    <a:pt x="87436" y="106555"/>
                  </a:lnTo>
                  <a:lnTo>
                    <a:pt x="88056" y="100664"/>
                  </a:lnTo>
                  <a:lnTo>
                    <a:pt x="88469" y="95743"/>
                  </a:lnTo>
                  <a:lnTo>
                    <a:pt x="88746" y="91471"/>
                  </a:lnTo>
                  <a:lnTo>
                    <a:pt x="88929" y="87631"/>
                  </a:lnTo>
                  <a:lnTo>
                    <a:pt x="90043" y="83086"/>
                  </a:lnTo>
                  <a:lnTo>
                    <a:pt x="91779" y="78072"/>
                  </a:lnTo>
                  <a:lnTo>
                    <a:pt x="93928" y="72745"/>
                  </a:lnTo>
                  <a:lnTo>
                    <a:pt x="95362" y="68201"/>
                  </a:lnTo>
                  <a:lnTo>
                    <a:pt x="96317" y="64181"/>
                  </a:lnTo>
                  <a:lnTo>
                    <a:pt x="96952" y="60507"/>
                  </a:lnTo>
                  <a:lnTo>
                    <a:pt x="100307" y="53780"/>
                  </a:lnTo>
                  <a:lnTo>
                    <a:pt x="102589" y="50597"/>
                  </a:lnTo>
                  <a:lnTo>
                    <a:pt x="105126" y="44415"/>
                  </a:lnTo>
                  <a:lnTo>
                    <a:pt x="106254" y="38360"/>
                  </a:lnTo>
                  <a:lnTo>
                    <a:pt x="106756" y="32362"/>
                  </a:lnTo>
                  <a:lnTo>
                    <a:pt x="107881" y="29373"/>
                  </a:lnTo>
                  <a:lnTo>
                    <a:pt x="111778" y="23406"/>
                  </a:lnTo>
                  <a:lnTo>
                    <a:pt x="114810" y="19210"/>
                  </a:lnTo>
                  <a:lnTo>
                    <a:pt x="116227" y="18621"/>
                  </a:lnTo>
                  <a:lnTo>
                    <a:pt x="120448" y="17966"/>
                  </a:lnTo>
                  <a:lnTo>
                    <a:pt x="124616" y="17488"/>
                  </a:lnTo>
                  <a:lnTo>
                    <a:pt x="129638" y="17456"/>
                  </a:lnTo>
                  <a:lnTo>
                    <a:pt x="131073" y="18444"/>
                  </a:lnTo>
                  <a:lnTo>
                    <a:pt x="132031" y="20095"/>
                  </a:lnTo>
                  <a:lnTo>
                    <a:pt x="133095" y="24574"/>
                  </a:lnTo>
                  <a:lnTo>
                    <a:pt x="133567" y="29873"/>
                  </a:lnTo>
                  <a:lnTo>
                    <a:pt x="133778" y="35535"/>
                  </a:lnTo>
                  <a:lnTo>
                    <a:pt x="133833" y="38434"/>
                  </a:lnTo>
                  <a:lnTo>
                    <a:pt x="134863" y="42351"/>
                  </a:lnTo>
                  <a:lnTo>
                    <a:pt x="136542" y="46946"/>
                  </a:lnTo>
                  <a:lnTo>
                    <a:pt x="138653" y="51995"/>
                  </a:lnTo>
                  <a:lnTo>
                    <a:pt x="140060" y="57344"/>
                  </a:lnTo>
                  <a:lnTo>
                    <a:pt x="140998" y="62895"/>
                  </a:lnTo>
                  <a:lnTo>
                    <a:pt x="141625" y="68580"/>
                  </a:lnTo>
                  <a:lnTo>
                    <a:pt x="142041" y="74355"/>
                  </a:lnTo>
                  <a:lnTo>
                    <a:pt x="142319" y="80189"/>
                  </a:lnTo>
                  <a:lnTo>
                    <a:pt x="142628" y="91963"/>
                  </a:lnTo>
                  <a:lnTo>
                    <a:pt x="142874" y="161639"/>
                  </a:lnTo>
                  <a:lnTo>
                    <a:pt x="143866" y="166159"/>
                  </a:lnTo>
                  <a:lnTo>
                    <a:pt x="145520" y="171158"/>
                  </a:lnTo>
                  <a:lnTo>
                    <a:pt x="147615" y="176474"/>
                  </a:lnTo>
                  <a:lnTo>
                    <a:pt x="149012" y="181010"/>
                  </a:lnTo>
                  <a:lnTo>
                    <a:pt x="149942" y="185027"/>
                  </a:lnTo>
                  <a:lnTo>
                    <a:pt x="150977" y="192135"/>
                  </a:lnTo>
                  <a:lnTo>
                    <a:pt x="151437" y="198602"/>
                  </a:lnTo>
                  <a:lnTo>
                    <a:pt x="151641" y="204783"/>
                  </a:lnTo>
                  <a:lnTo>
                    <a:pt x="151795" y="221050"/>
                  </a:lnTo>
                  <a:lnTo>
                    <a:pt x="151805" y="2317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6" name="SMARTInkAnnotation38"/>
            <p:cNvSpPr/>
            <p:nvPr/>
          </p:nvSpPr>
          <p:spPr>
            <a:xfrm>
              <a:off x="6705720" y="3714840"/>
              <a:ext cx="124920" cy="2678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25016" h="267880">
                  <a:moveTo>
                    <a:pt x="0" y="0"/>
                  </a:moveTo>
                  <a:lnTo>
                    <a:pt x="0" y="28938"/>
                  </a:lnTo>
                  <a:lnTo>
                    <a:pt x="992" y="32190"/>
                  </a:lnTo>
                  <a:lnTo>
                    <a:pt x="4740" y="38450"/>
                  </a:lnTo>
                  <a:lnTo>
                    <a:pt x="6137" y="42500"/>
                  </a:lnTo>
                  <a:lnTo>
                    <a:pt x="7068" y="47185"/>
                  </a:lnTo>
                  <a:lnTo>
                    <a:pt x="7688" y="52293"/>
                  </a:lnTo>
                  <a:lnTo>
                    <a:pt x="8102" y="57682"/>
                  </a:lnTo>
                  <a:lnTo>
                    <a:pt x="8378" y="63259"/>
                  </a:lnTo>
                  <a:lnTo>
                    <a:pt x="8766" y="77944"/>
                  </a:lnTo>
                  <a:lnTo>
                    <a:pt x="8821" y="81728"/>
                  </a:lnTo>
                  <a:lnTo>
                    <a:pt x="9849" y="86235"/>
                  </a:lnTo>
                  <a:lnTo>
                    <a:pt x="11526" y="91225"/>
                  </a:lnTo>
                  <a:lnTo>
                    <a:pt x="13638" y="96535"/>
                  </a:lnTo>
                  <a:lnTo>
                    <a:pt x="15045" y="102060"/>
                  </a:lnTo>
                  <a:lnTo>
                    <a:pt x="15983" y="107727"/>
                  </a:lnTo>
                  <a:lnTo>
                    <a:pt x="16609" y="113490"/>
                  </a:lnTo>
                  <a:lnTo>
                    <a:pt x="17025" y="119316"/>
                  </a:lnTo>
                  <a:lnTo>
                    <a:pt x="17303" y="125184"/>
                  </a:lnTo>
                  <a:lnTo>
                    <a:pt x="17489" y="131081"/>
                  </a:lnTo>
                  <a:lnTo>
                    <a:pt x="18605" y="136997"/>
                  </a:lnTo>
                  <a:lnTo>
                    <a:pt x="20340" y="142924"/>
                  </a:lnTo>
                  <a:lnTo>
                    <a:pt x="22490" y="148861"/>
                  </a:lnTo>
                  <a:lnTo>
                    <a:pt x="23923" y="154803"/>
                  </a:lnTo>
                  <a:lnTo>
                    <a:pt x="24878" y="160749"/>
                  </a:lnTo>
                  <a:lnTo>
                    <a:pt x="25515" y="166697"/>
                  </a:lnTo>
                  <a:lnTo>
                    <a:pt x="26932" y="172647"/>
                  </a:lnTo>
                  <a:lnTo>
                    <a:pt x="28869" y="178598"/>
                  </a:lnTo>
                  <a:lnTo>
                    <a:pt x="31151" y="184549"/>
                  </a:lnTo>
                  <a:lnTo>
                    <a:pt x="32675" y="190502"/>
                  </a:lnTo>
                  <a:lnTo>
                    <a:pt x="33688" y="196454"/>
                  </a:lnTo>
                  <a:lnTo>
                    <a:pt x="34366" y="202407"/>
                  </a:lnTo>
                  <a:lnTo>
                    <a:pt x="35809" y="207367"/>
                  </a:lnTo>
                  <a:lnTo>
                    <a:pt x="37763" y="211666"/>
                  </a:lnTo>
                  <a:lnTo>
                    <a:pt x="40058" y="215525"/>
                  </a:lnTo>
                  <a:lnTo>
                    <a:pt x="41588" y="220082"/>
                  </a:lnTo>
                  <a:lnTo>
                    <a:pt x="42608" y="225104"/>
                  </a:lnTo>
                  <a:lnTo>
                    <a:pt x="43288" y="230436"/>
                  </a:lnTo>
                  <a:lnTo>
                    <a:pt x="44734" y="234984"/>
                  </a:lnTo>
                  <a:lnTo>
                    <a:pt x="46690" y="239007"/>
                  </a:lnTo>
                  <a:lnTo>
                    <a:pt x="50517" y="246124"/>
                  </a:lnTo>
                  <a:lnTo>
                    <a:pt x="52217" y="252594"/>
                  </a:lnTo>
                  <a:lnTo>
                    <a:pt x="53175" y="257074"/>
                  </a:lnTo>
                  <a:lnTo>
                    <a:pt x="56045" y="260768"/>
                  </a:lnTo>
                  <a:lnTo>
                    <a:pt x="62129" y="267473"/>
                  </a:lnTo>
                  <a:lnTo>
                    <a:pt x="64985" y="267705"/>
                  </a:lnTo>
                  <a:lnTo>
                    <a:pt x="71060" y="267879"/>
                  </a:lnTo>
                  <a:lnTo>
                    <a:pt x="73916" y="265240"/>
                  </a:lnTo>
                  <a:lnTo>
                    <a:pt x="76066" y="263147"/>
                  </a:lnTo>
                  <a:lnTo>
                    <a:pt x="77500" y="260759"/>
                  </a:lnTo>
                  <a:lnTo>
                    <a:pt x="79093" y="255460"/>
                  </a:lnTo>
                  <a:lnTo>
                    <a:pt x="79800" y="249798"/>
                  </a:lnTo>
                  <a:lnTo>
                    <a:pt x="79990" y="246900"/>
                  </a:lnTo>
                  <a:lnTo>
                    <a:pt x="81108" y="242982"/>
                  </a:lnTo>
                  <a:lnTo>
                    <a:pt x="82846" y="238386"/>
                  </a:lnTo>
                  <a:lnTo>
                    <a:pt x="84995" y="233338"/>
                  </a:lnTo>
                  <a:lnTo>
                    <a:pt x="87385" y="225083"/>
                  </a:lnTo>
                  <a:lnTo>
                    <a:pt x="89440" y="217115"/>
                  </a:lnTo>
                  <a:lnTo>
                    <a:pt x="91376" y="212212"/>
                  </a:lnTo>
                  <a:lnTo>
                    <a:pt x="93659" y="206959"/>
                  </a:lnTo>
                  <a:lnTo>
                    <a:pt x="95182" y="201472"/>
                  </a:lnTo>
                  <a:lnTo>
                    <a:pt x="96196" y="195831"/>
                  </a:lnTo>
                  <a:lnTo>
                    <a:pt x="96873" y="190085"/>
                  </a:lnTo>
                  <a:lnTo>
                    <a:pt x="97324" y="185262"/>
                  </a:lnTo>
                  <a:lnTo>
                    <a:pt x="97826" y="177258"/>
                  </a:lnTo>
                  <a:lnTo>
                    <a:pt x="98951" y="172742"/>
                  </a:lnTo>
                  <a:lnTo>
                    <a:pt x="100694" y="167747"/>
                  </a:lnTo>
                  <a:lnTo>
                    <a:pt x="102849" y="162433"/>
                  </a:lnTo>
                  <a:lnTo>
                    <a:pt x="104284" y="156906"/>
                  </a:lnTo>
                  <a:lnTo>
                    <a:pt x="105241" y="151237"/>
                  </a:lnTo>
                  <a:lnTo>
                    <a:pt x="105880" y="145473"/>
                  </a:lnTo>
                  <a:lnTo>
                    <a:pt x="107297" y="139646"/>
                  </a:lnTo>
                  <a:lnTo>
                    <a:pt x="109234" y="133777"/>
                  </a:lnTo>
                  <a:lnTo>
                    <a:pt x="111519" y="127880"/>
                  </a:lnTo>
                  <a:lnTo>
                    <a:pt x="113041" y="121964"/>
                  </a:lnTo>
                  <a:lnTo>
                    <a:pt x="114056" y="116036"/>
                  </a:lnTo>
                  <a:lnTo>
                    <a:pt x="114732" y="110099"/>
                  </a:lnTo>
                  <a:lnTo>
                    <a:pt x="115183" y="104157"/>
                  </a:lnTo>
                  <a:lnTo>
                    <a:pt x="115484" y="98212"/>
                  </a:lnTo>
                  <a:lnTo>
                    <a:pt x="115686" y="92263"/>
                  </a:lnTo>
                  <a:lnTo>
                    <a:pt x="116811" y="87305"/>
                  </a:lnTo>
                  <a:lnTo>
                    <a:pt x="120708" y="79151"/>
                  </a:lnTo>
                  <a:lnTo>
                    <a:pt x="122144" y="74596"/>
                  </a:lnTo>
                  <a:lnTo>
                    <a:pt x="123101" y="69574"/>
                  </a:lnTo>
                  <a:lnTo>
                    <a:pt x="123740" y="64242"/>
                  </a:lnTo>
                  <a:lnTo>
                    <a:pt x="124165" y="59695"/>
                  </a:lnTo>
                  <a:lnTo>
                    <a:pt x="124637" y="51997"/>
                  </a:lnTo>
                  <a:lnTo>
                    <a:pt x="124848" y="45268"/>
                  </a:lnTo>
                  <a:lnTo>
                    <a:pt x="125013" y="27322"/>
                  </a:lnTo>
                  <a:lnTo>
                    <a:pt x="125015" y="267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7" name="SMARTInkAnnotation39"/>
            <p:cNvSpPr/>
            <p:nvPr/>
          </p:nvSpPr>
          <p:spPr>
            <a:xfrm>
              <a:off x="6861240" y="3607920"/>
              <a:ext cx="102960" cy="1335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2959" h="133579">
                  <a:moveTo>
                    <a:pt x="5144" y="8562"/>
                  </a:moveTo>
                  <a:lnTo>
                    <a:pt x="0" y="8562"/>
                  </a:lnTo>
                  <a:lnTo>
                    <a:pt x="4271" y="8562"/>
                  </a:lnTo>
                  <a:lnTo>
                    <a:pt x="7402" y="5916"/>
                  </a:lnTo>
                  <a:lnTo>
                    <a:pt x="9626" y="3822"/>
                  </a:lnTo>
                  <a:lnTo>
                    <a:pt x="12102" y="2425"/>
                  </a:lnTo>
                  <a:lnTo>
                    <a:pt x="14744" y="1494"/>
                  </a:lnTo>
                  <a:lnTo>
                    <a:pt x="17498" y="874"/>
                  </a:lnTo>
                  <a:lnTo>
                    <a:pt x="20325" y="460"/>
                  </a:lnTo>
                  <a:lnTo>
                    <a:pt x="23203" y="184"/>
                  </a:lnTo>
                  <a:lnTo>
                    <a:pt x="26113" y="0"/>
                  </a:lnTo>
                  <a:lnTo>
                    <a:pt x="29046" y="869"/>
                  </a:lnTo>
                  <a:lnTo>
                    <a:pt x="31993" y="2441"/>
                  </a:lnTo>
                  <a:lnTo>
                    <a:pt x="34949" y="4482"/>
                  </a:lnTo>
                  <a:lnTo>
                    <a:pt x="37913" y="5842"/>
                  </a:lnTo>
                  <a:lnTo>
                    <a:pt x="40881" y="6748"/>
                  </a:lnTo>
                  <a:lnTo>
                    <a:pt x="43853" y="7353"/>
                  </a:lnTo>
                  <a:lnTo>
                    <a:pt x="46825" y="7756"/>
                  </a:lnTo>
                  <a:lnTo>
                    <a:pt x="49799" y="8024"/>
                  </a:lnTo>
                  <a:lnTo>
                    <a:pt x="52774" y="8204"/>
                  </a:lnTo>
                  <a:lnTo>
                    <a:pt x="55749" y="9315"/>
                  </a:lnTo>
                  <a:lnTo>
                    <a:pt x="58725" y="11048"/>
                  </a:lnTo>
                  <a:lnTo>
                    <a:pt x="61700" y="13196"/>
                  </a:lnTo>
                  <a:lnTo>
                    <a:pt x="64676" y="15620"/>
                  </a:lnTo>
                  <a:lnTo>
                    <a:pt x="67654" y="18228"/>
                  </a:lnTo>
                  <a:lnTo>
                    <a:pt x="70629" y="20959"/>
                  </a:lnTo>
                  <a:lnTo>
                    <a:pt x="76582" y="26640"/>
                  </a:lnTo>
                  <a:lnTo>
                    <a:pt x="79559" y="29544"/>
                  </a:lnTo>
                  <a:lnTo>
                    <a:pt x="82536" y="33464"/>
                  </a:lnTo>
                  <a:lnTo>
                    <a:pt x="85511" y="38062"/>
                  </a:lnTo>
                  <a:lnTo>
                    <a:pt x="88489" y="43111"/>
                  </a:lnTo>
                  <a:lnTo>
                    <a:pt x="90473" y="47470"/>
                  </a:lnTo>
                  <a:lnTo>
                    <a:pt x="91796" y="51368"/>
                  </a:lnTo>
                  <a:lnTo>
                    <a:pt x="92678" y="54958"/>
                  </a:lnTo>
                  <a:lnTo>
                    <a:pt x="94258" y="58345"/>
                  </a:lnTo>
                  <a:lnTo>
                    <a:pt x="96304" y="61594"/>
                  </a:lnTo>
                  <a:lnTo>
                    <a:pt x="98659" y="64753"/>
                  </a:lnTo>
                  <a:lnTo>
                    <a:pt x="100230" y="68843"/>
                  </a:lnTo>
                  <a:lnTo>
                    <a:pt x="101276" y="73554"/>
                  </a:lnTo>
                  <a:lnTo>
                    <a:pt x="101975" y="78679"/>
                  </a:lnTo>
                  <a:lnTo>
                    <a:pt x="102440" y="83088"/>
                  </a:lnTo>
                  <a:lnTo>
                    <a:pt x="102751" y="87020"/>
                  </a:lnTo>
                  <a:lnTo>
                    <a:pt x="102958" y="90633"/>
                  </a:lnTo>
                  <a:lnTo>
                    <a:pt x="102103" y="94034"/>
                  </a:lnTo>
                  <a:lnTo>
                    <a:pt x="100541" y="97293"/>
                  </a:lnTo>
                  <a:lnTo>
                    <a:pt x="98508" y="100458"/>
                  </a:lnTo>
                  <a:lnTo>
                    <a:pt x="97153" y="103560"/>
                  </a:lnTo>
                  <a:lnTo>
                    <a:pt x="96249" y="106621"/>
                  </a:lnTo>
                  <a:lnTo>
                    <a:pt x="95646" y="109653"/>
                  </a:lnTo>
                  <a:lnTo>
                    <a:pt x="94253" y="111675"/>
                  </a:lnTo>
                  <a:lnTo>
                    <a:pt x="92331" y="113023"/>
                  </a:lnTo>
                  <a:lnTo>
                    <a:pt x="90058" y="113921"/>
                  </a:lnTo>
                  <a:lnTo>
                    <a:pt x="87550" y="115513"/>
                  </a:lnTo>
                  <a:lnTo>
                    <a:pt x="84887" y="117565"/>
                  </a:lnTo>
                  <a:lnTo>
                    <a:pt x="82119" y="119926"/>
                  </a:lnTo>
                  <a:lnTo>
                    <a:pt x="79281" y="121500"/>
                  </a:lnTo>
                  <a:lnTo>
                    <a:pt x="76396" y="122550"/>
                  </a:lnTo>
                  <a:lnTo>
                    <a:pt x="73482" y="123249"/>
                  </a:lnTo>
                  <a:lnTo>
                    <a:pt x="70547" y="123716"/>
                  </a:lnTo>
                  <a:lnTo>
                    <a:pt x="67599" y="124026"/>
                  </a:lnTo>
                  <a:lnTo>
                    <a:pt x="64640" y="124234"/>
                  </a:lnTo>
                  <a:lnTo>
                    <a:pt x="61676" y="123379"/>
                  </a:lnTo>
                  <a:lnTo>
                    <a:pt x="58708" y="121818"/>
                  </a:lnTo>
                  <a:lnTo>
                    <a:pt x="55735" y="119785"/>
                  </a:lnTo>
                  <a:lnTo>
                    <a:pt x="52762" y="118429"/>
                  </a:lnTo>
                  <a:lnTo>
                    <a:pt x="49788" y="117526"/>
                  </a:lnTo>
                  <a:lnTo>
                    <a:pt x="46813" y="116923"/>
                  </a:lnTo>
                  <a:lnTo>
                    <a:pt x="43838" y="115529"/>
                  </a:lnTo>
                  <a:lnTo>
                    <a:pt x="40862" y="113608"/>
                  </a:lnTo>
                  <a:lnTo>
                    <a:pt x="33697" y="108136"/>
                  </a:lnTo>
                  <a:lnTo>
                    <a:pt x="32118" y="106694"/>
                  </a:lnTo>
                  <a:lnTo>
                    <a:pt x="23418" y="98262"/>
                  </a:lnTo>
                  <a:lnTo>
                    <a:pt x="25834" y="95392"/>
                  </a:lnTo>
                  <a:lnTo>
                    <a:pt x="31577" y="89307"/>
                  </a:lnTo>
                  <a:lnTo>
                    <a:pt x="34421" y="89097"/>
                  </a:lnTo>
                  <a:lnTo>
                    <a:pt x="36569" y="89041"/>
                  </a:lnTo>
                  <a:lnTo>
                    <a:pt x="38992" y="89996"/>
                  </a:lnTo>
                  <a:lnTo>
                    <a:pt x="41600" y="91625"/>
                  </a:lnTo>
                  <a:lnTo>
                    <a:pt x="48176" y="96627"/>
                  </a:lnTo>
                  <a:lnTo>
                    <a:pt x="49707" y="98031"/>
                  </a:lnTo>
                  <a:lnTo>
                    <a:pt x="54054" y="102235"/>
                  </a:lnTo>
                  <a:lnTo>
                    <a:pt x="85511" y="1335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8" name="SMARTInkAnnotation40"/>
            <p:cNvSpPr/>
            <p:nvPr/>
          </p:nvSpPr>
          <p:spPr>
            <a:xfrm>
              <a:off x="6866640" y="3921480"/>
              <a:ext cx="88560" cy="1861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88818" h="186250">
                  <a:moveTo>
                    <a:pt x="80254" y="52303"/>
                  </a:moveTo>
                  <a:lnTo>
                    <a:pt x="80254" y="44615"/>
                  </a:lnTo>
                  <a:lnTo>
                    <a:pt x="81247" y="44201"/>
                  </a:lnTo>
                  <a:lnTo>
                    <a:pt x="82901" y="43926"/>
                  </a:lnTo>
                  <a:lnTo>
                    <a:pt x="84994" y="43741"/>
                  </a:lnTo>
                  <a:lnTo>
                    <a:pt x="86392" y="42627"/>
                  </a:lnTo>
                  <a:lnTo>
                    <a:pt x="87323" y="40892"/>
                  </a:lnTo>
                  <a:lnTo>
                    <a:pt x="88817" y="35717"/>
                  </a:lnTo>
                  <a:lnTo>
                    <a:pt x="86375" y="32364"/>
                  </a:lnTo>
                  <a:lnTo>
                    <a:pt x="84335" y="30081"/>
                  </a:lnTo>
                  <a:lnTo>
                    <a:pt x="82975" y="27567"/>
                  </a:lnTo>
                  <a:lnTo>
                    <a:pt x="81464" y="22127"/>
                  </a:lnTo>
                  <a:lnTo>
                    <a:pt x="80613" y="18227"/>
                  </a:lnTo>
                  <a:lnTo>
                    <a:pt x="79502" y="17679"/>
                  </a:lnTo>
                  <a:lnTo>
                    <a:pt x="77768" y="17314"/>
                  </a:lnTo>
                  <a:lnTo>
                    <a:pt x="75621" y="17071"/>
                  </a:lnTo>
                  <a:lnTo>
                    <a:pt x="74188" y="15917"/>
                  </a:lnTo>
                  <a:lnTo>
                    <a:pt x="73234" y="14155"/>
                  </a:lnTo>
                  <a:lnTo>
                    <a:pt x="72597" y="11988"/>
                  </a:lnTo>
                  <a:lnTo>
                    <a:pt x="71181" y="10544"/>
                  </a:lnTo>
                  <a:lnTo>
                    <a:pt x="69245" y="9581"/>
                  </a:lnTo>
                  <a:lnTo>
                    <a:pt x="66961" y="8939"/>
                  </a:lnTo>
                  <a:lnTo>
                    <a:pt x="64447" y="8511"/>
                  </a:lnTo>
                  <a:lnTo>
                    <a:pt x="61779" y="8226"/>
                  </a:lnTo>
                  <a:lnTo>
                    <a:pt x="59008" y="8036"/>
                  </a:lnTo>
                  <a:lnTo>
                    <a:pt x="56168" y="6916"/>
                  </a:lnTo>
                  <a:lnTo>
                    <a:pt x="53283" y="5178"/>
                  </a:lnTo>
                  <a:lnTo>
                    <a:pt x="50368" y="3027"/>
                  </a:lnTo>
                  <a:lnTo>
                    <a:pt x="47432" y="1593"/>
                  </a:lnTo>
                  <a:lnTo>
                    <a:pt x="44482" y="637"/>
                  </a:lnTo>
                  <a:lnTo>
                    <a:pt x="41523" y="0"/>
                  </a:lnTo>
                  <a:lnTo>
                    <a:pt x="39551" y="567"/>
                  </a:lnTo>
                  <a:lnTo>
                    <a:pt x="38236" y="1938"/>
                  </a:lnTo>
                  <a:lnTo>
                    <a:pt x="37360" y="3844"/>
                  </a:lnTo>
                  <a:lnTo>
                    <a:pt x="35783" y="5114"/>
                  </a:lnTo>
                  <a:lnTo>
                    <a:pt x="33740" y="5961"/>
                  </a:lnTo>
                  <a:lnTo>
                    <a:pt x="31385" y="6526"/>
                  </a:lnTo>
                  <a:lnTo>
                    <a:pt x="28823" y="6902"/>
                  </a:lnTo>
                  <a:lnTo>
                    <a:pt x="26123" y="7153"/>
                  </a:lnTo>
                  <a:lnTo>
                    <a:pt x="23331" y="7320"/>
                  </a:lnTo>
                  <a:lnTo>
                    <a:pt x="21470" y="8424"/>
                  </a:lnTo>
                  <a:lnTo>
                    <a:pt x="20229" y="10153"/>
                  </a:lnTo>
                  <a:lnTo>
                    <a:pt x="19402" y="12296"/>
                  </a:lnTo>
                  <a:lnTo>
                    <a:pt x="17857" y="14718"/>
                  </a:lnTo>
                  <a:lnTo>
                    <a:pt x="15837" y="17325"/>
                  </a:lnTo>
                  <a:lnTo>
                    <a:pt x="13496" y="20055"/>
                  </a:lnTo>
                  <a:lnTo>
                    <a:pt x="11937" y="22866"/>
                  </a:lnTo>
                  <a:lnTo>
                    <a:pt x="10204" y="28637"/>
                  </a:lnTo>
                  <a:lnTo>
                    <a:pt x="9742" y="31565"/>
                  </a:lnTo>
                  <a:lnTo>
                    <a:pt x="9434" y="34509"/>
                  </a:lnTo>
                  <a:lnTo>
                    <a:pt x="9228" y="37464"/>
                  </a:lnTo>
                  <a:lnTo>
                    <a:pt x="8099" y="40426"/>
                  </a:lnTo>
                  <a:lnTo>
                    <a:pt x="6355" y="43393"/>
                  </a:lnTo>
                  <a:lnTo>
                    <a:pt x="4199" y="46363"/>
                  </a:lnTo>
                  <a:lnTo>
                    <a:pt x="2761" y="49335"/>
                  </a:lnTo>
                  <a:lnTo>
                    <a:pt x="1804" y="52309"/>
                  </a:lnTo>
                  <a:lnTo>
                    <a:pt x="1165" y="55284"/>
                  </a:lnTo>
                  <a:lnTo>
                    <a:pt x="739" y="58259"/>
                  </a:lnTo>
                  <a:lnTo>
                    <a:pt x="456" y="61235"/>
                  </a:lnTo>
                  <a:lnTo>
                    <a:pt x="267" y="64211"/>
                  </a:lnTo>
                  <a:lnTo>
                    <a:pt x="56" y="72810"/>
                  </a:lnTo>
                  <a:lnTo>
                    <a:pt x="0" y="77880"/>
                  </a:lnTo>
                  <a:lnTo>
                    <a:pt x="955" y="82254"/>
                  </a:lnTo>
                  <a:lnTo>
                    <a:pt x="2583" y="86160"/>
                  </a:lnTo>
                  <a:lnTo>
                    <a:pt x="4661" y="89758"/>
                  </a:lnTo>
                  <a:lnTo>
                    <a:pt x="6047" y="93148"/>
                  </a:lnTo>
                  <a:lnTo>
                    <a:pt x="6970" y="96400"/>
                  </a:lnTo>
                  <a:lnTo>
                    <a:pt x="7585" y="99561"/>
                  </a:lnTo>
                  <a:lnTo>
                    <a:pt x="8988" y="103652"/>
                  </a:lnTo>
                  <a:lnTo>
                    <a:pt x="10916" y="108364"/>
                  </a:lnTo>
                  <a:lnTo>
                    <a:pt x="13193" y="113490"/>
                  </a:lnTo>
                  <a:lnTo>
                    <a:pt x="14711" y="117899"/>
                  </a:lnTo>
                  <a:lnTo>
                    <a:pt x="15723" y="121831"/>
                  </a:lnTo>
                  <a:lnTo>
                    <a:pt x="16398" y="125444"/>
                  </a:lnTo>
                  <a:lnTo>
                    <a:pt x="17840" y="128845"/>
                  </a:lnTo>
                  <a:lnTo>
                    <a:pt x="19793" y="132105"/>
                  </a:lnTo>
                  <a:lnTo>
                    <a:pt x="22087" y="135270"/>
                  </a:lnTo>
                  <a:lnTo>
                    <a:pt x="24610" y="138372"/>
                  </a:lnTo>
                  <a:lnTo>
                    <a:pt x="27283" y="141433"/>
                  </a:lnTo>
                  <a:lnTo>
                    <a:pt x="30057" y="144465"/>
                  </a:lnTo>
                  <a:lnTo>
                    <a:pt x="35786" y="150480"/>
                  </a:lnTo>
                  <a:lnTo>
                    <a:pt x="47549" y="162427"/>
                  </a:lnTo>
                  <a:lnTo>
                    <a:pt x="49521" y="165407"/>
                  </a:lnTo>
                  <a:lnTo>
                    <a:pt x="50836" y="168385"/>
                  </a:lnTo>
                  <a:lnTo>
                    <a:pt x="51713" y="171364"/>
                  </a:lnTo>
                  <a:lnTo>
                    <a:pt x="53289" y="173349"/>
                  </a:lnTo>
                  <a:lnTo>
                    <a:pt x="55333" y="174672"/>
                  </a:lnTo>
                  <a:lnTo>
                    <a:pt x="61000" y="176797"/>
                  </a:lnTo>
                  <a:lnTo>
                    <a:pt x="61466" y="177963"/>
                  </a:lnTo>
                  <a:lnTo>
                    <a:pt x="62120" y="183353"/>
                  </a:lnTo>
                  <a:lnTo>
                    <a:pt x="62395" y="1862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9" name="SMARTInkAnnotation41"/>
            <p:cNvSpPr/>
            <p:nvPr/>
          </p:nvSpPr>
          <p:spPr>
            <a:xfrm>
              <a:off x="6821640" y="3991680"/>
              <a:ext cx="133920" cy="86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133946" h="8931">
                  <a:moveTo>
                    <a:pt x="0" y="0"/>
                  </a:moveTo>
                  <a:lnTo>
                    <a:pt x="65486" y="0"/>
                  </a:lnTo>
                  <a:lnTo>
                    <a:pt x="68461" y="992"/>
                  </a:lnTo>
                  <a:lnTo>
                    <a:pt x="71439" y="2646"/>
                  </a:lnTo>
                  <a:lnTo>
                    <a:pt x="74415" y="4741"/>
                  </a:lnTo>
                  <a:lnTo>
                    <a:pt x="77391" y="6137"/>
                  </a:lnTo>
                  <a:lnTo>
                    <a:pt x="80367" y="7068"/>
                  </a:lnTo>
                  <a:lnTo>
                    <a:pt x="83343" y="7688"/>
                  </a:lnTo>
                  <a:lnTo>
                    <a:pt x="87312" y="8102"/>
                  </a:lnTo>
                  <a:lnTo>
                    <a:pt x="91943" y="8378"/>
                  </a:lnTo>
                  <a:lnTo>
                    <a:pt x="101387" y="8685"/>
                  </a:lnTo>
                  <a:lnTo>
                    <a:pt x="115535" y="8881"/>
                  </a:lnTo>
                  <a:lnTo>
                    <a:pt x="133945" y="89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0" name="SMARTInkAnnotation42"/>
            <p:cNvSpPr/>
            <p:nvPr/>
          </p:nvSpPr>
          <p:spPr>
            <a:xfrm>
              <a:off x="7071840" y="3866760"/>
              <a:ext cx="187560" cy="176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7524" h="17860">
                  <a:moveTo>
                    <a:pt x="0" y="17859"/>
                  </a:moveTo>
                  <a:lnTo>
                    <a:pt x="0" y="10170"/>
                  </a:lnTo>
                  <a:lnTo>
                    <a:pt x="992" y="9756"/>
                  </a:lnTo>
                  <a:lnTo>
                    <a:pt x="4740" y="9297"/>
                  </a:lnTo>
                  <a:lnTo>
                    <a:pt x="7689" y="9038"/>
                  </a:lnTo>
                  <a:lnTo>
                    <a:pt x="9095" y="8010"/>
                  </a:lnTo>
                  <a:lnTo>
                    <a:pt x="11024" y="6331"/>
                  </a:lnTo>
                  <a:lnTo>
                    <a:pt x="13303" y="4221"/>
                  </a:lnTo>
                  <a:lnTo>
                    <a:pt x="15815" y="2813"/>
                  </a:lnTo>
                  <a:lnTo>
                    <a:pt x="18480" y="1875"/>
                  </a:lnTo>
                  <a:lnTo>
                    <a:pt x="21250" y="1250"/>
                  </a:lnTo>
                  <a:lnTo>
                    <a:pt x="24088" y="833"/>
                  </a:lnTo>
                  <a:lnTo>
                    <a:pt x="29889" y="370"/>
                  </a:lnTo>
                  <a:lnTo>
                    <a:pt x="35774" y="164"/>
                  </a:lnTo>
                  <a:lnTo>
                    <a:pt x="47310" y="48"/>
                  </a:lnTo>
                  <a:lnTo>
                    <a:pt x="108492" y="0"/>
                  </a:lnTo>
                  <a:lnTo>
                    <a:pt x="113008" y="992"/>
                  </a:lnTo>
                  <a:lnTo>
                    <a:pt x="118003" y="2645"/>
                  </a:lnTo>
                  <a:lnTo>
                    <a:pt x="123317" y="4740"/>
                  </a:lnTo>
                  <a:lnTo>
                    <a:pt x="127852" y="6136"/>
                  </a:lnTo>
                  <a:lnTo>
                    <a:pt x="131868" y="7067"/>
                  </a:lnTo>
                  <a:lnTo>
                    <a:pt x="135537" y="7687"/>
                  </a:lnTo>
                  <a:lnTo>
                    <a:pt x="138975" y="8102"/>
                  </a:lnTo>
                  <a:lnTo>
                    <a:pt x="142260" y="8377"/>
                  </a:lnTo>
                  <a:lnTo>
                    <a:pt x="145442" y="8561"/>
                  </a:lnTo>
                  <a:lnTo>
                    <a:pt x="151623" y="8766"/>
                  </a:lnTo>
                  <a:lnTo>
                    <a:pt x="163675" y="8896"/>
                  </a:lnTo>
                  <a:lnTo>
                    <a:pt x="187523" y="89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1" name="SMARTInkAnnotation43"/>
            <p:cNvSpPr/>
            <p:nvPr/>
          </p:nvSpPr>
          <p:spPr>
            <a:xfrm>
              <a:off x="7375320" y="3553920"/>
              <a:ext cx="26640" cy="330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6790" h="330400">
                  <a:moveTo>
                    <a:pt x="0" y="0"/>
                  </a:moveTo>
                  <a:lnTo>
                    <a:pt x="0" y="28938"/>
                  </a:lnTo>
                  <a:lnTo>
                    <a:pt x="993" y="33183"/>
                  </a:lnTo>
                  <a:lnTo>
                    <a:pt x="2647" y="37997"/>
                  </a:lnTo>
                  <a:lnTo>
                    <a:pt x="4740" y="43191"/>
                  </a:lnTo>
                  <a:lnTo>
                    <a:pt x="6138" y="47646"/>
                  </a:lnTo>
                  <a:lnTo>
                    <a:pt x="7069" y="51607"/>
                  </a:lnTo>
                  <a:lnTo>
                    <a:pt x="7689" y="55241"/>
                  </a:lnTo>
                  <a:lnTo>
                    <a:pt x="9095" y="60640"/>
                  </a:lnTo>
                  <a:lnTo>
                    <a:pt x="11025" y="67216"/>
                  </a:lnTo>
                  <a:lnTo>
                    <a:pt x="13303" y="74576"/>
                  </a:lnTo>
                  <a:lnTo>
                    <a:pt x="14822" y="81468"/>
                  </a:lnTo>
                  <a:lnTo>
                    <a:pt x="15835" y="88046"/>
                  </a:lnTo>
                  <a:lnTo>
                    <a:pt x="16510" y="94416"/>
                  </a:lnTo>
                  <a:lnTo>
                    <a:pt x="16961" y="100647"/>
                  </a:lnTo>
                  <a:lnTo>
                    <a:pt x="17261" y="106786"/>
                  </a:lnTo>
                  <a:lnTo>
                    <a:pt x="17593" y="119890"/>
                  </a:lnTo>
                  <a:lnTo>
                    <a:pt x="17742" y="135636"/>
                  </a:lnTo>
                  <a:lnTo>
                    <a:pt x="18773" y="143010"/>
                  </a:lnTo>
                  <a:lnTo>
                    <a:pt x="20453" y="149910"/>
                  </a:lnTo>
                  <a:lnTo>
                    <a:pt x="22565" y="156495"/>
                  </a:lnTo>
                  <a:lnTo>
                    <a:pt x="23973" y="163861"/>
                  </a:lnTo>
                  <a:lnTo>
                    <a:pt x="24913" y="171749"/>
                  </a:lnTo>
                  <a:lnTo>
                    <a:pt x="25538" y="179983"/>
                  </a:lnTo>
                  <a:lnTo>
                    <a:pt x="25955" y="188450"/>
                  </a:lnTo>
                  <a:lnTo>
                    <a:pt x="26419" y="205795"/>
                  </a:lnTo>
                  <a:lnTo>
                    <a:pt x="26789" y="3303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2" name="SMARTInkAnnotation44"/>
            <p:cNvSpPr/>
            <p:nvPr/>
          </p:nvSpPr>
          <p:spPr>
            <a:xfrm>
              <a:off x="7232760" y="3687840"/>
              <a:ext cx="330120" cy="5626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62680"/>
                <a:gd name="textAreaBottom" fmla="*/ 563040 h 562680"/>
              </a:gdLst>
              <a:ahLst/>
              <a:rect l="textAreaLeft" t="textAreaTop" r="textAreaRight" b="textAreaBottom"/>
              <a:pathLst>
                <a:path w="330400" h="562572">
                  <a:moveTo>
                    <a:pt x="330399" y="0"/>
                  </a:moveTo>
                  <a:lnTo>
                    <a:pt x="325659" y="4741"/>
                  </a:lnTo>
                  <a:lnTo>
                    <a:pt x="324262" y="7130"/>
                  </a:lnTo>
                  <a:lnTo>
                    <a:pt x="319375" y="20738"/>
                  </a:lnTo>
                  <a:lnTo>
                    <a:pt x="311919" y="36572"/>
                  </a:lnTo>
                  <a:lnTo>
                    <a:pt x="300510" y="59700"/>
                  </a:lnTo>
                  <a:lnTo>
                    <a:pt x="291979" y="71513"/>
                  </a:lnTo>
                  <a:lnTo>
                    <a:pt x="282565" y="84370"/>
                  </a:lnTo>
                  <a:lnTo>
                    <a:pt x="275075" y="100006"/>
                  </a:lnTo>
                  <a:lnTo>
                    <a:pt x="265792" y="114231"/>
                  </a:lnTo>
                  <a:lnTo>
                    <a:pt x="260539" y="120803"/>
                  </a:lnTo>
                  <a:lnTo>
                    <a:pt x="255052" y="128160"/>
                  </a:lnTo>
                  <a:lnTo>
                    <a:pt x="243664" y="144273"/>
                  </a:lnTo>
                  <a:lnTo>
                    <a:pt x="208323" y="196576"/>
                  </a:lnTo>
                  <a:lnTo>
                    <a:pt x="202383" y="206457"/>
                  </a:lnTo>
                  <a:lnTo>
                    <a:pt x="196438" y="217014"/>
                  </a:lnTo>
                  <a:lnTo>
                    <a:pt x="190490" y="228019"/>
                  </a:lnTo>
                  <a:lnTo>
                    <a:pt x="184540" y="238334"/>
                  </a:lnTo>
                  <a:lnTo>
                    <a:pt x="178589" y="248186"/>
                  </a:lnTo>
                  <a:lnTo>
                    <a:pt x="166686" y="267071"/>
                  </a:lnTo>
                  <a:lnTo>
                    <a:pt x="154781" y="285386"/>
                  </a:lnTo>
                  <a:lnTo>
                    <a:pt x="148828" y="295430"/>
                  </a:lnTo>
                  <a:lnTo>
                    <a:pt x="142875" y="306094"/>
                  </a:lnTo>
                  <a:lnTo>
                    <a:pt x="136921" y="317172"/>
                  </a:lnTo>
                  <a:lnTo>
                    <a:pt x="130969" y="327534"/>
                  </a:lnTo>
                  <a:lnTo>
                    <a:pt x="125016" y="337419"/>
                  </a:lnTo>
                  <a:lnTo>
                    <a:pt x="119062" y="346985"/>
                  </a:lnTo>
                  <a:lnTo>
                    <a:pt x="113111" y="357331"/>
                  </a:lnTo>
                  <a:lnTo>
                    <a:pt x="101203" y="379410"/>
                  </a:lnTo>
                  <a:lnTo>
                    <a:pt x="83343" y="414153"/>
                  </a:lnTo>
                  <a:lnTo>
                    <a:pt x="77392" y="424931"/>
                  </a:lnTo>
                  <a:lnTo>
                    <a:pt x="71438" y="435092"/>
                  </a:lnTo>
                  <a:lnTo>
                    <a:pt x="65484" y="444843"/>
                  </a:lnTo>
                  <a:lnTo>
                    <a:pt x="60524" y="454320"/>
                  </a:lnTo>
                  <a:lnTo>
                    <a:pt x="56225" y="463615"/>
                  </a:lnTo>
                  <a:lnTo>
                    <a:pt x="52366" y="472787"/>
                  </a:lnTo>
                  <a:lnTo>
                    <a:pt x="47809" y="481880"/>
                  </a:lnTo>
                  <a:lnTo>
                    <a:pt x="42788" y="490917"/>
                  </a:lnTo>
                  <a:lnTo>
                    <a:pt x="32908" y="507905"/>
                  </a:lnTo>
                  <a:lnTo>
                    <a:pt x="25209" y="522069"/>
                  </a:lnTo>
                  <a:lnTo>
                    <a:pt x="15297" y="541200"/>
                  </a:lnTo>
                  <a:lnTo>
                    <a:pt x="6077" y="554695"/>
                  </a:lnTo>
                  <a:lnTo>
                    <a:pt x="0" y="5625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3" name="SMARTInkAnnotation45"/>
            <p:cNvSpPr/>
            <p:nvPr/>
          </p:nvSpPr>
          <p:spPr>
            <a:xfrm>
              <a:off x="7402680" y="3947400"/>
              <a:ext cx="113760" cy="2404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13909" h="240626">
                  <a:moveTo>
                    <a:pt x="8516" y="17383"/>
                  </a:moveTo>
                  <a:lnTo>
                    <a:pt x="24767" y="1132"/>
                  </a:lnTo>
                  <a:lnTo>
                    <a:pt x="26294" y="596"/>
                  </a:lnTo>
                  <a:lnTo>
                    <a:pt x="28306" y="238"/>
                  </a:lnTo>
                  <a:lnTo>
                    <a:pt x="30639" y="0"/>
                  </a:lnTo>
                  <a:lnTo>
                    <a:pt x="34179" y="833"/>
                  </a:lnTo>
                  <a:lnTo>
                    <a:pt x="38524" y="2381"/>
                  </a:lnTo>
                  <a:lnTo>
                    <a:pt x="43404" y="4405"/>
                  </a:lnTo>
                  <a:lnTo>
                    <a:pt x="47650" y="5754"/>
                  </a:lnTo>
                  <a:lnTo>
                    <a:pt x="51472" y="6654"/>
                  </a:lnTo>
                  <a:lnTo>
                    <a:pt x="55013" y="7254"/>
                  </a:lnTo>
                  <a:lnTo>
                    <a:pt x="58366" y="8645"/>
                  </a:lnTo>
                  <a:lnTo>
                    <a:pt x="61594" y="10566"/>
                  </a:lnTo>
                  <a:lnTo>
                    <a:pt x="64737" y="12838"/>
                  </a:lnTo>
                  <a:lnTo>
                    <a:pt x="67825" y="15345"/>
                  </a:lnTo>
                  <a:lnTo>
                    <a:pt x="70876" y="18009"/>
                  </a:lnTo>
                  <a:lnTo>
                    <a:pt x="73902" y="20777"/>
                  </a:lnTo>
                  <a:lnTo>
                    <a:pt x="76910" y="24606"/>
                  </a:lnTo>
                  <a:lnTo>
                    <a:pt x="79909" y="29144"/>
                  </a:lnTo>
                  <a:lnTo>
                    <a:pt x="82901" y="34153"/>
                  </a:lnTo>
                  <a:lnTo>
                    <a:pt x="85887" y="38485"/>
                  </a:lnTo>
                  <a:lnTo>
                    <a:pt x="88870" y="42365"/>
                  </a:lnTo>
                  <a:lnTo>
                    <a:pt x="91851" y="45943"/>
                  </a:lnTo>
                  <a:lnTo>
                    <a:pt x="94831" y="50314"/>
                  </a:lnTo>
                  <a:lnTo>
                    <a:pt x="97809" y="55212"/>
                  </a:lnTo>
                  <a:lnTo>
                    <a:pt x="100787" y="60462"/>
                  </a:lnTo>
                  <a:lnTo>
                    <a:pt x="106742" y="71586"/>
                  </a:lnTo>
                  <a:lnTo>
                    <a:pt x="109718" y="77331"/>
                  </a:lnTo>
                  <a:lnTo>
                    <a:pt x="111704" y="83145"/>
                  </a:lnTo>
                  <a:lnTo>
                    <a:pt x="113027" y="89006"/>
                  </a:lnTo>
                  <a:lnTo>
                    <a:pt x="113908" y="94897"/>
                  </a:lnTo>
                  <a:lnTo>
                    <a:pt x="113504" y="100809"/>
                  </a:lnTo>
                  <a:lnTo>
                    <a:pt x="112242" y="106735"/>
                  </a:lnTo>
                  <a:lnTo>
                    <a:pt x="110409" y="112670"/>
                  </a:lnTo>
                  <a:lnTo>
                    <a:pt x="109187" y="118610"/>
                  </a:lnTo>
                  <a:lnTo>
                    <a:pt x="108373" y="124556"/>
                  </a:lnTo>
                  <a:lnTo>
                    <a:pt x="107829" y="130503"/>
                  </a:lnTo>
                  <a:lnTo>
                    <a:pt x="106475" y="136453"/>
                  </a:lnTo>
                  <a:lnTo>
                    <a:pt x="104579" y="142403"/>
                  </a:lnTo>
                  <a:lnTo>
                    <a:pt x="102324" y="148355"/>
                  </a:lnTo>
                  <a:lnTo>
                    <a:pt x="99828" y="154307"/>
                  </a:lnTo>
                  <a:lnTo>
                    <a:pt x="97172" y="160259"/>
                  </a:lnTo>
                  <a:lnTo>
                    <a:pt x="94410" y="166212"/>
                  </a:lnTo>
                  <a:lnTo>
                    <a:pt x="91575" y="171173"/>
                  </a:lnTo>
                  <a:lnTo>
                    <a:pt x="88693" y="175472"/>
                  </a:lnTo>
                  <a:lnTo>
                    <a:pt x="85780" y="179330"/>
                  </a:lnTo>
                  <a:lnTo>
                    <a:pt x="82846" y="183887"/>
                  </a:lnTo>
                  <a:lnTo>
                    <a:pt x="79898" y="188909"/>
                  </a:lnTo>
                  <a:lnTo>
                    <a:pt x="76940" y="194242"/>
                  </a:lnTo>
                  <a:lnTo>
                    <a:pt x="73976" y="197797"/>
                  </a:lnTo>
                  <a:lnTo>
                    <a:pt x="71008" y="200166"/>
                  </a:lnTo>
                  <a:lnTo>
                    <a:pt x="64072" y="203792"/>
                  </a:lnTo>
                  <a:lnTo>
                    <a:pt x="54374" y="208710"/>
                  </a:lnTo>
                  <a:lnTo>
                    <a:pt x="50003" y="210419"/>
                  </a:lnTo>
                  <a:lnTo>
                    <a:pt x="46094" y="211558"/>
                  </a:lnTo>
                  <a:lnTo>
                    <a:pt x="42499" y="212317"/>
                  </a:lnTo>
                  <a:lnTo>
                    <a:pt x="39108" y="212824"/>
                  </a:lnTo>
                  <a:lnTo>
                    <a:pt x="35857" y="213161"/>
                  </a:lnTo>
                  <a:lnTo>
                    <a:pt x="32697" y="213386"/>
                  </a:lnTo>
                  <a:lnTo>
                    <a:pt x="29598" y="213536"/>
                  </a:lnTo>
                  <a:lnTo>
                    <a:pt x="23507" y="213703"/>
                  </a:lnTo>
                  <a:lnTo>
                    <a:pt x="20494" y="212755"/>
                  </a:lnTo>
                  <a:lnTo>
                    <a:pt x="17495" y="211131"/>
                  </a:lnTo>
                  <a:lnTo>
                    <a:pt x="10290" y="206136"/>
                  </a:lnTo>
                  <a:lnTo>
                    <a:pt x="8707" y="204734"/>
                  </a:lnTo>
                  <a:lnTo>
                    <a:pt x="4301" y="200530"/>
                  </a:lnTo>
                  <a:lnTo>
                    <a:pt x="2729" y="198021"/>
                  </a:lnTo>
                  <a:lnTo>
                    <a:pt x="983" y="192586"/>
                  </a:lnTo>
                  <a:lnTo>
                    <a:pt x="207" y="186863"/>
                  </a:lnTo>
                  <a:lnTo>
                    <a:pt x="0" y="183948"/>
                  </a:lnTo>
                  <a:lnTo>
                    <a:pt x="855" y="181012"/>
                  </a:lnTo>
                  <a:lnTo>
                    <a:pt x="2416" y="178062"/>
                  </a:lnTo>
                  <a:lnTo>
                    <a:pt x="8159" y="169707"/>
                  </a:lnTo>
                  <a:lnTo>
                    <a:pt x="11004" y="169418"/>
                  </a:lnTo>
                  <a:lnTo>
                    <a:pt x="13151" y="169341"/>
                  </a:lnTo>
                  <a:lnTo>
                    <a:pt x="24757" y="169201"/>
                  </a:lnTo>
                  <a:lnTo>
                    <a:pt x="28303" y="171840"/>
                  </a:lnTo>
                  <a:lnTo>
                    <a:pt x="30636" y="173932"/>
                  </a:lnTo>
                  <a:lnTo>
                    <a:pt x="33184" y="175327"/>
                  </a:lnTo>
                  <a:lnTo>
                    <a:pt x="35876" y="176258"/>
                  </a:lnTo>
                  <a:lnTo>
                    <a:pt x="38662" y="176877"/>
                  </a:lnTo>
                  <a:lnTo>
                    <a:pt x="41512" y="178283"/>
                  </a:lnTo>
                  <a:lnTo>
                    <a:pt x="44404" y="180212"/>
                  </a:lnTo>
                  <a:lnTo>
                    <a:pt x="47325" y="182491"/>
                  </a:lnTo>
                  <a:lnTo>
                    <a:pt x="50264" y="185002"/>
                  </a:lnTo>
                  <a:lnTo>
                    <a:pt x="53215" y="187667"/>
                  </a:lnTo>
                  <a:lnTo>
                    <a:pt x="59139" y="193276"/>
                  </a:lnTo>
                  <a:lnTo>
                    <a:pt x="85908" y="219796"/>
                  </a:lnTo>
                  <a:lnTo>
                    <a:pt x="106743" y="2406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4" name="SMARTInkAnnotation46"/>
            <p:cNvSpPr/>
            <p:nvPr/>
          </p:nvSpPr>
          <p:spPr>
            <a:xfrm>
              <a:off x="7598880" y="3875760"/>
              <a:ext cx="178560" cy="2052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78594" h="205338">
                  <a:moveTo>
                    <a:pt x="0" y="8884"/>
                  </a:moveTo>
                  <a:lnTo>
                    <a:pt x="0" y="60044"/>
                  </a:lnTo>
                  <a:lnTo>
                    <a:pt x="992" y="65811"/>
                  </a:lnTo>
                  <a:lnTo>
                    <a:pt x="2646" y="71640"/>
                  </a:lnTo>
                  <a:lnTo>
                    <a:pt x="4740" y="77510"/>
                  </a:lnTo>
                  <a:lnTo>
                    <a:pt x="6137" y="82416"/>
                  </a:lnTo>
                  <a:lnTo>
                    <a:pt x="7068" y="86679"/>
                  </a:lnTo>
                  <a:lnTo>
                    <a:pt x="7688" y="90513"/>
                  </a:lnTo>
                  <a:lnTo>
                    <a:pt x="8102" y="95053"/>
                  </a:lnTo>
                  <a:lnTo>
                    <a:pt x="8378" y="100064"/>
                  </a:lnTo>
                  <a:lnTo>
                    <a:pt x="8684" y="110924"/>
                  </a:lnTo>
                  <a:lnTo>
                    <a:pt x="8897" y="135223"/>
                  </a:lnTo>
                  <a:lnTo>
                    <a:pt x="7915" y="139742"/>
                  </a:lnTo>
                  <a:lnTo>
                    <a:pt x="6270" y="144740"/>
                  </a:lnTo>
                  <a:lnTo>
                    <a:pt x="4180" y="150056"/>
                  </a:lnTo>
                  <a:lnTo>
                    <a:pt x="2785" y="154592"/>
                  </a:lnTo>
                  <a:lnTo>
                    <a:pt x="1858" y="158609"/>
                  </a:lnTo>
                  <a:lnTo>
                    <a:pt x="1238" y="162278"/>
                  </a:lnTo>
                  <a:lnTo>
                    <a:pt x="826" y="165717"/>
                  </a:lnTo>
                  <a:lnTo>
                    <a:pt x="551" y="169002"/>
                  </a:lnTo>
                  <a:lnTo>
                    <a:pt x="245" y="175297"/>
                  </a:lnTo>
                  <a:lnTo>
                    <a:pt x="109" y="181403"/>
                  </a:lnTo>
                  <a:lnTo>
                    <a:pt x="3" y="195881"/>
                  </a:lnTo>
                  <a:lnTo>
                    <a:pt x="1" y="188673"/>
                  </a:lnTo>
                  <a:lnTo>
                    <a:pt x="992" y="185298"/>
                  </a:lnTo>
                  <a:lnTo>
                    <a:pt x="4741" y="173610"/>
                  </a:lnTo>
                  <a:lnTo>
                    <a:pt x="6137" y="167318"/>
                  </a:lnTo>
                  <a:lnTo>
                    <a:pt x="7068" y="161139"/>
                  </a:lnTo>
                  <a:lnTo>
                    <a:pt x="7688" y="155036"/>
                  </a:lnTo>
                  <a:lnTo>
                    <a:pt x="8102" y="148983"/>
                  </a:lnTo>
                  <a:lnTo>
                    <a:pt x="8378" y="142963"/>
                  </a:lnTo>
                  <a:lnTo>
                    <a:pt x="8562" y="136965"/>
                  </a:lnTo>
                  <a:lnTo>
                    <a:pt x="9676" y="130982"/>
                  </a:lnTo>
                  <a:lnTo>
                    <a:pt x="11411" y="125009"/>
                  </a:lnTo>
                  <a:lnTo>
                    <a:pt x="13561" y="119043"/>
                  </a:lnTo>
                  <a:lnTo>
                    <a:pt x="14994" y="113081"/>
                  </a:lnTo>
                  <a:lnTo>
                    <a:pt x="15949" y="107122"/>
                  </a:lnTo>
                  <a:lnTo>
                    <a:pt x="16585" y="101165"/>
                  </a:lnTo>
                  <a:lnTo>
                    <a:pt x="17009" y="95209"/>
                  </a:lnTo>
                  <a:lnTo>
                    <a:pt x="17294" y="89255"/>
                  </a:lnTo>
                  <a:lnTo>
                    <a:pt x="17692" y="74038"/>
                  </a:lnTo>
                  <a:lnTo>
                    <a:pt x="17826" y="55268"/>
                  </a:lnTo>
                  <a:lnTo>
                    <a:pt x="18829" y="50720"/>
                  </a:lnTo>
                  <a:lnTo>
                    <a:pt x="20491" y="46696"/>
                  </a:lnTo>
                  <a:lnTo>
                    <a:pt x="22590" y="43022"/>
                  </a:lnTo>
                  <a:lnTo>
                    <a:pt x="23990" y="39580"/>
                  </a:lnTo>
                  <a:lnTo>
                    <a:pt x="24923" y="36293"/>
                  </a:lnTo>
                  <a:lnTo>
                    <a:pt x="25545" y="33110"/>
                  </a:lnTo>
                  <a:lnTo>
                    <a:pt x="28882" y="26927"/>
                  </a:lnTo>
                  <a:lnTo>
                    <a:pt x="33672" y="20872"/>
                  </a:lnTo>
                  <a:lnTo>
                    <a:pt x="39109" y="14873"/>
                  </a:lnTo>
                  <a:lnTo>
                    <a:pt x="40955" y="11885"/>
                  </a:lnTo>
                  <a:lnTo>
                    <a:pt x="43007" y="5917"/>
                  </a:lnTo>
                  <a:lnTo>
                    <a:pt x="44546" y="3930"/>
                  </a:lnTo>
                  <a:lnTo>
                    <a:pt x="46565" y="2604"/>
                  </a:lnTo>
                  <a:lnTo>
                    <a:pt x="52193" y="477"/>
                  </a:lnTo>
                  <a:lnTo>
                    <a:pt x="55608" y="186"/>
                  </a:lnTo>
                  <a:lnTo>
                    <a:pt x="61145" y="0"/>
                  </a:lnTo>
                  <a:lnTo>
                    <a:pt x="61600" y="976"/>
                  </a:lnTo>
                  <a:lnTo>
                    <a:pt x="62238" y="7092"/>
                  </a:lnTo>
                  <a:lnTo>
                    <a:pt x="62389" y="12387"/>
                  </a:lnTo>
                  <a:lnTo>
                    <a:pt x="63420" y="15188"/>
                  </a:lnTo>
                  <a:lnTo>
                    <a:pt x="67213" y="20946"/>
                  </a:lnTo>
                  <a:lnTo>
                    <a:pt x="68621" y="24863"/>
                  </a:lnTo>
                  <a:lnTo>
                    <a:pt x="69560" y="29458"/>
                  </a:lnTo>
                  <a:lnTo>
                    <a:pt x="70186" y="34506"/>
                  </a:lnTo>
                  <a:lnTo>
                    <a:pt x="70603" y="39856"/>
                  </a:lnTo>
                  <a:lnTo>
                    <a:pt x="70881" y="45407"/>
                  </a:lnTo>
                  <a:lnTo>
                    <a:pt x="71190" y="56866"/>
                  </a:lnTo>
                  <a:lnTo>
                    <a:pt x="71436" y="139670"/>
                  </a:lnTo>
                  <a:lnTo>
                    <a:pt x="71436" y="150024"/>
                  </a:lnTo>
                  <a:lnTo>
                    <a:pt x="70445" y="154571"/>
                  </a:lnTo>
                  <a:lnTo>
                    <a:pt x="68791" y="158595"/>
                  </a:lnTo>
                  <a:lnTo>
                    <a:pt x="66696" y="162269"/>
                  </a:lnTo>
                  <a:lnTo>
                    <a:pt x="65300" y="165711"/>
                  </a:lnTo>
                  <a:lnTo>
                    <a:pt x="64369" y="168998"/>
                  </a:lnTo>
                  <a:lnTo>
                    <a:pt x="62876" y="176661"/>
                  </a:lnTo>
                  <a:lnTo>
                    <a:pt x="62617" y="182730"/>
                  </a:lnTo>
                  <a:lnTo>
                    <a:pt x="62517" y="187061"/>
                  </a:lnTo>
                  <a:lnTo>
                    <a:pt x="62510" y="182614"/>
                  </a:lnTo>
                  <a:lnTo>
                    <a:pt x="63502" y="180266"/>
                  </a:lnTo>
                  <a:lnTo>
                    <a:pt x="67249" y="175012"/>
                  </a:lnTo>
                  <a:lnTo>
                    <a:pt x="68645" y="172222"/>
                  </a:lnTo>
                  <a:lnTo>
                    <a:pt x="70196" y="166476"/>
                  </a:lnTo>
                  <a:lnTo>
                    <a:pt x="70610" y="162562"/>
                  </a:lnTo>
                  <a:lnTo>
                    <a:pt x="70886" y="157969"/>
                  </a:lnTo>
                  <a:lnTo>
                    <a:pt x="71070" y="152922"/>
                  </a:lnTo>
                  <a:lnTo>
                    <a:pt x="72184" y="147574"/>
                  </a:lnTo>
                  <a:lnTo>
                    <a:pt x="73919" y="142023"/>
                  </a:lnTo>
                  <a:lnTo>
                    <a:pt x="76069" y="136339"/>
                  </a:lnTo>
                  <a:lnTo>
                    <a:pt x="77502" y="131557"/>
                  </a:lnTo>
                  <a:lnTo>
                    <a:pt x="78457" y="127377"/>
                  </a:lnTo>
                  <a:lnTo>
                    <a:pt x="79093" y="123598"/>
                  </a:lnTo>
                  <a:lnTo>
                    <a:pt x="80511" y="119094"/>
                  </a:lnTo>
                  <a:lnTo>
                    <a:pt x="82447" y="114107"/>
                  </a:lnTo>
                  <a:lnTo>
                    <a:pt x="84730" y="108798"/>
                  </a:lnTo>
                  <a:lnTo>
                    <a:pt x="89913" y="97608"/>
                  </a:lnTo>
                  <a:lnTo>
                    <a:pt x="92684" y="91846"/>
                  </a:lnTo>
                  <a:lnTo>
                    <a:pt x="94532" y="87012"/>
                  </a:lnTo>
                  <a:lnTo>
                    <a:pt x="95763" y="82797"/>
                  </a:lnTo>
                  <a:lnTo>
                    <a:pt x="96584" y="78996"/>
                  </a:lnTo>
                  <a:lnTo>
                    <a:pt x="98125" y="75468"/>
                  </a:lnTo>
                  <a:lnTo>
                    <a:pt x="100143" y="72125"/>
                  </a:lnTo>
                  <a:lnTo>
                    <a:pt x="105031" y="65765"/>
                  </a:lnTo>
                  <a:lnTo>
                    <a:pt x="110511" y="59630"/>
                  </a:lnTo>
                  <a:lnTo>
                    <a:pt x="112369" y="56605"/>
                  </a:lnTo>
                  <a:lnTo>
                    <a:pt x="114434" y="50598"/>
                  </a:lnTo>
                  <a:lnTo>
                    <a:pt x="115977" y="48600"/>
                  </a:lnTo>
                  <a:lnTo>
                    <a:pt x="117998" y="47267"/>
                  </a:lnTo>
                  <a:lnTo>
                    <a:pt x="120337" y="46379"/>
                  </a:lnTo>
                  <a:lnTo>
                    <a:pt x="121897" y="44795"/>
                  </a:lnTo>
                  <a:lnTo>
                    <a:pt x="122936" y="42746"/>
                  </a:lnTo>
                  <a:lnTo>
                    <a:pt x="123630" y="40388"/>
                  </a:lnTo>
                  <a:lnTo>
                    <a:pt x="125083" y="38816"/>
                  </a:lnTo>
                  <a:lnTo>
                    <a:pt x="127045" y="37768"/>
                  </a:lnTo>
                  <a:lnTo>
                    <a:pt x="131871" y="36604"/>
                  </a:lnTo>
                  <a:lnTo>
                    <a:pt x="137323" y="36087"/>
                  </a:lnTo>
                  <a:lnTo>
                    <a:pt x="141230" y="35795"/>
                  </a:lnTo>
                  <a:lnTo>
                    <a:pt x="144789" y="38373"/>
                  </a:lnTo>
                  <a:lnTo>
                    <a:pt x="147128" y="40449"/>
                  </a:lnTo>
                  <a:lnTo>
                    <a:pt x="148687" y="42826"/>
                  </a:lnTo>
                  <a:lnTo>
                    <a:pt x="150419" y="48112"/>
                  </a:lnTo>
                  <a:lnTo>
                    <a:pt x="153834" y="53769"/>
                  </a:lnTo>
                  <a:lnTo>
                    <a:pt x="156134" y="56667"/>
                  </a:lnTo>
                  <a:lnTo>
                    <a:pt x="157667" y="59591"/>
                  </a:lnTo>
                  <a:lnTo>
                    <a:pt x="159371" y="65485"/>
                  </a:lnTo>
                  <a:lnTo>
                    <a:pt x="160818" y="69438"/>
                  </a:lnTo>
                  <a:lnTo>
                    <a:pt x="162775" y="74058"/>
                  </a:lnTo>
                  <a:lnTo>
                    <a:pt x="165072" y="79122"/>
                  </a:lnTo>
                  <a:lnTo>
                    <a:pt x="166602" y="84483"/>
                  </a:lnTo>
                  <a:lnTo>
                    <a:pt x="167623" y="90041"/>
                  </a:lnTo>
                  <a:lnTo>
                    <a:pt x="168302" y="95731"/>
                  </a:lnTo>
                  <a:lnTo>
                    <a:pt x="168757" y="101508"/>
                  </a:lnTo>
                  <a:lnTo>
                    <a:pt x="169058" y="107345"/>
                  </a:lnTo>
                  <a:lnTo>
                    <a:pt x="169261" y="113219"/>
                  </a:lnTo>
                  <a:lnTo>
                    <a:pt x="170388" y="118128"/>
                  </a:lnTo>
                  <a:lnTo>
                    <a:pt x="172130" y="122393"/>
                  </a:lnTo>
                  <a:lnTo>
                    <a:pt x="174285" y="126229"/>
                  </a:lnTo>
                  <a:lnTo>
                    <a:pt x="175721" y="130770"/>
                  </a:lnTo>
                  <a:lnTo>
                    <a:pt x="176678" y="135782"/>
                  </a:lnTo>
                  <a:lnTo>
                    <a:pt x="177317" y="141107"/>
                  </a:lnTo>
                  <a:lnTo>
                    <a:pt x="177742" y="146642"/>
                  </a:lnTo>
                  <a:lnTo>
                    <a:pt x="178026" y="152317"/>
                  </a:lnTo>
                  <a:lnTo>
                    <a:pt x="178426" y="167137"/>
                  </a:lnTo>
                  <a:lnTo>
                    <a:pt x="178593" y="2053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5" name="SMARTInkAnnotation47"/>
            <p:cNvSpPr/>
            <p:nvPr/>
          </p:nvSpPr>
          <p:spPr>
            <a:xfrm>
              <a:off x="7831080" y="3848760"/>
              <a:ext cx="178560" cy="2725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178595" h="272685">
                  <a:moveTo>
                    <a:pt x="0" y="35719"/>
                  </a:moveTo>
                  <a:lnTo>
                    <a:pt x="0" y="56710"/>
                  </a:lnTo>
                  <a:lnTo>
                    <a:pt x="993" y="59634"/>
                  </a:lnTo>
                  <a:lnTo>
                    <a:pt x="4740" y="65530"/>
                  </a:lnTo>
                  <a:lnTo>
                    <a:pt x="6138" y="69484"/>
                  </a:lnTo>
                  <a:lnTo>
                    <a:pt x="7069" y="74103"/>
                  </a:lnTo>
                  <a:lnTo>
                    <a:pt x="7689" y="79168"/>
                  </a:lnTo>
                  <a:lnTo>
                    <a:pt x="9095" y="83536"/>
                  </a:lnTo>
                  <a:lnTo>
                    <a:pt x="13304" y="91036"/>
                  </a:lnTo>
                  <a:lnTo>
                    <a:pt x="15815" y="95418"/>
                  </a:lnTo>
                  <a:lnTo>
                    <a:pt x="21250" y="105577"/>
                  </a:lnTo>
                  <a:lnTo>
                    <a:pt x="23097" y="111064"/>
                  </a:lnTo>
                  <a:lnTo>
                    <a:pt x="24328" y="116707"/>
                  </a:lnTo>
                  <a:lnTo>
                    <a:pt x="25149" y="122453"/>
                  </a:lnTo>
                  <a:lnTo>
                    <a:pt x="26688" y="128268"/>
                  </a:lnTo>
                  <a:lnTo>
                    <a:pt x="28706" y="134130"/>
                  </a:lnTo>
                  <a:lnTo>
                    <a:pt x="31044" y="140021"/>
                  </a:lnTo>
                  <a:lnTo>
                    <a:pt x="33595" y="145933"/>
                  </a:lnTo>
                  <a:lnTo>
                    <a:pt x="39075" y="157794"/>
                  </a:lnTo>
                  <a:lnTo>
                    <a:pt x="40933" y="163735"/>
                  </a:lnTo>
                  <a:lnTo>
                    <a:pt x="42172" y="169681"/>
                  </a:lnTo>
                  <a:lnTo>
                    <a:pt x="42998" y="175628"/>
                  </a:lnTo>
                  <a:lnTo>
                    <a:pt x="44540" y="181577"/>
                  </a:lnTo>
                  <a:lnTo>
                    <a:pt x="46561" y="187528"/>
                  </a:lnTo>
                  <a:lnTo>
                    <a:pt x="48901" y="193479"/>
                  </a:lnTo>
                  <a:lnTo>
                    <a:pt x="51452" y="198440"/>
                  </a:lnTo>
                  <a:lnTo>
                    <a:pt x="56933" y="206596"/>
                  </a:lnTo>
                  <a:lnTo>
                    <a:pt x="58792" y="211152"/>
                  </a:lnTo>
                  <a:lnTo>
                    <a:pt x="60030" y="216175"/>
                  </a:lnTo>
                  <a:lnTo>
                    <a:pt x="60857" y="221507"/>
                  </a:lnTo>
                  <a:lnTo>
                    <a:pt x="62400" y="226054"/>
                  </a:lnTo>
                  <a:lnTo>
                    <a:pt x="66760" y="233752"/>
                  </a:lnTo>
                  <a:lnTo>
                    <a:pt x="72005" y="240481"/>
                  </a:lnTo>
                  <a:lnTo>
                    <a:pt x="74793" y="243664"/>
                  </a:lnTo>
                  <a:lnTo>
                    <a:pt x="77643" y="246779"/>
                  </a:lnTo>
                  <a:lnTo>
                    <a:pt x="83457" y="252884"/>
                  </a:lnTo>
                  <a:lnTo>
                    <a:pt x="102448" y="272105"/>
                  </a:lnTo>
                  <a:lnTo>
                    <a:pt x="105010" y="272684"/>
                  </a:lnTo>
                  <a:lnTo>
                    <a:pt x="107709" y="272079"/>
                  </a:lnTo>
                  <a:lnTo>
                    <a:pt x="110501" y="270683"/>
                  </a:lnTo>
                  <a:lnTo>
                    <a:pt x="113356" y="269752"/>
                  </a:lnTo>
                  <a:lnTo>
                    <a:pt x="116250" y="269131"/>
                  </a:lnTo>
                  <a:lnTo>
                    <a:pt x="119172" y="268718"/>
                  </a:lnTo>
                  <a:lnTo>
                    <a:pt x="121121" y="267450"/>
                  </a:lnTo>
                  <a:lnTo>
                    <a:pt x="122420" y="265612"/>
                  </a:lnTo>
                  <a:lnTo>
                    <a:pt x="123285" y="263395"/>
                  </a:lnTo>
                  <a:lnTo>
                    <a:pt x="126893" y="258286"/>
                  </a:lnTo>
                  <a:lnTo>
                    <a:pt x="129244" y="255534"/>
                  </a:lnTo>
                  <a:lnTo>
                    <a:pt x="130811" y="252707"/>
                  </a:lnTo>
                  <a:lnTo>
                    <a:pt x="134009" y="242997"/>
                  </a:lnTo>
                  <a:lnTo>
                    <a:pt x="135972" y="238396"/>
                  </a:lnTo>
                  <a:lnTo>
                    <a:pt x="138273" y="233344"/>
                  </a:lnTo>
                  <a:lnTo>
                    <a:pt x="139808" y="227993"/>
                  </a:lnTo>
                  <a:lnTo>
                    <a:pt x="140831" y="222440"/>
                  </a:lnTo>
                  <a:lnTo>
                    <a:pt x="141512" y="216754"/>
                  </a:lnTo>
                  <a:lnTo>
                    <a:pt x="141967" y="210980"/>
                  </a:lnTo>
                  <a:lnTo>
                    <a:pt x="142269" y="205145"/>
                  </a:lnTo>
                  <a:lnTo>
                    <a:pt x="142472" y="199271"/>
                  </a:lnTo>
                  <a:lnTo>
                    <a:pt x="143599" y="193371"/>
                  </a:lnTo>
                  <a:lnTo>
                    <a:pt x="145342" y="187452"/>
                  </a:lnTo>
                  <a:lnTo>
                    <a:pt x="147497" y="181523"/>
                  </a:lnTo>
                  <a:lnTo>
                    <a:pt x="148932" y="175585"/>
                  </a:lnTo>
                  <a:lnTo>
                    <a:pt x="149890" y="169643"/>
                  </a:lnTo>
                  <a:lnTo>
                    <a:pt x="150528" y="163697"/>
                  </a:lnTo>
                  <a:lnTo>
                    <a:pt x="151946" y="156756"/>
                  </a:lnTo>
                  <a:lnTo>
                    <a:pt x="153883" y="149152"/>
                  </a:lnTo>
                  <a:lnTo>
                    <a:pt x="156168" y="141107"/>
                  </a:lnTo>
                  <a:lnTo>
                    <a:pt x="157690" y="133759"/>
                  </a:lnTo>
                  <a:lnTo>
                    <a:pt x="158705" y="126876"/>
                  </a:lnTo>
                  <a:lnTo>
                    <a:pt x="159381" y="120302"/>
                  </a:lnTo>
                  <a:lnTo>
                    <a:pt x="159833" y="113936"/>
                  </a:lnTo>
                  <a:lnTo>
                    <a:pt x="160133" y="107707"/>
                  </a:lnTo>
                  <a:lnTo>
                    <a:pt x="160335" y="101571"/>
                  </a:lnTo>
                  <a:lnTo>
                    <a:pt x="161460" y="95494"/>
                  </a:lnTo>
                  <a:lnTo>
                    <a:pt x="163203" y="89460"/>
                  </a:lnTo>
                  <a:lnTo>
                    <a:pt x="165357" y="83452"/>
                  </a:lnTo>
                  <a:lnTo>
                    <a:pt x="166793" y="77463"/>
                  </a:lnTo>
                  <a:lnTo>
                    <a:pt x="167750" y="71486"/>
                  </a:lnTo>
                  <a:lnTo>
                    <a:pt x="168389" y="65516"/>
                  </a:lnTo>
                  <a:lnTo>
                    <a:pt x="168814" y="59552"/>
                  </a:lnTo>
                  <a:lnTo>
                    <a:pt x="169097" y="53592"/>
                  </a:lnTo>
                  <a:lnTo>
                    <a:pt x="169497" y="38368"/>
                  </a:lnTo>
                  <a:lnTo>
                    <a:pt x="169632" y="24336"/>
                  </a:lnTo>
                  <a:lnTo>
                    <a:pt x="170635" y="21185"/>
                  </a:lnTo>
                  <a:lnTo>
                    <a:pt x="174395" y="15038"/>
                  </a:lnTo>
                  <a:lnTo>
                    <a:pt x="176728" y="8998"/>
                  </a:lnTo>
                  <a:lnTo>
                    <a:pt x="1785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6" name="SMARTInkAnnotation48"/>
            <p:cNvSpPr/>
            <p:nvPr/>
          </p:nvSpPr>
          <p:spPr>
            <a:xfrm>
              <a:off x="8072280" y="3643200"/>
              <a:ext cx="88920" cy="16956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9185" h="169665">
                  <a:moveTo>
                    <a:pt x="8817" y="0"/>
                  </a:moveTo>
                  <a:lnTo>
                    <a:pt x="47548" y="38732"/>
                  </a:lnTo>
                  <a:lnTo>
                    <a:pt x="50513" y="42688"/>
                  </a:lnTo>
                  <a:lnTo>
                    <a:pt x="53481" y="47311"/>
                  </a:lnTo>
                  <a:lnTo>
                    <a:pt x="56453" y="52376"/>
                  </a:lnTo>
                  <a:lnTo>
                    <a:pt x="59426" y="56746"/>
                  </a:lnTo>
                  <a:lnTo>
                    <a:pt x="62399" y="60651"/>
                  </a:lnTo>
                  <a:lnTo>
                    <a:pt x="65374" y="64246"/>
                  </a:lnTo>
                  <a:lnTo>
                    <a:pt x="67358" y="68628"/>
                  </a:lnTo>
                  <a:lnTo>
                    <a:pt x="68680" y="73533"/>
                  </a:lnTo>
                  <a:lnTo>
                    <a:pt x="69563" y="78788"/>
                  </a:lnTo>
                  <a:lnTo>
                    <a:pt x="70150" y="83283"/>
                  </a:lnTo>
                  <a:lnTo>
                    <a:pt x="70541" y="87272"/>
                  </a:lnTo>
                  <a:lnTo>
                    <a:pt x="70801" y="90924"/>
                  </a:lnTo>
                  <a:lnTo>
                    <a:pt x="70976" y="94350"/>
                  </a:lnTo>
                  <a:lnTo>
                    <a:pt x="71169" y="100804"/>
                  </a:lnTo>
                  <a:lnTo>
                    <a:pt x="71280" y="110015"/>
                  </a:lnTo>
                  <a:lnTo>
                    <a:pt x="70301" y="113031"/>
                  </a:lnTo>
                  <a:lnTo>
                    <a:pt x="68658" y="116034"/>
                  </a:lnTo>
                  <a:lnTo>
                    <a:pt x="66571" y="119028"/>
                  </a:lnTo>
                  <a:lnTo>
                    <a:pt x="65178" y="122016"/>
                  </a:lnTo>
                  <a:lnTo>
                    <a:pt x="64250" y="125000"/>
                  </a:lnTo>
                  <a:lnTo>
                    <a:pt x="63633" y="127982"/>
                  </a:lnTo>
                  <a:lnTo>
                    <a:pt x="62227" y="129970"/>
                  </a:lnTo>
                  <a:lnTo>
                    <a:pt x="60300" y="131295"/>
                  </a:lnTo>
                  <a:lnTo>
                    <a:pt x="58021" y="132178"/>
                  </a:lnTo>
                  <a:lnTo>
                    <a:pt x="55511" y="133760"/>
                  </a:lnTo>
                  <a:lnTo>
                    <a:pt x="52844" y="135806"/>
                  </a:lnTo>
                  <a:lnTo>
                    <a:pt x="50075" y="138162"/>
                  </a:lnTo>
                  <a:lnTo>
                    <a:pt x="47236" y="139734"/>
                  </a:lnTo>
                  <a:lnTo>
                    <a:pt x="44351" y="140781"/>
                  </a:lnTo>
                  <a:lnTo>
                    <a:pt x="41436" y="141479"/>
                  </a:lnTo>
                  <a:lnTo>
                    <a:pt x="38501" y="140952"/>
                  </a:lnTo>
                  <a:lnTo>
                    <a:pt x="35551" y="139609"/>
                  </a:lnTo>
                  <a:lnTo>
                    <a:pt x="32594" y="137721"/>
                  </a:lnTo>
                  <a:lnTo>
                    <a:pt x="29629" y="136463"/>
                  </a:lnTo>
                  <a:lnTo>
                    <a:pt x="26661" y="135624"/>
                  </a:lnTo>
                  <a:lnTo>
                    <a:pt x="23689" y="135064"/>
                  </a:lnTo>
                  <a:lnTo>
                    <a:pt x="20716" y="134691"/>
                  </a:lnTo>
                  <a:lnTo>
                    <a:pt x="17742" y="134443"/>
                  </a:lnTo>
                  <a:lnTo>
                    <a:pt x="14767" y="134277"/>
                  </a:lnTo>
                  <a:lnTo>
                    <a:pt x="12783" y="133174"/>
                  </a:lnTo>
                  <a:lnTo>
                    <a:pt x="11461" y="131447"/>
                  </a:lnTo>
                  <a:lnTo>
                    <a:pt x="10579" y="129303"/>
                  </a:lnTo>
                  <a:lnTo>
                    <a:pt x="9600" y="124276"/>
                  </a:lnTo>
                  <a:lnTo>
                    <a:pt x="9339" y="121546"/>
                  </a:lnTo>
                  <a:lnTo>
                    <a:pt x="8173" y="119726"/>
                  </a:lnTo>
                  <a:lnTo>
                    <a:pt x="6403" y="118513"/>
                  </a:lnTo>
                  <a:lnTo>
                    <a:pt x="4231" y="117704"/>
                  </a:lnTo>
                  <a:lnTo>
                    <a:pt x="2784" y="116172"/>
                  </a:lnTo>
                  <a:lnTo>
                    <a:pt x="1818" y="114159"/>
                  </a:lnTo>
                  <a:lnTo>
                    <a:pt x="0" y="107566"/>
                  </a:lnTo>
                  <a:lnTo>
                    <a:pt x="2583" y="104693"/>
                  </a:lnTo>
                  <a:lnTo>
                    <a:pt x="7585" y="99504"/>
                  </a:lnTo>
                  <a:lnTo>
                    <a:pt x="8988" y="100070"/>
                  </a:lnTo>
                  <a:lnTo>
                    <a:pt x="10916" y="101440"/>
                  </a:lnTo>
                  <a:lnTo>
                    <a:pt x="13192" y="103346"/>
                  </a:lnTo>
                  <a:lnTo>
                    <a:pt x="15702" y="104616"/>
                  </a:lnTo>
                  <a:lnTo>
                    <a:pt x="18368" y="105463"/>
                  </a:lnTo>
                  <a:lnTo>
                    <a:pt x="21138" y="106028"/>
                  </a:lnTo>
                  <a:lnTo>
                    <a:pt x="23975" y="106404"/>
                  </a:lnTo>
                  <a:lnTo>
                    <a:pt x="26861" y="106654"/>
                  </a:lnTo>
                  <a:lnTo>
                    <a:pt x="29776" y="106822"/>
                  </a:lnTo>
                  <a:lnTo>
                    <a:pt x="32711" y="107925"/>
                  </a:lnTo>
                  <a:lnTo>
                    <a:pt x="35660" y="109654"/>
                  </a:lnTo>
                  <a:lnTo>
                    <a:pt x="38619" y="111798"/>
                  </a:lnTo>
                  <a:lnTo>
                    <a:pt x="41584" y="114220"/>
                  </a:lnTo>
                  <a:lnTo>
                    <a:pt x="44552" y="116827"/>
                  </a:lnTo>
                  <a:lnTo>
                    <a:pt x="47523" y="119556"/>
                  </a:lnTo>
                  <a:lnTo>
                    <a:pt x="53470" y="125235"/>
                  </a:lnTo>
                  <a:lnTo>
                    <a:pt x="83231" y="154785"/>
                  </a:lnTo>
                  <a:lnTo>
                    <a:pt x="85215" y="157761"/>
                  </a:lnTo>
                  <a:lnTo>
                    <a:pt x="86538" y="160736"/>
                  </a:lnTo>
                  <a:lnTo>
                    <a:pt x="89184" y="1696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7" name="SMARTInkAnnotation49"/>
            <p:cNvSpPr/>
            <p:nvPr/>
          </p:nvSpPr>
          <p:spPr>
            <a:xfrm>
              <a:off x="8054280" y="4027320"/>
              <a:ext cx="97920" cy="1515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98117" h="151683">
                  <a:moveTo>
                    <a:pt x="17749" y="0"/>
                  </a:moveTo>
                  <a:lnTo>
                    <a:pt x="17749" y="13302"/>
                  </a:lnTo>
                  <a:lnTo>
                    <a:pt x="16758" y="14821"/>
                  </a:lnTo>
                  <a:lnTo>
                    <a:pt x="15103" y="15834"/>
                  </a:lnTo>
                  <a:lnTo>
                    <a:pt x="13009" y="16509"/>
                  </a:lnTo>
                  <a:lnTo>
                    <a:pt x="11612" y="17952"/>
                  </a:lnTo>
                  <a:lnTo>
                    <a:pt x="10681" y="19905"/>
                  </a:lnTo>
                  <a:lnTo>
                    <a:pt x="10060" y="22200"/>
                  </a:lnTo>
                  <a:lnTo>
                    <a:pt x="9647" y="24722"/>
                  </a:lnTo>
                  <a:lnTo>
                    <a:pt x="9371" y="27395"/>
                  </a:lnTo>
                  <a:lnTo>
                    <a:pt x="9188" y="30169"/>
                  </a:lnTo>
                  <a:lnTo>
                    <a:pt x="9064" y="33012"/>
                  </a:lnTo>
                  <a:lnTo>
                    <a:pt x="8929" y="38815"/>
                  </a:lnTo>
                  <a:lnTo>
                    <a:pt x="7900" y="41751"/>
                  </a:lnTo>
                  <a:lnTo>
                    <a:pt x="6223" y="44702"/>
                  </a:lnTo>
                  <a:lnTo>
                    <a:pt x="4112" y="47660"/>
                  </a:lnTo>
                  <a:lnTo>
                    <a:pt x="2705" y="50625"/>
                  </a:lnTo>
                  <a:lnTo>
                    <a:pt x="1766" y="53594"/>
                  </a:lnTo>
                  <a:lnTo>
                    <a:pt x="1141" y="56565"/>
                  </a:lnTo>
                  <a:lnTo>
                    <a:pt x="724" y="59538"/>
                  </a:lnTo>
                  <a:lnTo>
                    <a:pt x="446" y="62513"/>
                  </a:lnTo>
                  <a:lnTo>
                    <a:pt x="261" y="65488"/>
                  </a:lnTo>
                  <a:lnTo>
                    <a:pt x="55" y="71439"/>
                  </a:lnTo>
                  <a:lnTo>
                    <a:pt x="0" y="74415"/>
                  </a:lnTo>
                  <a:lnTo>
                    <a:pt x="956" y="78383"/>
                  </a:lnTo>
                  <a:lnTo>
                    <a:pt x="2585" y="83013"/>
                  </a:lnTo>
                  <a:lnTo>
                    <a:pt x="4663" y="88084"/>
                  </a:lnTo>
                  <a:lnTo>
                    <a:pt x="6049" y="92457"/>
                  </a:lnTo>
                  <a:lnTo>
                    <a:pt x="6973" y="96365"/>
                  </a:lnTo>
                  <a:lnTo>
                    <a:pt x="7588" y="99962"/>
                  </a:lnTo>
                  <a:lnTo>
                    <a:pt x="8991" y="103352"/>
                  </a:lnTo>
                  <a:lnTo>
                    <a:pt x="10918" y="106604"/>
                  </a:lnTo>
                  <a:lnTo>
                    <a:pt x="13196" y="109765"/>
                  </a:lnTo>
                  <a:lnTo>
                    <a:pt x="14714" y="112864"/>
                  </a:lnTo>
                  <a:lnTo>
                    <a:pt x="15725" y="115923"/>
                  </a:lnTo>
                  <a:lnTo>
                    <a:pt x="16400" y="118953"/>
                  </a:lnTo>
                  <a:lnTo>
                    <a:pt x="17842" y="121967"/>
                  </a:lnTo>
                  <a:lnTo>
                    <a:pt x="19795" y="124967"/>
                  </a:lnTo>
                  <a:lnTo>
                    <a:pt x="22090" y="127960"/>
                  </a:lnTo>
                  <a:lnTo>
                    <a:pt x="24612" y="130947"/>
                  </a:lnTo>
                  <a:lnTo>
                    <a:pt x="27286" y="133931"/>
                  </a:lnTo>
                  <a:lnTo>
                    <a:pt x="30060" y="136912"/>
                  </a:lnTo>
                  <a:lnTo>
                    <a:pt x="32902" y="138900"/>
                  </a:lnTo>
                  <a:lnTo>
                    <a:pt x="35788" y="140225"/>
                  </a:lnTo>
                  <a:lnTo>
                    <a:pt x="38705" y="141108"/>
                  </a:lnTo>
                  <a:lnTo>
                    <a:pt x="41642" y="142689"/>
                  </a:lnTo>
                  <a:lnTo>
                    <a:pt x="44592" y="144736"/>
                  </a:lnTo>
                  <a:lnTo>
                    <a:pt x="47551" y="147092"/>
                  </a:lnTo>
                  <a:lnTo>
                    <a:pt x="50514" y="148663"/>
                  </a:lnTo>
                  <a:lnTo>
                    <a:pt x="53484" y="149710"/>
                  </a:lnTo>
                  <a:lnTo>
                    <a:pt x="56455" y="150408"/>
                  </a:lnTo>
                  <a:lnTo>
                    <a:pt x="59429" y="150874"/>
                  </a:lnTo>
                  <a:lnTo>
                    <a:pt x="62402" y="151184"/>
                  </a:lnTo>
                  <a:lnTo>
                    <a:pt x="65377" y="151391"/>
                  </a:lnTo>
                  <a:lnTo>
                    <a:pt x="68354" y="151529"/>
                  </a:lnTo>
                  <a:lnTo>
                    <a:pt x="74305" y="151682"/>
                  </a:lnTo>
                  <a:lnTo>
                    <a:pt x="77281" y="150730"/>
                  </a:lnTo>
                  <a:lnTo>
                    <a:pt x="80257" y="149104"/>
                  </a:lnTo>
                  <a:lnTo>
                    <a:pt x="87422" y="144105"/>
                  </a:lnTo>
                  <a:lnTo>
                    <a:pt x="89004" y="143695"/>
                  </a:lnTo>
                  <a:lnTo>
                    <a:pt x="91048" y="143422"/>
                  </a:lnTo>
                  <a:lnTo>
                    <a:pt x="98116" y="1428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8" name="SMARTInkAnnotation50"/>
            <p:cNvSpPr/>
            <p:nvPr/>
          </p:nvSpPr>
          <p:spPr>
            <a:xfrm>
              <a:off x="8098920" y="3947040"/>
              <a:ext cx="8640" cy="8640"/>
            </a:xfrm>
            <a:custGeom>
              <a:avLst/>
              <a:gdLst>
                <a:gd name="textAreaLeft" fmla="*/ 0 w 8640"/>
                <a:gd name="textAreaRight" fmla="*/ 864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8931" h="8930">
                  <a:moveTo>
                    <a:pt x="0" y="8929"/>
                  </a:moveTo>
                  <a:lnTo>
                    <a:pt x="0" y="4189"/>
                  </a:lnTo>
                  <a:lnTo>
                    <a:pt x="992" y="2792"/>
                  </a:lnTo>
                  <a:lnTo>
                    <a:pt x="2646" y="1862"/>
                  </a:lnTo>
                  <a:lnTo>
                    <a:pt x="89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9" name="SMARTInkAnnotation51"/>
            <p:cNvSpPr/>
            <p:nvPr/>
          </p:nvSpPr>
          <p:spPr>
            <a:xfrm>
              <a:off x="7357680" y="3375360"/>
              <a:ext cx="1089360" cy="90180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1089263" h="901889">
                  <a:moveTo>
                    <a:pt x="0" y="901888"/>
                  </a:moveTo>
                  <a:lnTo>
                    <a:pt x="4740" y="901888"/>
                  </a:lnTo>
                  <a:lnTo>
                    <a:pt x="7129" y="900895"/>
                  </a:lnTo>
                  <a:lnTo>
                    <a:pt x="15232" y="895751"/>
                  </a:lnTo>
                  <a:lnTo>
                    <a:pt x="34551" y="888586"/>
                  </a:lnTo>
                  <a:lnTo>
                    <a:pt x="66418" y="869063"/>
                  </a:lnTo>
                  <a:lnTo>
                    <a:pt x="95373" y="854252"/>
                  </a:lnTo>
                  <a:lnTo>
                    <a:pt x="127677" y="829665"/>
                  </a:lnTo>
                  <a:lnTo>
                    <a:pt x="156519" y="806483"/>
                  </a:lnTo>
                  <a:lnTo>
                    <a:pt x="190007" y="783919"/>
                  </a:lnTo>
                  <a:lnTo>
                    <a:pt x="218992" y="761618"/>
                  </a:lnTo>
                  <a:lnTo>
                    <a:pt x="250956" y="738104"/>
                  </a:lnTo>
                  <a:lnTo>
                    <a:pt x="278086" y="719304"/>
                  </a:lnTo>
                  <a:lnTo>
                    <a:pt x="309828" y="696315"/>
                  </a:lnTo>
                  <a:lnTo>
                    <a:pt x="339516" y="675502"/>
                  </a:lnTo>
                  <a:lnTo>
                    <a:pt x="372016" y="650925"/>
                  </a:lnTo>
                  <a:lnTo>
                    <a:pt x="401931" y="624792"/>
                  </a:lnTo>
                  <a:lnTo>
                    <a:pt x="435488" y="598197"/>
                  </a:lnTo>
                  <a:lnTo>
                    <a:pt x="458795" y="580383"/>
                  </a:lnTo>
                  <a:lnTo>
                    <a:pt x="482383" y="565189"/>
                  </a:lnTo>
                  <a:lnTo>
                    <a:pt x="506096" y="550830"/>
                  </a:lnTo>
                  <a:lnTo>
                    <a:pt x="529864" y="534526"/>
                  </a:lnTo>
                  <a:lnTo>
                    <a:pt x="553657" y="514712"/>
                  </a:lnTo>
                  <a:lnTo>
                    <a:pt x="577461" y="493669"/>
                  </a:lnTo>
                  <a:lnTo>
                    <a:pt x="601269" y="474395"/>
                  </a:lnTo>
                  <a:lnTo>
                    <a:pt x="648891" y="437768"/>
                  </a:lnTo>
                  <a:lnTo>
                    <a:pt x="708422" y="392925"/>
                  </a:lnTo>
                  <a:lnTo>
                    <a:pt x="739400" y="366115"/>
                  </a:lnTo>
                  <a:lnTo>
                    <a:pt x="782672" y="330389"/>
                  </a:lnTo>
                  <a:lnTo>
                    <a:pt x="811671" y="304591"/>
                  </a:lnTo>
                  <a:lnTo>
                    <a:pt x="839115" y="283939"/>
                  </a:lnTo>
                  <a:lnTo>
                    <a:pt x="866098" y="264260"/>
                  </a:lnTo>
                  <a:lnTo>
                    <a:pt x="891952" y="241010"/>
                  </a:lnTo>
                  <a:lnTo>
                    <a:pt x="921615" y="214874"/>
                  </a:lnTo>
                  <a:lnTo>
                    <a:pt x="951102" y="190602"/>
                  </a:lnTo>
                  <a:lnTo>
                    <a:pt x="979436" y="163384"/>
                  </a:lnTo>
                  <a:lnTo>
                    <a:pt x="1002936" y="140044"/>
                  </a:lnTo>
                  <a:lnTo>
                    <a:pt x="1004976" y="137015"/>
                  </a:lnTo>
                  <a:lnTo>
                    <a:pt x="1007242" y="131004"/>
                  </a:lnTo>
                  <a:lnTo>
                    <a:pt x="1008895" y="117843"/>
                  </a:lnTo>
                  <a:lnTo>
                    <a:pt x="1009007" y="111859"/>
                  </a:lnTo>
                  <a:lnTo>
                    <a:pt x="1008031" y="109295"/>
                  </a:lnTo>
                  <a:lnTo>
                    <a:pt x="1004301" y="103802"/>
                  </a:lnTo>
                  <a:lnTo>
                    <a:pt x="1000923" y="101940"/>
                  </a:lnTo>
                  <a:lnTo>
                    <a:pt x="987684" y="98327"/>
                  </a:lnTo>
                  <a:lnTo>
                    <a:pt x="976044" y="92406"/>
                  </a:lnTo>
                  <a:lnTo>
                    <a:pt x="959476" y="90211"/>
                  </a:lnTo>
                  <a:lnTo>
                    <a:pt x="937148" y="88568"/>
                  </a:lnTo>
                  <a:lnTo>
                    <a:pt x="915540" y="83230"/>
                  </a:lnTo>
                  <a:lnTo>
                    <a:pt x="885876" y="81208"/>
                  </a:lnTo>
                  <a:lnTo>
                    <a:pt x="857794" y="80609"/>
                  </a:lnTo>
                  <a:lnTo>
                    <a:pt x="831615" y="79439"/>
                  </a:lnTo>
                  <a:lnTo>
                    <a:pt x="801842" y="73303"/>
                  </a:lnTo>
                  <a:lnTo>
                    <a:pt x="785992" y="71269"/>
                  </a:lnTo>
                  <a:lnTo>
                    <a:pt x="759647" y="64524"/>
                  </a:lnTo>
                  <a:lnTo>
                    <a:pt x="747394" y="62406"/>
                  </a:lnTo>
                  <a:lnTo>
                    <a:pt x="722128" y="54927"/>
                  </a:lnTo>
                  <a:lnTo>
                    <a:pt x="702627" y="53687"/>
                  </a:lnTo>
                  <a:lnTo>
                    <a:pt x="700590" y="52655"/>
                  </a:lnTo>
                  <a:lnTo>
                    <a:pt x="699232" y="50975"/>
                  </a:lnTo>
                  <a:lnTo>
                    <a:pt x="698326" y="48862"/>
                  </a:lnTo>
                  <a:lnTo>
                    <a:pt x="698715" y="47454"/>
                  </a:lnTo>
                  <a:lnTo>
                    <a:pt x="699967" y="46515"/>
                  </a:lnTo>
                  <a:lnTo>
                    <a:pt x="701792" y="45889"/>
                  </a:lnTo>
                  <a:lnTo>
                    <a:pt x="703011" y="44480"/>
                  </a:lnTo>
                  <a:lnTo>
                    <a:pt x="703821" y="42548"/>
                  </a:lnTo>
                  <a:lnTo>
                    <a:pt x="704363" y="40268"/>
                  </a:lnTo>
                  <a:lnTo>
                    <a:pt x="706708" y="37756"/>
                  </a:lnTo>
                  <a:lnTo>
                    <a:pt x="714606" y="32319"/>
                  </a:lnTo>
                  <a:lnTo>
                    <a:pt x="724730" y="29241"/>
                  </a:lnTo>
                  <a:lnTo>
                    <a:pt x="735844" y="26881"/>
                  </a:lnTo>
                  <a:lnTo>
                    <a:pt x="753258" y="20966"/>
                  </a:lnTo>
                  <a:lnTo>
                    <a:pt x="779566" y="15819"/>
                  </a:lnTo>
                  <a:lnTo>
                    <a:pt x="795935" y="11986"/>
                  </a:lnTo>
                  <a:lnTo>
                    <a:pt x="821885" y="8835"/>
                  </a:lnTo>
                  <a:lnTo>
                    <a:pt x="849417" y="3051"/>
                  </a:lnTo>
                  <a:lnTo>
                    <a:pt x="881277" y="896"/>
                  </a:lnTo>
                  <a:lnTo>
                    <a:pt x="911003" y="258"/>
                  </a:lnTo>
                  <a:lnTo>
                    <a:pt x="986055" y="0"/>
                  </a:lnTo>
                  <a:lnTo>
                    <a:pt x="1024767" y="7058"/>
                  </a:lnTo>
                  <a:lnTo>
                    <a:pt x="1037865" y="9084"/>
                  </a:lnTo>
                  <a:lnTo>
                    <a:pt x="1050302" y="13292"/>
                  </a:lnTo>
                  <a:lnTo>
                    <a:pt x="1059799" y="18469"/>
                  </a:lnTo>
                  <a:lnTo>
                    <a:pt x="1080243" y="35762"/>
                  </a:lnTo>
                  <a:lnTo>
                    <a:pt x="1083303" y="38721"/>
                  </a:lnTo>
                  <a:lnTo>
                    <a:pt x="1085342" y="41685"/>
                  </a:lnTo>
                  <a:lnTo>
                    <a:pt x="1087609" y="47625"/>
                  </a:lnTo>
                  <a:lnTo>
                    <a:pt x="1089064" y="59523"/>
                  </a:lnTo>
                  <a:lnTo>
                    <a:pt x="1089262" y="65475"/>
                  </a:lnTo>
                  <a:lnTo>
                    <a:pt x="1086706" y="74073"/>
                  </a:lnTo>
                  <a:lnTo>
                    <a:pt x="1083254" y="84509"/>
                  </a:lnTo>
                  <a:lnTo>
                    <a:pt x="1080319" y="101541"/>
                  </a:lnTo>
                  <a:lnTo>
                    <a:pt x="1076116" y="113254"/>
                  </a:lnTo>
                  <a:lnTo>
                    <a:pt x="1063430" y="135744"/>
                  </a:lnTo>
                  <a:lnTo>
                    <a:pt x="1048495" y="163874"/>
                  </a:lnTo>
                  <a:lnTo>
                    <a:pt x="1039041" y="187454"/>
                  </a:lnTo>
                  <a:lnTo>
                    <a:pt x="1028964" y="208441"/>
                  </a:lnTo>
                  <a:lnTo>
                    <a:pt x="1014843" y="233070"/>
                  </a:lnTo>
                  <a:lnTo>
                    <a:pt x="1004927" y="258227"/>
                  </a:lnTo>
                  <a:lnTo>
                    <a:pt x="1000556" y="279682"/>
                  </a:lnTo>
                  <a:lnTo>
                    <a:pt x="993418" y="303458"/>
                  </a:lnTo>
                  <a:lnTo>
                    <a:pt x="986011" y="323511"/>
                  </a:lnTo>
                  <a:lnTo>
                    <a:pt x="982759" y="349338"/>
                  </a:lnTo>
                  <a:lnTo>
                    <a:pt x="982308" y="376606"/>
                  </a:lnTo>
                  <a:lnTo>
                    <a:pt x="982279" y="381785"/>
                  </a:lnTo>
                  <a:lnTo>
                    <a:pt x="984918" y="385643"/>
                  </a:lnTo>
                  <a:lnTo>
                    <a:pt x="991195" y="3928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0" name="SMARTInkAnnotation52"/>
            <p:cNvSpPr/>
            <p:nvPr/>
          </p:nvSpPr>
          <p:spPr>
            <a:xfrm>
              <a:off x="8474760" y="3250800"/>
              <a:ext cx="258120" cy="38268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58413" h="382866">
                  <a:moveTo>
                    <a:pt x="204847" y="160195"/>
                  </a:moveTo>
                  <a:lnTo>
                    <a:pt x="204847" y="135337"/>
                  </a:lnTo>
                  <a:lnTo>
                    <a:pt x="207494" y="124012"/>
                  </a:lnTo>
                  <a:lnTo>
                    <a:pt x="210984" y="112364"/>
                  </a:lnTo>
                  <a:lnTo>
                    <a:pt x="212535" y="100572"/>
                  </a:lnTo>
                  <a:lnTo>
                    <a:pt x="213225" y="88717"/>
                  </a:lnTo>
                  <a:lnTo>
                    <a:pt x="213410" y="82777"/>
                  </a:lnTo>
                  <a:lnTo>
                    <a:pt x="212539" y="77826"/>
                  </a:lnTo>
                  <a:lnTo>
                    <a:pt x="208928" y="69678"/>
                  </a:lnTo>
                  <a:lnTo>
                    <a:pt x="201316" y="59513"/>
                  </a:lnTo>
                  <a:lnTo>
                    <a:pt x="197532" y="56363"/>
                  </a:lnTo>
                  <a:lnTo>
                    <a:pt x="193026" y="53270"/>
                  </a:lnTo>
                  <a:lnTo>
                    <a:pt x="188037" y="50216"/>
                  </a:lnTo>
                  <a:lnTo>
                    <a:pt x="183719" y="47188"/>
                  </a:lnTo>
                  <a:lnTo>
                    <a:pt x="176274" y="41178"/>
                  </a:lnTo>
                  <a:lnTo>
                    <a:pt x="171908" y="38186"/>
                  </a:lnTo>
                  <a:lnTo>
                    <a:pt x="167012" y="35200"/>
                  </a:lnTo>
                  <a:lnTo>
                    <a:pt x="161765" y="32217"/>
                  </a:lnTo>
                  <a:lnTo>
                    <a:pt x="156281" y="30228"/>
                  </a:lnTo>
                  <a:lnTo>
                    <a:pt x="150642" y="28902"/>
                  </a:lnTo>
                  <a:lnTo>
                    <a:pt x="144898" y="28018"/>
                  </a:lnTo>
                  <a:lnTo>
                    <a:pt x="139084" y="28421"/>
                  </a:lnTo>
                  <a:lnTo>
                    <a:pt x="133224" y="29682"/>
                  </a:lnTo>
                  <a:lnTo>
                    <a:pt x="127333" y="31514"/>
                  </a:lnTo>
                  <a:lnTo>
                    <a:pt x="121421" y="32736"/>
                  </a:lnTo>
                  <a:lnTo>
                    <a:pt x="115496" y="33551"/>
                  </a:lnTo>
                  <a:lnTo>
                    <a:pt x="109560" y="34094"/>
                  </a:lnTo>
                  <a:lnTo>
                    <a:pt x="103620" y="35448"/>
                  </a:lnTo>
                  <a:lnTo>
                    <a:pt x="97675" y="37343"/>
                  </a:lnTo>
                  <a:lnTo>
                    <a:pt x="91727" y="39598"/>
                  </a:lnTo>
                  <a:lnTo>
                    <a:pt x="85777" y="42094"/>
                  </a:lnTo>
                  <a:lnTo>
                    <a:pt x="79826" y="44750"/>
                  </a:lnTo>
                  <a:lnTo>
                    <a:pt x="73875" y="47513"/>
                  </a:lnTo>
                  <a:lnTo>
                    <a:pt x="67923" y="51340"/>
                  </a:lnTo>
                  <a:lnTo>
                    <a:pt x="61971" y="55875"/>
                  </a:lnTo>
                  <a:lnTo>
                    <a:pt x="56019" y="60883"/>
                  </a:lnTo>
                  <a:lnTo>
                    <a:pt x="50066" y="67198"/>
                  </a:lnTo>
                  <a:lnTo>
                    <a:pt x="44112" y="74384"/>
                  </a:lnTo>
                  <a:lnTo>
                    <a:pt x="38160" y="82152"/>
                  </a:lnTo>
                  <a:lnTo>
                    <a:pt x="33198" y="89315"/>
                  </a:lnTo>
                  <a:lnTo>
                    <a:pt x="28899" y="96074"/>
                  </a:lnTo>
                  <a:lnTo>
                    <a:pt x="25041" y="102565"/>
                  </a:lnTo>
                  <a:lnTo>
                    <a:pt x="21477" y="109869"/>
                  </a:lnTo>
                  <a:lnTo>
                    <a:pt x="18108" y="117715"/>
                  </a:lnTo>
                  <a:lnTo>
                    <a:pt x="14870" y="125922"/>
                  </a:lnTo>
                  <a:lnTo>
                    <a:pt x="8627" y="142978"/>
                  </a:lnTo>
                  <a:lnTo>
                    <a:pt x="5572" y="151694"/>
                  </a:lnTo>
                  <a:lnTo>
                    <a:pt x="3537" y="160481"/>
                  </a:lnTo>
                  <a:lnTo>
                    <a:pt x="2179" y="169315"/>
                  </a:lnTo>
                  <a:lnTo>
                    <a:pt x="1275" y="178182"/>
                  </a:lnTo>
                  <a:lnTo>
                    <a:pt x="672" y="188061"/>
                  </a:lnTo>
                  <a:lnTo>
                    <a:pt x="0" y="209622"/>
                  </a:lnTo>
                  <a:lnTo>
                    <a:pt x="814" y="219935"/>
                  </a:lnTo>
                  <a:lnTo>
                    <a:pt x="2348" y="229787"/>
                  </a:lnTo>
                  <a:lnTo>
                    <a:pt x="4364" y="239332"/>
                  </a:lnTo>
                  <a:lnTo>
                    <a:pt x="6700" y="247680"/>
                  </a:lnTo>
                  <a:lnTo>
                    <a:pt x="9248" y="255229"/>
                  </a:lnTo>
                  <a:lnTo>
                    <a:pt x="11940" y="262247"/>
                  </a:lnTo>
                  <a:lnTo>
                    <a:pt x="17576" y="277981"/>
                  </a:lnTo>
                  <a:lnTo>
                    <a:pt x="20469" y="286344"/>
                  </a:lnTo>
                  <a:lnTo>
                    <a:pt x="24381" y="294896"/>
                  </a:lnTo>
                  <a:lnTo>
                    <a:pt x="28974" y="303574"/>
                  </a:lnTo>
                  <a:lnTo>
                    <a:pt x="34021" y="312336"/>
                  </a:lnTo>
                  <a:lnTo>
                    <a:pt x="40361" y="320161"/>
                  </a:lnTo>
                  <a:lnTo>
                    <a:pt x="47566" y="327362"/>
                  </a:lnTo>
                  <a:lnTo>
                    <a:pt x="55343" y="334148"/>
                  </a:lnTo>
                  <a:lnTo>
                    <a:pt x="62514" y="340656"/>
                  </a:lnTo>
                  <a:lnTo>
                    <a:pt x="75772" y="353179"/>
                  </a:lnTo>
                  <a:lnTo>
                    <a:pt x="83079" y="358304"/>
                  </a:lnTo>
                  <a:lnTo>
                    <a:pt x="90927" y="362713"/>
                  </a:lnTo>
                  <a:lnTo>
                    <a:pt x="99135" y="366644"/>
                  </a:lnTo>
                  <a:lnTo>
                    <a:pt x="107582" y="370258"/>
                  </a:lnTo>
                  <a:lnTo>
                    <a:pt x="116192" y="373658"/>
                  </a:lnTo>
                  <a:lnTo>
                    <a:pt x="124908" y="376918"/>
                  </a:lnTo>
                  <a:lnTo>
                    <a:pt x="133695" y="379091"/>
                  </a:lnTo>
                  <a:lnTo>
                    <a:pt x="142530" y="380540"/>
                  </a:lnTo>
                  <a:lnTo>
                    <a:pt x="151396" y="381506"/>
                  </a:lnTo>
                  <a:lnTo>
                    <a:pt x="159291" y="382150"/>
                  </a:lnTo>
                  <a:lnTo>
                    <a:pt x="166538" y="382579"/>
                  </a:lnTo>
                  <a:lnTo>
                    <a:pt x="173355" y="382865"/>
                  </a:lnTo>
                  <a:lnTo>
                    <a:pt x="179884" y="382064"/>
                  </a:lnTo>
                  <a:lnTo>
                    <a:pt x="186221" y="380537"/>
                  </a:lnTo>
                  <a:lnTo>
                    <a:pt x="192430" y="378527"/>
                  </a:lnTo>
                  <a:lnTo>
                    <a:pt x="198553" y="376196"/>
                  </a:lnTo>
                  <a:lnTo>
                    <a:pt x="204619" y="373648"/>
                  </a:lnTo>
                  <a:lnTo>
                    <a:pt x="210649" y="370958"/>
                  </a:lnTo>
                  <a:lnTo>
                    <a:pt x="215660" y="368172"/>
                  </a:lnTo>
                  <a:lnTo>
                    <a:pt x="219993" y="365324"/>
                  </a:lnTo>
                  <a:lnTo>
                    <a:pt x="223874" y="362432"/>
                  </a:lnTo>
                  <a:lnTo>
                    <a:pt x="230832" y="353927"/>
                  </a:lnTo>
                  <a:lnTo>
                    <a:pt x="237232" y="343533"/>
                  </a:lnTo>
                  <a:lnTo>
                    <a:pt x="243384" y="332298"/>
                  </a:lnTo>
                  <a:lnTo>
                    <a:pt x="246413" y="325532"/>
                  </a:lnTo>
                  <a:lnTo>
                    <a:pt x="249425" y="318045"/>
                  </a:lnTo>
                  <a:lnTo>
                    <a:pt x="252425" y="310077"/>
                  </a:lnTo>
                  <a:lnTo>
                    <a:pt x="254426" y="301788"/>
                  </a:lnTo>
                  <a:lnTo>
                    <a:pt x="255759" y="293285"/>
                  </a:lnTo>
                  <a:lnTo>
                    <a:pt x="256647" y="284641"/>
                  </a:lnTo>
                  <a:lnTo>
                    <a:pt x="257240" y="275901"/>
                  </a:lnTo>
                  <a:lnTo>
                    <a:pt x="257637" y="267098"/>
                  </a:lnTo>
                  <a:lnTo>
                    <a:pt x="258075" y="249380"/>
                  </a:lnTo>
                  <a:lnTo>
                    <a:pt x="258412" y="170362"/>
                  </a:lnTo>
                  <a:lnTo>
                    <a:pt x="257424" y="160027"/>
                  </a:lnTo>
                  <a:lnTo>
                    <a:pt x="255774" y="149169"/>
                  </a:lnTo>
                  <a:lnTo>
                    <a:pt x="253681" y="137962"/>
                  </a:lnTo>
                  <a:lnTo>
                    <a:pt x="251294" y="127514"/>
                  </a:lnTo>
                  <a:lnTo>
                    <a:pt x="248710" y="117571"/>
                  </a:lnTo>
                  <a:lnTo>
                    <a:pt x="245995" y="107967"/>
                  </a:lnTo>
                  <a:lnTo>
                    <a:pt x="243193" y="99579"/>
                  </a:lnTo>
                  <a:lnTo>
                    <a:pt x="240333" y="92003"/>
                  </a:lnTo>
                  <a:lnTo>
                    <a:pt x="237435" y="84968"/>
                  </a:lnTo>
                  <a:lnTo>
                    <a:pt x="234510" y="77302"/>
                  </a:lnTo>
                  <a:lnTo>
                    <a:pt x="228614" y="60846"/>
                  </a:lnTo>
                  <a:lnTo>
                    <a:pt x="224661" y="53283"/>
                  </a:lnTo>
                  <a:lnTo>
                    <a:pt x="220040" y="46256"/>
                  </a:lnTo>
                  <a:lnTo>
                    <a:pt x="214976" y="39587"/>
                  </a:lnTo>
                  <a:lnTo>
                    <a:pt x="209615" y="34149"/>
                  </a:lnTo>
                  <a:lnTo>
                    <a:pt x="204057" y="29532"/>
                  </a:lnTo>
                  <a:lnTo>
                    <a:pt x="198367" y="25461"/>
                  </a:lnTo>
                  <a:lnTo>
                    <a:pt x="192590" y="21756"/>
                  </a:lnTo>
                  <a:lnTo>
                    <a:pt x="186755" y="18293"/>
                  </a:lnTo>
                  <a:lnTo>
                    <a:pt x="180880" y="14992"/>
                  </a:lnTo>
                  <a:lnTo>
                    <a:pt x="169060" y="8679"/>
                  </a:lnTo>
                  <a:lnTo>
                    <a:pt x="163129" y="5606"/>
                  </a:lnTo>
                  <a:lnTo>
                    <a:pt x="157192" y="3558"/>
                  </a:lnTo>
                  <a:lnTo>
                    <a:pt x="151249" y="2192"/>
                  </a:lnTo>
                  <a:lnTo>
                    <a:pt x="145302" y="1281"/>
                  </a:lnTo>
                  <a:lnTo>
                    <a:pt x="139354" y="675"/>
                  </a:lnTo>
                  <a:lnTo>
                    <a:pt x="133404" y="270"/>
                  </a:lnTo>
                  <a:lnTo>
                    <a:pt x="127453" y="0"/>
                  </a:lnTo>
                  <a:lnTo>
                    <a:pt x="122492" y="813"/>
                  </a:lnTo>
                  <a:lnTo>
                    <a:pt x="118195" y="2347"/>
                  </a:lnTo>
                  <a:lnTo>
                    <a:pt x="106620" y="83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1" name="SMARTInkAnnotation53"/>
            <p:cNvSpPr/>
            <p:nvPr/>
          </p:nvSpPr>
          <p:spPr>
            <a:xfrm>
              <a:off x="5330160" y="4313160"/>
              <a:ext cx="44640" cy="455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4649" h="455415">
                  <a:moveTo>
                    <a:pt x="0" y="0"/>
                  </a:moveTo>
                  <a:lnTo>
                    <a:pt x="0" y="43114"/>
                  </a:lnTo>
                  <a:lnTo>
                    <a:pt x="993" y="48586"/>
                  </a:lnTo>
                  <a:lnTo>
                    <a:pt x="2646" y="54219"/>
                  </a:lnTo>
                  <a:lnTo>
                    <a:pt x="4740" y="59958"/>
                  </a:lnTo>
                  <a:lnTo>
                    <a:pt x="6138" y="65769"/>
                  </a:lnTo>
                  <a:lnTo>
                    <a:pt x="7068" y="71627"/>
                  </a:lnTo>
                  <a:lnTo>
                    <a:pt x="7689" y="77517"/>
                  </a:lnTo>
                  <a:lnTo>
                    <a:pt x="9094" y="83428"/>
                  </a:lnTo>
                  <a:lnTo>
                    <a:pt x="11024" y="89353"/>
                  </a:lnTo>
                  <a:lnTo>
                    <a:pt x="13303" y="95287"/>
                  </a:lnTo>
                  <a:lnTo>
                    <a:pt x="14821" y="101227"/>
                  </a:lnTo>
                  <a:lnTo>
                    <a:pt x="15834" y="107172"/>
                  </a:lnTo>
                  <a:lnTo>
                    <a:pt x="16960" y="120061"/>
                  </a:lnTo>
                  <a:lnTo>
                    <a:pt x="17260" y="127666"/>
                  </a:lnTo>
                  <a:lnTo>
                    <a:pt x="17682" y="149944"/>
                  </a:lnTo>
                  <a:lnTo>
                    <a:pt x="17859" y="322720"/>
                  </a:lnTo>
                  <a:lnTo>
                    <a:pt x="18852" y="330241"/>
                  </a:lnTo>
                  <a:lnTo>
                    <a:pt x="20505" y="337238"/>
                  </a:lnTo>
                  <a:lnTo>
                    <a:pt x="22600" y="343888"/>
                  </a:lnTo>
                  <a:lnTo>
                    <a:pt x="23997" y="350305"/>
                  </a:lnTo>
                  <a:lnTo>
                    <a:pt x="24927" y="356568"/>
                  </a:lnTo>
                  <a:lnTo>
                    <a:pt x="25962" y="368818"/>
                  </a:lnTo>
                  <a:lnTo>
                    <a:pt x="26421" y="380877"/>
                  </a:lnTo>
                  <a:lnTo>
                    <a:pt x="27535" y="385879"/>
                  </a:lnTo>
                  <a:lnTo>
                    <a:pt x="29271" y="390205"/>
                  </a:lnTo>
                  <a:lnTo>
                    <a:pt x="31421" y="394082"/>
                  </a:lnTo>
                  <a:lnTo>
                    <a:pt x="32854" y="398651"/>
                  </a:lnTo>
                  <a:lnTo>
                    <a:pt x="33809" y="403681"/>
                  </a:lnTo>
                  <a:lnTo>
                    <a:pt x="35153" y="417596"/>
                  </a:lnTo>
                  <a:lnTo>
                    <a:pt x="35607" y="431186"/>
                  </a:lnTo>
                  <a:lnTo>
                    <a:pt x="36636" y="434301"/>
                  </a:lnTo>
                  <a:lnTo>
                    <a:pt x="38315" y="437370"/>
                  </a:lnTo>
                  <a:lnTo>
                    <a:pt x="43398" y="444684"/>
                  </a:lnTo>
                  <a:lnTo>
                    <a:pt x="44092" y="448330"/>
                  </a:lnTo>
                  <a:lnTo>
                    <a:pt x="44648" y="4554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2" name="SMARTInkAnnotation54"/>
            <p:cNvSpPr/>
            <p:nvPr/>
          </p:nvSpPr>
          <p:spPr>
            <a:xfrm>
              <a:off x="5321160" y="4331160"/>
              <a:ext cx="232200" cy="26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32173" h="26789">
                  <a:moveTo>
                    <a:pt x="0" y="8929"/>
                  </a:moveTo>
                  <a:lnTo>
                    <a:pt x="0" y="4189"/>
                  </a:lnTo>
                  <a:lnTo>
                    <a:pt x="993" y="2792"/>
                  </a:lnTo>
                  <a:lnTo>
                    <a:pt x="2646" y="1861"/>
                  </a:lnTo>
                  <a:lnTo>
                    <a:pt x="7689" y="367"/>
                  </a:lnTo>
                  <a:lnTo>
                    <a:pt x="13303" y="108"/>
                  </a:lnTo>
                  <a:lnTo>
                    <a:pt x="46421" y="2"/>
                  </a:lnTo>
                  <a:lnTo>
                    <a:pt x="73068" y="0"/>
                  </a:lnTo>
                  <a:lnTo>
                    <a:pt x="77485" y="992"/>
                  </a:lnTo>
                  <a:lnTo>
                    <a:pt x="82415" y="2645"/>
                  </a:lnTo>
                  <a:lnTo>
                    <a:pt x="87686" y="4740"/>
                  </a:lnTo>
                  <a:lnTo>
                    <a:pt x="93183" y="6136"/>
                  </a:lnTo>
                  <a:lnTo>
                    <a:pt x="98833" y="7067"/>
                  </a:lnTo>
                  <a:lnTo>
                    <a:pt x="104585" y="7688"/>
                  </a:lnTo>
                  <a:lnTo>
                    <a:pt x="111395" y="8102"/>
                  </a:lnTo>
                  <a:lnTo>
                    <a:pt x="126899" y="8561"/>
                  </a:lnTo>
                  <a:lnTo>
                    <a:pt x="134209" y="9676"/>
                  </a:lnTo>
                  <a:lnTo>
                    <a:pt x="141067" y="11411"/>
                  </a:lnTo>
                  <a:lnTo>
                    <a:pt x="147623" y="13561"/>
                  </a:lnTo>
                  <a:lnTo>
                    <a:pt x="153978" y="14993"/>
                  </a:lnTo>
                  <a:lnTo>
                    <a:pt x="160199" y="15948"/>
                  </a:lnTo>
                  <a:lnTo>
                    <a:pt x="166331" y="16585"/>
                  </a:lnTo>
                  <a:lnTo>
                    <a:pt x="172403" y="17010"/>
                  </a:lnTo>
                  <a:lnTo>
                    <a:pt x="178435" y="17292"/>
                  </a:lnTo>
                  <a:lnTo>
                    <a:pt x="190430" y="17607"/>
                  </a:lnTo>
                  <a:lnTo>
                    <a:pt x="202375" y="17747"/>
                  </a:lnTo>
                  <a:lnTo>
                    <a:pt x="207347" y="18776"/>
                  </a:lnTo>
                  <a:lnTo>
                    <a:pt x="211653" y="20455"/>
                  </a:lnTo>
                  <a:lnTo>
                    <a:pt x="215516" y="22566"/>
                  </a:lnTo>
                  <a:lnTo>
                    <a:pt x="219084" y="23973"/>
                  </a:lnTo>
                  <a:lnTo>
                    <a:pt x="222455" y="24912"/>
                  </a:lnTo>
                  <a:lnTo>
                    <a:pt x="232172" y="267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3" name="SMARTInkAnnotation55"/>
            <p:cNvSpPr/>
            <p:nvPr/>
          </p:nvSpPr>
          <p:spPr>
            <a:xfrm>
              <a:off x="5330160" y="4447080"/>
              <a:ext cx="178560" cy="86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178595" h="8931">
                  <a:moveTo>
                    <a:pt x="0" y="0"/>
                  </a:moveTo>
                  <a:lnTo>
                    <a:pt x="17170" y="0"/>
                  </a:lnTo>
                  <a:lnTo>
                    <a:pt x="21368" y="992"/>
                  </a:lnTo>
                  <a:lnTo>
                    <a:pt x="25159" y="2645"/>
                  </a:lnTo>
                  <a:lnTo>
                    <a:pt x="28679" y="4740"/>
                  </a:lnTo>
                  <a:lnTo>
                    <a:pt x="33010" y="6137"/>
                  </a:lnTo>
                  <a:lnTo>
                    <a:pt x="37882" y="7068"/>
                  </a:lnTo>
                  <a:lnTo>
                    <a:pt x="43114" y="7688"/>
                  </a:lnTo>
                  <a:lnTo>
                    <a:pt x="49579" y="8102"/>
                  </a:lnTo>
                  <a:lnTo>
                    <a:pt x="56864" y="8378"/>
                  </a:lnTo>
                  <a:lnTo>
                    <a:pt x="78695" y="8766"/>
                  </a:lnTo>
                  <a:lnTo>
                    <a:pt x="178594" y="89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4" name="SMARTInkAnnotation56"/>
            <p:cNvSpPr/>
            <p:nvPr/>
          </p:nvSpPr>
          <p:spPr>
            <a:xfrm>
              <a:off x="5491080" y="4357800"/>
              <a:ext cx="178560" cy="4730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78549" h="473226">
                  <a:moveTo>
                    <a:pt x="98181" y="267842"/>
                  </a:moveTo>
                  <a:lnTo>
                    <a:pt x="98181" y="245383"/>
                  </a:lnTo>
                  <a:lnTo>
                    <a:pt x="97189" y="243940"/>
                  </a:lnTo>
                  <a:lnTo>
                    <a:pt x="95535" y="242978"/>
                  </a:lnTo>
                  <a:lnTo>
                    <a:pt x="90493" y="241432"/>
                  </a:lnTo>
                  <a:lnTo>
                    <a:pt x="87157" y="241222"/>
                  </a:lnTo>
                  <a:lnTo>
                    <a:pt x="82367" y="241128"/>
                  </a:lnTo>
                  <a:lnTo>
                    <a:pt x="68292" y="241063"/>
                  </a:lnTo>
                  <a:lnTo>
                    <a:pt x="65357" y="242052"/>
                  </a:lnTo>
                  <a:lnTo>
                    <a:pt x="62407" y="243703"/>
                  </a:lnTo>
                  <a:lnTo>
                    <a:pt x="59450" y="245796"/>
                  </a:lnTo>
                  <a:lnTo>
                    <a:pt x="56485" y="248184"/>
                  </a:lnTo>
                  <a:lnTo>
                    <a:pt x="53517" y="250768"/>
                  </a:lnTo>
                  <a:lnTo>
                    <a:pt x="50545" y="253482"/>
                  </a:lnTo>
                  <a:lnTo>
                    <a:pt x="44598" y="259145"/>
                  </a:lnTo>
                  <a:lnTo>
                    <a:pt x="41623" y="262044"/>
                  </a:lnTo>
                  <a:lnTo>
                    <a:pt x="38647" y="265961"/>
                  </a:lnTo>
                  <a:lnTo>
                    <a:pt x="35672" y="270557"/>
                  </a:lnTo>
                  <a:lnTo>
                    <a:pt x="32695" y="275605"/>
                  </a:lnTo>
                  <a:lnTo>
                    <a:pt x="29720" y="279963"/>
                  </a:lnTo>
                  <a:lnTo>
                    <a:pt x="26743" y="283860"/>
                  </a:lnTo>
                  <a:lnTo>
                    <a:pt x="23767" y="287450"/>
                  </a:lnTo>
                  <a:lnTo>
                    <a:pt x="20790" y="291828"/>
                  </a:lnTo>
                  <a:lnTo>
                    <a:pt x="17814" y="296731"/>
                  </a:lnTo>
                  <a:lnTo>
                    <a:pt x="14837" y="301984"/>
                  </a:lnTo>
                  <a:lnTo>
                    <a:pt x="8884" y="313112"/>
                  </a:lnTo>
                  <a:lnTo>
                    <a:pt x="5907" y="318858"/>
                  </a:lnTo>
                  <a:lnTo>
                    <a:pt x="2599" y="330534"/>
                  </a:lnTo>
                  <a:lnTo>
                    <a:pt x="1129" y="342337"/>
                  </a:lnTo>
                  <a:lnTo>
                    <a:pt x="477" y="354199"/>
                  </a:lnTo>
                  <a:lnTo>
                    <a:pt x="186" y="368730"/>
                  </a:lnTo>
                  <a:lnTo>
                    <a:pt x="0" y="397572"/>
                  </a:lnTo>
                  <a:lnTo>
                    <a:pt x="2620" y="410166"/>
                  </a:lnTo>
                  <a:lnTo>
                    <a:pt x="6100" y="421386"/>
                  </a:lnTo>
                  <a:lnTo>
                    <a:pt x="7647" y="429680"/>
                  </a:lnTo>
                  <a:lnTo>
                    <a:pt x="10043" y="434273"/>
                  </a:lnTo>
                  <a:lnTo>
                    <a:pt x="13625" y="439320"/>
                  </a:lnTo>
                  <a:lnTo>
                    <a:pt x="17998" y="444668"/>
                  </a:lnTo>
                  <a:lnTo>
                    <a:pt x="21906" y="449226"/>
                  </a:lnTo>
                  <a:lnTo>
                    <a:pt x="25502" y="453257"/>
                  </a:lnTo>
                  <a:lnTo>
                    <a:pt x="28893" y="456936"/>
                  </a:lnTo>
                  <a:lnTo>
                    <a:pt x="32145" y="459389"/>
                  </a:lnTo>
                  <a:lnTo>
                    <a:pt x="35305" y="461024"/>
                  </a:lnTo>
                  <a:lnTo>
                    <a:pt x="38404" y="462114"/>
                  </a:lnTo>
                  <a:lnTo>
                    <a:pt x="42455" y="463834"/>
                  </a:lnTo>
                  <a:lnTo>
                    <a:pt x="52247" y="468389"/>
                  </a:lnTo>
                  <a:lnTo>
                    <a:pt x="57636" y="470001"/>
                  </a:lnTo>
                  <a:lnTo>
                    <a:pt x="63213" y="471076"/>
                  </a:lnTo>
                  <a:lnTo>
                    <a:pt x="68916" y="471792"/>
                  </a:lnTo>
                  <a:lnTo>
                    <a:pt x="73711" y="471277"/>
                  </a:lnTo>
                  <a:lnTo>
                    <a:pt x="77898" y="469942"/>
                  </a:lnTo>
                  <a:lnTo>
                    <a:pt x="96490" y="460670"/>
                  </a:lnTo>
                  <a:lnTo>
                    <a:pt x="101022" y="457910"/>
                  </a:lnTo>
                  <a:lnTo>
                    <a:pt x="105036" y="455077"/>
                  </a:lnTo>
                  <a:lnTo>
                    <a:pt x="108705" y="452197"/>
                  </a:lnTo>
                  <a:lnTo>
                    <a:pt x="112141" y="448292"/>
                  </a:lnTo>
                  <a:lnTo>
                    <a:pt x="115426" y="443704"/>
                  </a:lnTo>
                  <a:lnTo>
                    <a:pt x="118607" y="438661"/>
                  </a:lnTo>
                  <a:lnTo>
                    <a:pt x="121720" y="433315"/>
                  </a:lnTo>
                  <a:lnTo>
                    <a:pt x="124787" y="427767"/>
                  </a:lnTo>
                  <a:lnTo>
                    <a:pt x="130842" y="416310"/>
                  </a:lnTo>
                  <a:lnTo>
                    <a:pt x="136841" y="404604"/>
                  </a:lnTo>
                  <a:lnTo>
                    <a:pt x="140167" y="390140"/>
                  </a:lnTo>
                  <a:lnTo>
                    <a:pt x="141055" y="382117"/>
                  </a:lnTo>
                  <a:lnTo>
                    <a:pt x="142638" y="373791"/>
                  </a:lnTo>
                  <a:lnTo>
                    <a:pt x="144687" y="365264"/>
                  </a:lnTo>
                  <a:lnTo>
                    <a:pt x="147044" y="356602"/>
                  </a:lnTo>
                  <a:lnTo>
                    <a:pt x="148616" y="347851"/>
                  </a:lnTo>
                  <a:lnTo>
                    <a:pt x="149664" y="339041"/>
                  </a:lnTo>
                  <a:lnTo>
                    <a:pt x="150362" y="330191"/>
                  </a:lnTo>
                  <a:lnTo>
                    <a:pt x="150827" y="321314"/>
                  </a:lnTo>
                  <a:lnTo>
                    <a:pt x="151345" y="303513"/>
                  </a:lnTo>
                  <a:lnTo>
                    <a:pt x="151759" y="1841"/>
                  </a:lnTo>
                  <a:lnTo>
                    <a:pt x="150767" y="1211"/>
                  </a:lnTo>
                  <a:lnTo>
                    <a:pt x="145622" y="324"/>
                  </a:lnTo>
                  <a:lnTo>
                    <a:pt x="143198" y="0"/>
                  </a:lnTo>
                  <a:lnTo>
                    <a:pt x="142861" y="12384"/>
                  </a:lnTo>
                  <a:lnTo>
                    <a:pt x="142829" y="370138"/>
                  </a:lnTo>
                  <a:lnTo>
                    <a:pt x="143822" y="377711"/>
                  </a:lnTo>
                  <a:lnTo>
                    <a:pt x="145475" y="385737"/>
                  </a:lnTo>
                  <a:lnTo>
                    <a:pt x="147570" y="394064"/>
                  </a:lnTo>
                  <a:lnTo>
                    <a:pt x="149897" y="408607"/>
                  </a:lnTo>
                  <a:lnTo>
                    <a:pt x="151924" y="421686"/>
                  </a:lnTo>
                  <a:lnTo>
                    <a:pt x="157651" y="439213"/>
                  </a:lnTo>
                  <a:lnTo>
                    <a:pt x="159339" y="447524"/>
                  </a:lnTo>
                  <a:lnTo>
                    <a:pt x="162735" y="454526"/>
                  </a:lnTo>
                  <a:lnTo>
                    <a:pt x="168258" y="462365"/>
                  </a:lnTo>
                  <a:lnTo>
                    <a:pt x="171660" y="466083"/>
                  </a:lnTo>
                  <a:lnTo>
                    <a:pt x="178548" y="4732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5" name="SMARTInkAnnotation57"/>
            <p:cNvSpPr/>
            <p:nvPr/>
          </p:nvSpPr>
          <p:spPr>
            <a:xfrm>
              <a:off x="5785560" y="4563360"/>
              <a:ext cx="214200" cy="17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4314" h="17828">
                  <a:moveTo>
                    <a:pt x="0" y="8898"/>
                  </a:moveTo>
                  <a:lnTo>
                    <a:pt x="12429" y="8898"/>
                  </a:lnTo>
                  <a:lnTo>
                    <a:pt x="15232" y="7905"/>
                  </a:lnTo>
                  <a:lnTo>
                    <a:pt x="18091" y="6252"/>
                  </a:lnTo>
                  <a:lnTo>
                    <a:pt x="20991" y="4157"/>
                  </a:lnTo>
                  <a:lnTo>
                    <a:pt x="23916" y="2761"/>
                  </a:lnTo>
                  <a:lnTo>
                    <a:pt x="26858" y="1829"/>
                  </a:lnTo>
                  <a:lnTo>
                    <a:pt x="29811" y="1209"/>
                  </a:lnTo>
                  <a:lnTo>
                    <a:pt x="33765" y="795"/>
                  </a:lnTo>
                  <a:lnTo>
                    <a:pt x="38386" y="519"/>
                  </a:lnTo>
                  <a:lnTo>
                    <a:pt x="48810" y="213"/>
                  </a:lnTo>
                  <a:lnTo>
                    <a:pt x="77546" y="0"/>
                  </a:lnTo>
                  <a:lnTo>
                    <a:pt x="83448" y="981"/>
                  </a:lnTo>
                  <a:lnTo>
                    <a:pt x="89366" y="2628"/>
                  </a:lnTo>
                  <a:lnTo>
                    <a:pt x="95296" y="4718"/>
                  </a:lnTo>
                  <a:lnTo>
                    <a:pt x="101234" y="6111"/>
                  </a:lnTo>
                  <a:lnTo>
                    <a:pt x="107176" y="7040"/>
                  </a:lnTo>
                  <a:lnTo>
                    <a:pt x="113123" y="7659"/>
                  </a:lnTo>
                  <a:lnTo>
                    <a:pt x="119071" y="8072"/>
                  </a:lnTo>
                  <a:lnTo>
                    <a:pt x="125021" y="8347"/>
                  </a:lnTo>
                  <a:lnTo>
                    <a:pt x="136924" y="8653"/>
                  </a:lnTo>
                  <a:lnTo>
                    <a:pt x="148830" y="8789"/>
                  </a:lnTo>
                  <a:lnTo>
                    <a:pt x="154783" y="9817"/>
                  </a:lnTo>
                  <a:lnTo>
                    <a:pt x="160736" y="11495"/>
                  </a:lnTo>
                  <a:lnTo>
                    <a:pt x="166688" y="13605"/>
                  </a:lnTo>
                  <a:lnTo>
                    <a:pt x="171649" y="15013"/>
                  </a:lnTo>
                  <a:lnTo>
                    <a:pt x="175948" y="15951"/>
                  </a:lnTo>
                  <a:lnTo>
                    <a:pt x="179806" y="16576"/>
                  </a:lnTo>
                  <a:lnTo>
                    <a:pt x="184363" y="16993"/>
                  </a:lnTo>
                  <a:lnTo>
                    <a:pt x="189385" y="17271"/>
                  </a:lnTo>
                  <a:lnTo>
                    <a:pt x="199265" y="17580"/>
                  </a:lnTo>
                  <a:lnTo>
                    <a:pt x="214313" y="178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6" name="SMARTInkAnnotation58"/>
            <p:cNvSpPr/>
            <p:nvPr/>
          </p:nvSpPr>
          <p:spPr>
            <a:xfrm>
              <a:off x="5830200" y="4643640"/>
              <a:ext cx="151560" cy="356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51806" h="35720">
                  <a:moveTo>
                    <a:pt x="0" y="0"/>
                  </a:moveTo>
                  <a:lnTo>
                    <a:pt x="4741" y="0"/>
                  </a:lnTo>
                  <a:lnTo>
                    <a:pt x="6138" y="993"/>
                  </a:lnTo>
                  <a:lnTo>
                    <a:pt x="7069" y="2646"/>
                  </a:lnTo>
                  <a:lnTo>
                    <a:pt x="7689" y="4740"/>
                  </a:lnTo>
                  <a:lnTo>
                    <a:pt x="9095" y="6137"/>
                  </a:lnTo>
                  <a:lnTo>
                    <a:pt x="11025" y="7068"/>
                  </a:lnTo>
                  <a:lnTo>
                    <a:pt x="13304" y="7689"/>
                  </a:lnTo>
                  <a:lnTo>
                    <a:pt x="16806" y="9095"/>
                  </a:lnTo>
                  <a:lnTo>
                    <a:pt x="21126" y="11025"/>
                  </a:lnTo>
                  <a:lnTo>
                    <a:pt x="25990" y="13303"/>
                  </a:lnTo>
                  <a:lnTo>
                    <a:pt x="30225" y="14822"/>
                  </a:lnTo>
                  <a:lnTo>
                    <a:pt x="34041" y="15834"/>
                  </a:lnTo>
                  <a:lnTo>
                    <a:pt x="37577" y="16509"/>
                  </a:lnTo>
                  <a:lnTo>
                    <a:pt x="41919" y="16960"/>
                  </a:lnTo>
                  <a:lnTo>
                    <a:pt x="46797" y="17259"/>
                  </a:lnTo>
                  <a:lnTo>
                    <a:pt x="52035" y="17460"/>
                  </a:lnTo>
                  <a:lnTo>
                    <a:pt x="58502" y="18585"/>
                  </a:lnTo>
                  <a:lnTo>
                    <a:pt x="65791" y="20327"/>
                  </a:lnTo>
                  <a:lnTo>
                    <a:pt x="73626" y="22481"/>
                  </a:lnTo>
                  <a:lnTo>
                    <a:pt x="80834" y="23918"/>
                  </a:lnTo>
                  <a:lnTo>
                    <a:pt x="87624" y="24874"/>
                  </a:lnTo>
                  <a:lnTo>
                    <a:pt x="94135" y="25513"/>
                  </a:lnTo>
                  <a:lnTo>
                    <a:pt x="100461" y="26931"/>
                  </a:lnTo>
                  <a:lnTo>
                    <a:pt x="106661" y="28868"/>
                  </a:lnTo>
                  <a:lnTo>
                    <a:pt x="112780" y="31151"/>
                  </a:lnTo>
                  <a:lnTo>
                    <a:pt x="119835" y="32674"/>
                  </a:lnTo>
                  <a:lnTo>
                    <a:pt x="127516" y="33689"/>
                  </a:lnTo>
                  <a:lnTo>
                    <a:pt x="151805" y="357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7" name="SMARTInkAnnotation59"/>
            <p:cNvSpPr/>
            <p:nvPr/>
          </p:nvSpPr>
          <p:spPr>
            <a:xfrm>
              <a:off x="6187680" y="4384800"/>
              <a:ext cx="44640" cy="303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44650" h="303610">
                  <a:moveTo>
                    <a:pt x="0" y="0"/>
                  </a:moveTo>
                  <a:lnTo>
                    <a:pt x="0" y="12429"/>
                  </a:lnTo>
                  <a:lnTo>
                    <a:pt x="993" y="15232"/>
                  </a:lnTo>
                  <a:lnTo>
                    <a:pt x="2646" y="18092"/>
                  </a:lnTo>
                  <a:lnTo>
                    <a:pt x="4740" y="20991"/>
                  </a:lnTo>
                  <a:lnTo>
                    <a:pt x="6138" y="23916"/>
                  </a:lnTo>
                  <a:lnTo>
                    <a:pt x="7068" y="26858"/>
                  </a:lnTo>
                  <a:lnTo>
                    <a:pt x="8102" y="33765"/>
                  </a:lnTo>
                  <a:lnTo>
                    <a:pt x="8378" y="38385"/>
                  </a:lnTo>
                  <a:lnTo>
                    <a:pt x="8562" y="43449"/>
                  </a:lnTo>
                  <a:lnTo>
                    <a:pt x="9676" y="47818"/>
                  </a:lnTo>
                  <a:lnTo>
                    <a:pt x="11412" y="51722"/>
                  </a:lnTo>
                  <a:lnTo>
                    <a:pt x="13561" y="55317"/>
                  </a:lnTo>
                  <a:lnTo>
                    <a:pt x="14994" y="59699"/>
                  </a:lnTo>
                  <a:lnTo>
                    <a:pt x="15950" y="64604"/>
                  </a:lnTo>
                  <a:lnTo>
                    <a:pt x="16585" y="69858"/>
                  </a:lnTo>
                  <a:lnTo>
                    <a:pt x="17010" y="75346"/>
                  </a:lnTo>
                  <a:lnTo>
                    <a:pt x="17294" y="80988"/>
                  </a:lnTo>
                  <a:lnTo>
                    <a:pt x="17482" y="86734"/>
                  </a:lnTo>
                  <a:lnTo>
                    <a:pt x="17785" y="116351"/>
                  </a:lnTo>
                  <a:lnTo>
                    <a:pt x="17850" y="148472"/>
                  </a:lnTo>
                  <a:lnTo>
                    <a:pt x="18845" y="155536"/>
                  </a:lnTo>
                  <a:lnTo>
                    <a:pt x="20501" y="163221"/>
                  </a:lnTo>
                  <a:lnTo>
                    <a:pt x="22597" y="171322"/>
                  </a:lnTo>
                  <a:lnTo>
                    <a:pt x="23994" y="178707"/>
                  </a:lnTo>
                  <a:lnTo>
                    <a:pt x="24926" y="185615"/>
                  </a:lnTo>
                  <a:lnTo>
                    <a:pt x="25547" y="192204"/>
                  </a:lnTo>
                  <a:lnTo>
                    <a:pt x="25962" y="198581"/>
                  </a:lnTo>
                  <a:lnTo>
                    <a:pt x="26237" y="204818"/>
                  </a:lnTo>
                  <a:lnTo>
                    <a:pt x="26421" y="210959"/>
                  </a:lnTo>
                  <a:lnTo>
                    <a:pt x="27535" y="217038"/>
                  </a:lnTo>
                  <a:lnTo>
                    <a:pt x="29271" y="223074"/>
                  </a:lnTo>
                  <a:lnTo>
                    <a:pt x="31421" y="229084"/>
                  </a:lnTo>
                  <a:lnTo>
                    <a:pt x="32854" y="235074"/>
                  </a:lnTo>
                  <a:lnTo>
                    <a:pt x="33809" y="241052"/>
                  </a:lnTo>
                  <a:lnTo>
                    <a:pt x="34445" y="247022"/>
                  </a:lnTo>
                  <a:lnTo>
                    <a:pt x="34870" y="252986"/>
                  </a:lnTo>
                  <a:lnTo>
                    <a:pt x="35153" y="258946"/>
                  </a:lnTo>
                  <a:lnTo>
                    <a:pt x="35552" y="274170"/>
                  </a:lnTo>
                  <a:lnTo>
                    <a:pt x="35686" y="288203"/>
                  </a:lnTo>
                  <a:lnTo>
                    <a:pt x="36690" y="291354"/>
                  </a:lnTo>
                  <a:lnTo>
                    <a:pt x="38350" y="294447"/>
                  </a:lnTo>
                  <a:lnTo>
                    <a:pt x="44649" y="3036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8" name="SMARTInkAnnotation60"/>
            <p:cNvSpPr/>
            <p:nvPr/>
          </p:nvSpPr>
          <p:spPr>
            <a:xfrm>
              <a:off x="6116040" y="4456080"/>
              <a:ext cx="276480" cy="57132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76712" h="571501">
                  <a:moveTo>
                    <a:pt x="267890" y="0"/>
                  </a:moveTo>
                  <a:lnTo>
                    <a:pt x="275579" y="0"/>
                  </a:lnTo>
                  <a:lnTo>
                    <a:pt x="275992" y="992"/>
                  </a:lnTo>
                  <a:lnTo>
                    <a:pt x="276711" y="7688"/>
                  </a:lnTo>
                  <a:lnTo>
                    <a:pt x="269738" y="25548"/>
                  </a:lnTo>
                  <a:lnTo>
                    <a:pt x="267719" y="33182"/>
                  </a:lnTo>
                  <a:lnTo>
                    <a:pt x="263514" y="43190"/>
                  </a:lnTo>
                  <a:lnTo>
                    <a:pt x="260985" y="56899"/>
                  </a:lnTo>
                  <a:lnTo>
                    <a:pt x="260310" y="64721"/>
                  </a:lnTo>
                  <a:lnTo>
                    <a:pt x="257876" y="71921"/>
                  </a:lnTo>
                  <a:lnTo>
                    <a:pt x="245962" y="92526"/>
                  </a:lnTo>
                  <a:lnTo>
                    <a:pt x="238962" y="108592"/>
                  </a:lnTo>
                  <a:lnTo>
                    <a:pt x="234714" y="116051"/>
                  </a:lnTo>
                  <a:lnTo>
                    <a:pt x="229897" y="123008"/>
                  </a:lnTo>
                  <a:lnTo>
                    <a:pt x="224702" y="129630"/>
                  </a:lnTo>
                  <a:lnTo>
                    <a:pt x="216284" y="144926"/>
                  </a:lnTo>
                  <a:lnTo>
                    <a:pt x="208243" y="161646"/>
                  </a:lnTo>
                  <a:lnTo>
                    <a:pt x="203321" y="170272"/>
                  </a:lnTo>
                  <a:lnTo>
                    <a:pt x="198055" y="178999"/>
                  </a:lnTo>
                  <a:lnTo>
                    <a:pt x="189558" y="196633"/>
                  </a:lnTo>
                  <a:lnTo>
                    <a:pt x="185904" y="205503"/>
                  </a:lnTo>
                  <a:lnTo>
                    <a:pt x="181482" y="215384"/>
                  </a:lnTo>
                  <a:lnTo>
                    <a:pt x="171279" y="236948"/>
                  </a:lnTo>
                  <a:lnTo>
                    <a:pt x="165780" y="247262"/>
                  </a:lnTo>
                  <a:lnTo>
                    <a:pt x="160128" y="257114"/>
                  </a:lnTo>
                  <a:lnTo>
                    <a:pt x="154377" y="266660"/>
                  </a:lnTo>
                  <a:lnTo>
                    <a:pt x="149551" y="276992"/>
                  </a:lnTo>
                  <a:lnTo>
                    <a:pt x="145341" y="287849"/>
                  </a:lnTo>
                  <a:lnTo>
                    <a:pt x="141543" y="299055"/>
                  </a:lnTo>
                  <a:lnTo>
                    <a:pt x="137026" y="309503"/>
                  </a:lnTo>
                  <a:lnTo>
                    <a:pt x="132029" y="319444"/>
                  </a:lnTo>
                  <a:lnTo>
                    <a:pt x="126715" y="329049"/>
                  </a:lnTo>
                  <a:lnTo>
                    <a:pt x="122179" y="339421"/>
                  </a:lnTo>
                  <a:lnTo>
                    <a:pt x="118164" y="350304"/>
                  </a:lnTo>
                  <a:lnTo>
                    <a:pt x="114494" y="361528"/>
                  </a:lnTo>
                  <a:lnTo>
                    <a:pt x="110064" y="371987"/>
                  </a:lnTo>
                  <a:lnTo>
                    <a:pt x="105126" y="381937"/>
                  </a:lnTo>
                  <a:lnTo>
                    <a:pt x="99850" y="391546"/>
                  </a:lnTo>
                  <a:lnTo>
                    <a:pt x="95340" y="400929"/>
                  </a:lnTo>
                  <a:lnTo>
                    <a:pt x="91341" y="410161"/>
                  </a:lnTo>
                  <a:lnTo>
                    <a:pt x="87683" y="419292"/>
                  </a:lnTo>
                  <a:lnTo>
                    <a:pt x="83259" y="428356"/>
                  </a:lnTo>
                  <a:lnTo>
                    <a:pt x="78326" y="437376"/>
                  </a:lnTo>
                  <a:lnTo>
                    <a:pt x="73054" y="446365"/>
                  </a:lnTo>
                  <a:lnTo>
                    <a:pt x="68546" y="455334"/>
                  </a:lnTo>
                  <a:lnTo>
                    <a:pt x="64549" y="464291"/>
                  </a:lnTo>
                  <a:lnTo>
                    <a:pt x="60892" y="473237"/>
                  </a:lnTo>
                  <a:lnTo>
                    <a:pt x="56470" y="482179"/>
                  </a:lnTo>
                  <a:lnTo>
                    <a:pt x="51537" y="491117"/>
                  </a:lnTo>
                  <a:lnTo>
                    <a:pt x="46264" y="500052"/>
                  </a:lnTo>
                  <a:lnTo>
                    <a:pt x="37760" y="515271"/>
                  </a:lnTo>
                  <a:lnTo>
                    <a:pt x="30673" y="528649"/>
                  </a:lnTo>
                  <a:lnTo>
                    <a:pt x="24215" y="541210"/>
                  </a:lnTo>
                  <a:lnTo>
                    <a:pt x="18039" y="550762"/>
                  </a:lnTo>
                  <a:lnTo>
                    <a:pt x="11986" y="558314"/>
                  </a:lnTo>
                  <a:lnTo>
                    <a:pt x="8982" y="561717"/>
                  </a:lnTo>
                  <a:lnTo>
                    <a:pt x="0" y="571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89" name="SMARTInkAnnotation61"/>
            <p:cNvSpPr/>
            <p:nvPr/>
          </p:nvSpPr>
          <p:spPr>
            <a:xfrm>
              <a:off x="6289920" y="4750920"/>
              <a:ext cx="192600" cy="2944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4480"/>
                <a:gd name="textAreaBottom" fmla="*/ 294840 h 294480"/>
              </a:gdLst>
              <a:ahLst/>
              <a:rect l="textAreaLeft" t="textAreaTop" r="textAreaRight" b="textAreaBottom"/>
              <a:pathLst>
                <a:path w="192564" h="294680">
                  <a:moveTo>
                    <a:pt x="58618" y="0"/>
                  </a:moveTo>
                  <a:lnTo>
                    <a:pt x="63358" y="0"/>
                  </a:lnTo>
                  <a:lnTo>
                    <a:pt x="64755" y="992"/>
                  </a:lnTo>
                  <a:lnTo>
                    <a:pt x="65685" y="2645"/>
                  </a:lnTo>
                  <a:lnTo>
                    <a:pt x="66720" y="7129"/>
                  </a:lnTo>
                  <a:lnTo>
                    <a:pt x="67179" y="12428"/>
                  </a:lnTo>
                  <a:lnTo>
                    <a:pt x="68295" y="15231"/>
                  </a:lnTo>
                  <a:lnTo>
                    <a:pt x="72179" y="20990"/>
                  </a:lnTo>
                  <a:lnTo>
                    <a:pt x="77212" y="26857"/>
                  </a:lnTo>
                  <a:lnTo>
                    <a:pt x="79944" y="29811"/>
                  </a:lnTo>
                  <a:lnTo>
                    <a:pt x="81765" y="32772"/>
                  </a:lnTo>
                  <a:lnTo>
                    <a:pt x="83788" y="38708"/>
                  </a:lnTo>
                  <a:lnTo>
                    <a:pt x="87333" y="47300"/>
                  </a:lnTo>
                  <a:lnTo>
                    <a:pt x="89667" y="52369"/>
                  </a:lnTo>
                  <a:lnTo>
                    <a:pt x="94907" y="60647"/>
                  </a:lnTo>
                  <a:lnTo>
                    <a:pt x="100543" y="68626"/>
                  </a:lnTo>
                  <a:lnTo>
                    <a:pt x="103435" y="73532"/>
                  </a:lnTo>
                  <a:lnTo>
                    <a:pt x="106355" y="78787"/>
                  </a:lnTo>
                  <a:lnTo>
                    <a:pt x="108302" y="84275"/>
                  </a:lnTo>
                  <a:lnTo>
                    <a:pt x="109600" y="89917"/>
                  </a:lnTo>
                  <a:lnTo>
                    <a:pt x="110466" y="95663"/>
                  </a:lnTo>
                  <a:lnTo>
                    <a:pt x="112035" y="101478"/>
                  </a:lnTo>
                  <a:lnTo>
                    <a:pt x="114072" y="107340"/>
                  </a:lnTo>
                  <a:lnTo>
                    <a:pt x="116423" y="113232"/>
                  </a:lnTo>
                  <a:lnTo>
                    <a:pt x="117992" y="120136"/>
                  </a:lnTo>
                  <a:lnTo>
                    <a:pt x="119036" y="127716"/>
                  </a:lnTo>
                  <a:lnTo>
                    <a:pt x="119732" y="135745"/>
                  </a:lnTo>
                  <a:lnTo>
                    <a:pt x="120196" y="143083"/>
                  </a:lnTo>
                  <a:lnTo>
                    <a:pt x="120713" y="156527"/>
                  </a:lnTo>
                  <a:lnTo>
                    <a:pt x="121002" y="175253"/>
                  </a:lnTo>
                  <a:lnTo>
                    <a:pt x="121115" y="211303"/>
                  </a:lnTo>
                  <a:lnTo>
                    <a:pt x="120126" y="216275"/>
                  </a:lnTo>
                  <a:lnTo>
                    <a:pt x="116382" y="224444"/>
                  </a:lnTo>
                  <a:lnTo>
                    <a:pt x="111411" y="231383"/>
                  </a:lnTo>
                  <a:lnTo>
                    <a:pt x="108696" y="234623"/>
                  </a:lnTo>
                  <a:lnTo>
                    <a:pt x="106885" y="237774"/>
                  </a:lnTo>
                  <a:lnTo>
                    <a:pt x="103346" y="246950"/>
                  </a:lnTo>
                  <a:lnTo>
                    <a:pt x="99002" y="252961"/>
                  </a:lnTo>
                  <a:lnTo>
                    <a:pt x="95463" y="255953"/>
                  </a:lnTo>
                  <a:lnTo>
                    <a:pt x="91118" y="258940"/>
                  </a:lnTo>
                  <a:lnTo>
                    <a:pt x="86238" y="261923"/>
                  </a:lnTo>
                  <a:lnTo>
                    <a:pt x="81992" y="263913"/>
                  </a:lnTo>
                  <a:lnTo>
                    <a:pt x="78169" y="265238"/>
                  </a:lnTo>
                  <a:lnTo>
                    <a:pt x="74628" y="266122"/>
                  </a:lnTo>
                  <a:lnTo>
                    <a:pt x="71276" y="266711"/>
                  </a:lnTo>
                  <a:lnTo>
                    <a:pt x="68049" y="267104"/>
                  </a:lnTo>
                  <a:lnTo>
                    <a:pt x="64905" y="267366"/>
                  </a:lnTo>
                  <a:lnTo>
                    <a:pt x="61817" y="266549"/>
                  </a:lnTo>
                  <a:lnTo>
                    <a:pt x="58766" y="265011"/>
                  </a:lnTo>
                  <a:lnTo>
                    <a:pt x="55741" y="262994"/>
                  </a:lnTo>
                  <a:lnTo>
                    <a:pt x="51739" y="261650"/>
                  </a:lnTo>
                  <a:lnTo>
                    <a:pt x="47087" y="260753"/>
                  </a:lnTo>
                  <a:lnTo>
                    <a:pt x="42000" y="260156"/>
                  </a:lnTo>
                  <a:lnTo>
                    <a:pt x="37617" y="258766"/>
                  </a:lnTo>
                  <a:lnTo>
                    <a:pt x="33703" y="256846"/>
                  </a:lnTo>
                  <a:lnTo>
                    <a:pt x="30102" y="254574"/>
                  </a:lnTo>
                  <a:lnTo>
                    <a:pt x="26709" y="252067"/>
                  </a:lnTo>
                  <a:lnTo>
                    <a:pt x="23455" y="249405"/>
                  </a:lnTo>
                  <a:lnTo>
                    <a:pt x="20293" y="246636"/>
                  </a:lnTo>
                  <a:lnTo>
                    <a:pt x="17193" y="243799"/>
                  </a:lnTo>
                  <a:lnTo>
                    <a:pt x="11103" y="238001"/>
                  </a:lnTo>
                  <a:lnTo>
                    <a:pt x="9082" y="235066"/>
                  </a:lnTo>
                  <a:lnTo>
                    <a:pt x="6836" y="229159"/>
                  </a:lnTo>
                  <a:lnTo>
                    <a:pt x="5572" y="220254"/>
                  </a:lnTo>
                  <a:lnTo>
                    <a:pt x="4403" y="217281"/>
                  </a:lnTo>
                  <a:lnTo>
                    <a:pt x="457" y="211332"/>
                  </a:lnTo>
                  <a:lnTo>
                    <a:pt x="0" y="208356"/>
                  </a:lnTo>
                  <a:lnTo>
                    <a:pt x="688" y="205381"/>
                  </a:lnTo>
                  <a:lnTo>
                    <a:pt x="4180" y="198217"/>
                  </a:lnTo>
                  <a:lnTo>
                    <a:pt x="4785" y="192234"/>
                  </a:lnTo>
                  <a:lnTo>
                    <a:pt x="5862" y="190664"/>
                  </a:lnTo>
                  <a:lnTo>
                    <a:pt x="7573" y="189617"/>
                  </a:lnTo>
                  <a:lnTo>
                    <a:pt x="12119" y="188453"/>
                  </a:lnTo>
                  <a:lnTo>
                    <a:pt x="17446" y="187937"/>
                  </a:lnTo>
                  <a:lnTo>
                    <a:pt x="23121" y="187707"/>
                  </a:lnTo>
                  <a:lnTo>
                    <a:pt x="31895" y="187577"/>
                  </a:lnTo>
                  <a:lnTo>
                    <a:pt x="48488" y="187534"/>
                  </a:lnTo>
                  <a:lnTo>
                    <a:pt x="52858" y="188522"/>
                  </a:lnTo>
                  <a:lnTo>
                    <a:pt x="56762" y="190173"/>
                  </a:lnTo>
                  <a:lnTo>
                    <a:pt x="60357" y="192266"/>
                  </a:lnTo>
                  <a:lnTo>
                    <a:pt x="63745" y="194654"/>
                  </a:lnTo>
                  <a:lnTo>
                    <a:pt x="66997" y="197238"/>
                  </a:lnTo>
                  <a:lnTo>
                    <a:pt x="70157" y="199953"/>
                  </a:lnTo>
                  <a:lnTo>
                    <a:pt x="74248" y="202755"/>
                  </a:lnTo>
                  <a:lnTo>
                    <a:pt x="78960" y="205615"/>
                  </a:lnTo>
                  <a:lnTo>
                    <a:pt x="84086" y="208514"/>
                  </a:lnTo>
                  <a:lnTo>
                    <a:pt x="95072" y="214380"/>
                  </a:lnTo>
                  <a:lnTo>
                    <a:pt x="100780" y="217334"/>
                  </a:lnTo>
                  <a:lnTo>
                    <a:pt x="105578" y="220296"/>
                  </a:lnTo>
                  <a:lnTo>
                    <a:pt x="109768" y="223262"/>
                  </a:lnTo>
                  <a:lnTo>
                    <a:pt x="113554" y="226232"/>
                  </a:lnTo>
                  <a:lnTo>
                    <a:pt x="118061" y="230196"/>
                  </a:lnTo>
                  <a:lnTo>
                    <a:pt x="123052" y="234823"/>
                  </a:lnTo>
                  <a:lnTo>
                    <a:pt x="140578" y="251767"/>
                  </a:lnTo>
                  <a:lnTo>
                    <a:pt x="145007" y="255157"/>
                  </a:lnTo>
                  <a:lnTo>
                    <a:pt x="149945" y="258409"/>
                  </a:lnTo>
                  <a:lnTo>
                    <a:pt x="155222" y="261570"/>
                  </a:lnTo>
                  <a:lnTo>
                    <a:pt x="159731" y="264669"/>
                  </a:lnTo>
                  <a:lnTo>
                    <a:pt x="163730" y="267727"/>
                  </a:lnTo>
                  <a:lnTo>
                    <a:pt x="167387" y="270758"/>
                  </a:lnTo>
                  <a:lnTo>
                    <a:pt x="170819" y="273771"/>
                  </a:lnTo>
                  <a:lnTo>
                    <a:pt x="174098" y="276772"/>
                  </a:lnTo>
                  <a:lnTo>
                    <a:pt x="180388" y="282751"/>
                  </a:lnTo>
                  <a:lnTo>
                    <a:pt x="192563" y="2946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0" name="SMARTInkAnnotation62"/>
            <p:cNvSpPr/>
            <p:nvPr/>
          </p:nvSpPr>
          <p:spPr>
            <a:xfrm>
              <a:off x="6553800" y="4715280"/>
              <a:ext cx="214200" cy="258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14204" h="258378">
                  <a:moveTo>
                    <a:pt x="26679" y="26742"/>
                  </a:moveTo>
                  <a:lnTo>
                    <a:pt x="26679" y="69932"/>
                  </a:lnTo>
                  <a:lnTo>
                    <a:pt x="27671" y="75379"/>
                  </a:lnTo>
                  <a:lnTo>
                    <a:pt x="29326" y="80995"/>
                  </a:lnTo>
                  <a:lnTo>
                    <a:pt x="31419" y="86723"/>
                  </a:lnTo>
                  <a:lnTo>
                    <a:pt x="31825" y="92526"/>
                  </a:lnTo>
                  <a:lnTo>
                    <a:pt x="31101" y="98379"/>
                  </a:lnTo>
                  <a:lnTo>
                    <a:pt x="29628" y="104266"/>
                  </a:lnTo>
                  <a:lnTo>
                    <a:pt x="28645" y="111167"/>
                  </a:lnTo>
                  <a:lnTo>
                    <a:pt x="27989" y="118744"/>
                  </a:lnTo>
                  <a:lnTo>
                    <a:pt x="27553" y="126772"/>
                  </a:lnTo>
                  <a:lnTo>
                    <a:pt x="27068" y="140983"/>
                  </a:lnTo>
                  <a:lnTo>
                    <a:pt x="26939" y="147552"/>
                  </a:lnTo>
                  <a:lnTo>
                    <a:pt x="25860" y="153914"/>
                  </a:lnTo>
                  <a:lnTo>
                    <a:pt x="24148" y="160141"/>
                  </a:lnTo>
                  <a:lnTo>
                    <a:pt x="22016" y="166276"/>
                  </a:lnTo>
                  <a:lnTo>
                    <a:pt x="20594" y="172351"/>
                  </a:lnTo>
                  <a:lnTo>
                    <a:pt x="19646" y="178385"/>
                  </a:lnTo>
                  <a:lnTo>
                    <a:pt x="19014" y="184392"/>
                  </a:lnTo>
                  <a:lnTo>
                    <a:pt x="17600" y="190380"/>
                  </a:lnTo>
                  <a:lnTo>
                    <a:pt x="15666" y="196358"/>
                  </a:lnTo>
                  <a:lnTo>
                    <a:pt x="13383" y="202327"/>
                  </a:lnTo>
                  <a:lnTo>
                    <a:pt x="11862" y="208291"/>
                  </a:lnTo>
                  <a:lnTo>
                    <a:pt x="10849" y="214251"/>
                  </a:lnTo>
                  <a:lnTo>
                    <a:pt x="10172" y="220209"/>
                  </a:lnTo>
                  <a:lnTo>
                    <a:pt x="9721" y="225172"/>
                  </a:lnTo>
                  <a:lnTo>
                    <a:pt x="9421" y="229475"/>
                  </a:lnTo>
                  <a:lnTo>
                    <a:pt x="9088" y="236900"/>
                  </a:lnTo>
                  <a:lnTo>
                    <a:pt x="8939" y="243507"/>
                  </a:lnTo>
                  <a:lnTo>
                    <a:pt x="7907" y="246658"/>
                  </a:lnTo>
                  <a:lnTo>
                    <a:pt x="4115" y="252805"/>
                  </a:lnTo>
                  <a:lnTo>
                    <a:pt x="261" y="258377"/>
                  </a:lnTo>
                  <a:lnTo>
                    <a:pt x="0" y="254015"/>
                  </a:lnTo>
                  <a:lnTo>
                    <a:pt x="957" y="251679"/>
                  </a:lnTo>
                  <a:lnTo>
                    <a:pt x="6049" y="244643"/>
                  </a:lnTo>
                  <a:lnTo>
                    <a:pt x="7588" y="242649"/>
                  </a:lnTo>
                  <a:lnTo>
                    <a:pt x="8273" y="236472"/>
                  </a:lnTo>
                  <a:lnTo>
                    <a:pt x="8455" y="232046"/>
                  </a:lnTo>
                  <a:lnTo>
                    <a:pt x="8657" y="221837"/>
                  </a:lnTo>
                  <a:lnTo>
                    <a:pt x="8788" y="199114"/>
                  </a:lnTo>
                  <a:lnTo>
                    <a:pt x="9790" y="193250"/>
                  </a:lnTo>
                  <a:lnTo>
                    <a:pt x="11451" y="187357"/>
                  </a:lnTo>
                  <a:lnTo>
                    <a:pt x="13551" y="181444"/>
                  </a:lnTo>
                  <a:lnTo>
                    <a:pt x="14950" y="174525"/>
                  </a:lnTo>
                  <a:lnTo>
                    <a:pt x="15884" y="166936"/>
                  </a:lnTo>
                  <a:lnTo>
                    <a:pt x="16506" y="158900"/>
                  </a:lnTo>
                  <a:lnTo>
                    <a:pt x="17912" y="151558"/>
                  </a:lnTo>
                  <a:lnTo>
                    <a:pt x="19843" y="144679"/>
                  </a:lnTo>
                  <a:lnTo>
                    <a:pt x="22122" y="138109"/>
                  </a:lnTo>
                  <a:lnTo>
                    <a:pt x="23641" y="131745"/>
                  </a:lnTo>
                  <a:lnTo>
                    <a:pt x="24655" y="125517"/>
                  </a:lnTo>
                  <a:lnTo>
                    <a:pt x="25329" y="119381"/>
                  </a:lnTo>
                  <a:lnTo>
                    <a:pt x="26772" y="113306"/>
                  </a:lnTo>
                  <a:lnTo>
                    <a:pt x="28726" y="107271"/>
                  </a:lnTo>
                  <a:lnTo>
                    <a:pt x="31020" y="101264"/>
                  </a:lnTo>
                  <a:lnTo>
                    <a:pt x="33542" y="95275"/>
                  </a:lnTo>
                  <a:lnTo>
                    <a:pt x="36216" y="89298"/>
                  </a:lnTo>
                  <a:lnTo>
                    <a:pt x="41832" y="77365"/>
                  </a:lnTo>
                  <a:lnTo>
                    <a:pt x="47634" y="65447"/>
                  </a:lnTo>
                  <a:lnTo>
                    <a:pt x="50572" y="60483"/>
                  </a:lnTo>
                  <a:lnTo>
                    <a:pt x="53523" y="56181"/>
                  </a:lnTo>
                  <a:lnTo>
                    <a:pt x="56481" y="52321"/>
                  </a:lnTo>
                  <a:lnTo>
                    <a:pt x="58453" y="47764"/>
                  </a:lnTo>
                  <a:lnTo>
                    <a:pt x="59769" y="42741"/>
                  </a:lnTo>
                  <a:lnTo>
                    <a:pt x="60645" y="37407"/>
                  </a:lnTo>
                  <a:lnTo>
                    <a:pt x="62221" y="32861"/>
                  </a:lnTo>
                  <a:lnTo>
                    <a:pt x="66620" y="25161"/>
                  </a:lnTo>
                  <a:lnTo>
                    <a:pt x="71881" y="18433"/>
                  </a:lnTo>
                  <a:lnTo>
                    <a:pt x="74674" y="15250"/>
                  </a:lnTo>
                  <a:lnTo>
                    <a:pt x="76534" y="12135"/>
                  </a:lnTo>
                  <a:lnTo>
                    <a:pt x="78603" y="6029"/>
                  </a:lnTo>
                  <a:lnTo>
                    <a:pt x="79767" y="1753"/>
                  </a:lnTo>
                  <a:lnTo>
                    <a:pt x="80923" y="1153"/>
                  </a:lnTo>
                  <a:lnTo>
                    <a:pt x="87262" y="190"/>
                  </a:lnTo>
                  <a:lnTo>
                    <a:pt x="88807" y="0"/>
                  </a:lnTo>
                  <a:lnTo>
                    <a:pt x="89075" y="4707"/>
                  </a:lnTo>
                  <a:lnTo>
                    <a:pt x="91783" y="12318"/>
                  </a:lnTo>
                  <a:lnTo>
                    <a:pt x="93894" y="17126"/>
                  </a:lnTo>
                  <a:lnTo>
                    <a:pt x="96240" y="25114"/>
                  </a:lnTo>
                  <a:lnTo>
                    <a:pt x="97283" y="32964"/>
                  </a:lnTo>
                  <a:lnTo>
                    <a:pt x="97561" y="37835"/>
                  </a:lnTo>
                  <a:lnTo>
                    <a:pt x="97746" y="43067"/>
                  </a:lnTo>
                  <a:lnTo>
                    <a:pt x="98007" y="64652"/>
                  </a:lnTo>
                  <a:lnTo>
                    <a:pt x="99036" y="71859"/>
                  </a:lnTo>
                  <a:lnTo>
                    <a:pt x="100714" y="78648"/>
                  </a:lnTo>
                  <a:lnTo>
                    <a:pt x="102825" y="85159"/>
                  </a:lnTo>
                  <a:lnTo>
                    <a:pt x="104233" y="92475"/>
                  </a:lnTo>
                  <a:lnTo>
                    <a:pt x="105170" y="100330"/>
                  </a:lnTo>
                  <a:lnTo>
                    <a:pt x="105796" y="108543"/>
                  </a:lnTo>
                  <a:lnTo>
                    <a:pt x="106213" y="116002"/>
                  </a:lnTo>
                  <a:lnTo>
                    <a:pt x="106676" y="129583"/>
                  </a:lnTo>
                  <a:lnTo>
                    <a:pt x="106974" y="154469"/>
                  </a:lnTo>
                  <a:lnTo>
                    <a:pt x="107015" y="166523"/>
                  </a:lnTo>
                  <a:lnTo>
                    <a:pt x="106032" y="172515"/>
                  </a:lnTo>
                  <a:lnTo>
                    <a:pt x="104387" y="178494"/>
                  </a:lnTo>
                  <a:lnTo>
                    <a:pt x="102297" y="184465"/>
                  </a:lnTo>
                  <a:lnTo>
                    <a:pt x="100903" y="190430"/>
                  </a:lnTo>
                  <a:lnTo>
                    <a:pt x="99975" y="196391"/>
                  </a:lnTo>
                  <a:lnTo>
                    <a:pt x="99355" y="202349"/>
                  </a:lnTo>
                  <a:lnTo>
                    <a:pt x="98943" y="207313"/>
                  </a:lnTo>
                  <a:lnTo>
                    <a:pt x="98668" y="211615"/>
                  </a:lnTo>
                  <a:lnTo>
                    <a:pt x="98484" y="215474"/>
                  </a:lnTo>
                  <a:lnTo>
                    <a:pt x="97369" y="218048"/>
                  </a:lnTo>
                  <a:lnTo>
                    <a:pt x="95634" y="219764"/>
                  </a:lnTo>
                  <a:lnTo>
                    <a:pt x="89299" y="223135"/>
                  </a:lnTo>
                  <a:lnTo>
                    <a:pt x="89210" y="216054"/>
                  </a:lnTo>
                  <a:lnTo>
                    <a:pt x="89190" y="197462"/>
                  </a:lnTo>
                  <a:lnTo>
                    <a:pt x="90182" y="192149"/>
                  </a:lnTo>
                  <a:lnTo>
                    <a:pt x="91835" y="186623"/>
                  </a:lnTo>
                  <a:lnTo>
                    <a:pt x="93929" y="180954"/>
                  </a:lnTo>
                  <a:lnTo>
                    <a:pt x="96317" y="175191"/>
                  </a:lnTo>
                  <a:lnTo>
                    <a:pt x="98901" y="169364"/>
                  </a:lnTo>
                  <a:lnTo>
                    <a:pt x="101617" y="163495"/>
                  </a:lnTo>
                  <a:lnTo>
                    <a:pt x="103426" y="157598"/>
                  </a:lnTo>
                  <a:lnTo>
                    <a:pt x="104633" y="151682"/>
                  </a:lnTo>
                  <a:lnTo>
                    <a:pt x="105437" y="145754"/>
                  </a:lnTo>
                  <a:lnTo>
                    <a:pt x="106967" y="139818"/>
                  </a:lnTo>
                  <a:lnTo>
                    <a:pt x="108977" y="133876"/>
                  </a:lnTo>
                  <a:lnTo>
                    <a:pt x="111310" y="127930"/>
                  </a:lnTo>
                  <a:lnTo>
                    <a:pt x="113858" y="121981"/>
                  </a:lnTo>
                  <a:lnTo>
                    <a:pt x="119334" y="110081"/>
                  </a:lnTo>
                  <a:lnTo>
                    <a:pt x="127995" y="92225"/>
                  </a:lnTo>
                  <a:lnTo>
                    <a:pt x="130934" y="87265"/>
                  </a:lnTo>
                  <a:lnTo>
                    <a:pt x="133886" y="82965"/>
                  </a:lnTo>
                  <a:lnTo>
                    <a:pt x="139811" y="75542"/>
                  </a:lnTo>
                  <a:lnTo>
                    <a:pt x="145752" y="68936"/>
                  </a:lnTo>
                  <a:lnTo>
                    <a:pt x="151699" y="62693"/>
                  </a:lnTo>
                  <a:lnTo>
                    <a:pt x="163603" y="50601"/>
                  </a:lnTo>
                  <a:lnTo>
                    <a:pt x="165586" y="47608"/>
                  </a:lnTo>
                  <a:lnTo>
                    <a:pt x="167792" y="41638"/>
                  </a:lnTo>
                  <a:lnTo>
                    <a:pt x="169371" y="39649"/>
                  </a:lnTo>
                  <a:lnTo>
                    <a:pt x="171417" y="38324"/>
                  </a:lnTo>
                  <a:lnTo>
                    <a:pt x="176335" y="36850"/>
                  </a:lnTo>
                  <a:lnTo>
                    <a:pt x="181828" y="36196"/>
                  </a:lnTo>
                  <a:lnTo>
                    <a:pt x="187577" y="35905"/>
                  </a:lnTo>
                  <a:lnTo>
                    <a:pt x="194612" y="35718"/>
                  </a:lnTo>
                  <a:lnTo>
                    <a:pt x="195189" y="36694"/>
                  </a:lnTo>
                  <a:lnTo>
                    <a:pt x="195831" y="40426"/>
                  </a:lnTo>
                  <a:lnTo>
                    <a:pt x="198761" y="45392"/>
                  </a:lnTo>
                  <a:lnTo>
                    <a:pt x="200932" y="48105"/>
                  </a:lnTo>
                  <a:lnTo>
                    <a:pt x="202379" y="51897"/>
                  </a:lnTo>
                  <a:lnTo>
                    <a:pt x="203344" y="56411"/>
                  </a:lnTo>
                  <a:lnTo>
                    <a:pt x="203987" y="61404"/>
                  </a:lnTo>
                  <a:lnTo>
                    <a:pt x="205408" y="65725"/>
                  </a:lnTo>
                  <a:lnTo>
                    <a:pt x="209632" y="73172"/>
                  </a:lnTo>
                  <a:lnTo>
                    <a:pt x="211156" y="77539"/>
                  </a:lnTo>
                  <a:lnTo>
                    <a:pt x="212172" y="82435"/>
                  </a:lnTo>
                  <a:lnTo>
                    <a:pt x="212848" y="87682"/>
                  </a:lnTo>
                  <a:lnTo>
                    <a:pt x="213300" y="93166"/>
                  </a:lnTo>
                  <a:lnTo>
                    <a:pt x="213601" y="98806"/>
                  </a:lnTo>
                  <a:lnTo>
                    <a:pt x="213935" y="110364"/>
                  </a:lnTo>
                  <a:lnTo>
                    <a:pt x="214188" y="151773"/>
                  </a:lnTo>
                  <a:lnTo>
                    <a:pt x="214203" y="2231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1" name="SMARTInkAnnotation63"/>
            <p:cNvSpPr/>
            <p:nvPr/>
          </p:nvSpPr>
          <p:spPr>
            <a:xfrm>
              <a:off x="6839640" y="4634640"/>
              <a:ext cx="178560" cy="373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373680"/>
                <a:gd name="textAreaBottom" fmla="*/ 374040 h 373680"/>
              </a:gdLst>
              <a:ahLst/>
              <a:rect l="textAreaLeft" t="textAreaTop" r="textAreaRight" b="textAreaBottom"/>
              <a:pathLst>
                <a:path w="178595" h="373651">
                  <a:moveTo>
                    <a:pt x="0" y="53578"/>
                  </a:moveTo>
                  <a:lnTo>
                    <a:pt x="0" y="66007"/>
                  </a:lnTo>
                  <a:lnTo>
                    <a:pt x="992" y="68810"/>
                  </a:lnTo>
                  <a:lnTo>
                    <a:pt x="6138" y="77494"/>
                  </a:lnTo>
                  <a:lnTo>
                    <a:pt x="7689" y="83390"/>
                  </a:lnTo>
                  <a:lnTo>
                    <a:pt x="8379" y="91963"/>
                  </a:lnTo>
                  <a:lnTo>
                    <a:pt x="8562" y="97028"/>
                  </a:lnTo>
                  <a:lnTo>
                    <a:pt x="9676" y="101396"/>
                  </a:lnTo>
                  <a:lnTo>
                    <a:pt x="13561" y="108896"/>
                  </a:lnTo>
                  <a:lnTo>
                    <a:pt x="15950" y="118182"/>
                  </a:lnTo>
                  <a:lnTo>
                    <a:pt x="16585" y="123436"/>
                  </a:lnTo>
                  <a:lnTo>
                    <a:pt x="18004" y="129916"/>
                  </a:lnTo>
                  <a:lnTo>
                    <a:pt x="19940" y="137212"/>
                  </a:lnTo>
                  <a:lnTo>
                    <a:pt x="22222" y="145053"/>
                  </a:lnTo>
                  <a:lnTo>
                    <a:pt x="23745" y="152264"/>
                  </a:lnTo>
                  <a:lnTo>
                    <a:pt x="24759" y="159057"/>
                  </a:lnTo>
                  <a:lnTo>
                    <a:pt x="25437" y="165570"/>
                  </a:lnTo>
                  <a:lnTo>
                    <a:pt x="25887" y="171895"/>
                  </a:lnTo>
                  <a:lnTo>
                    <a:pt x="26188" y="178097"/>
                  </a:lnTo>
                  <a:lnTo>
                    <a:pt x="26389" y="184216"/>
                  </a:lnTo>
                  <a:lnTo>
                    <a:pt x="27514" y="190279"/>
                  </a:lnTo>
                  <a:lnTo>
                    <a:pt x="29257" y="196306"/>
                  </a:lnTo>
                  <a:lnTo>
                    <a:pt x="31411" y="202309"/>
                  </a:lnTo>
                  <a:lnTo>
                    <a:pt x="32847" y="209286"/>
                  </a:lnTo>
                  <a:lnTo>
                    <a:pt x="33804" y="216915"/>
                  </a:lnTo>
                  <a:lnTo>
                    <a:pt x="34443" y="224977"/>
                  </a:lnTo>
                  <a:lnTo>
                    <a:pt x="34869" y="232336"/>
                  </a:lnTo>
                  <a:lnTo>
                    <a:pt x="35341" y="245805"/>
                  </a:lnTo>
                  <a:lnTo>
                    <a:pt x="36459" y="252174"/>
                  </a:lnTo>
                  <a:lnTo>
                    <a:pt x="38196" y="258405"/>
                  </a:lnTo>
                  <a:lnTo>
                    <a:pt x="40347" y="264544"/>
                  </a:lnTo>
                  <a:lnTo>
                    <a:pt x="41781" y="270620"/>
                  </a:lnTo>
                  <a:lnTo>
                    <a:pt x="42737" y="276656"/>
                  </a:lnTo>
                  <a:lnTo>
                    <a:pt x="43374" y="282664"/>
                  </a:lnTo>
                  <a:lnTo>
                    <a:pt x="44792" y="288654"/>
                  </a:lnTo>
                  <a:lnTo>
                    <a:pt x="46728" y="294631"/>
                  </a:lnTo>
                  <a:lnTo>
                    <a:pt x="49011" y="300601"/>
                  </a:lnTo>
                  <a:lnTo>
                    <a:pt x="50534" y="306564"/>
                  </a:lnTo>
                  <a:lnTo>
                    <a:pt x="51548" y="312525"/>
                  </a:lnTo>
                  <a:lnTo>
                    <a:pt x="52225" y="318483"/>
                  </a:lnTo>
                  <a:lnTo>
                    <a:pt x="55622" y="327749"/>
                  </a:lnTo>
                  <a:lnTo>
                    <a:pt x="60441" y="335174"/>
                  </a:lnTo>
                  <a:lnTo>
                    <a:pt x="65888" y="341781"/>
                  </a:lnTo>
                  <a:lnTo>
                    <a:pt x="68731" y="344932"/>
                  </a:lnTo>
                  <a:lnTo>
                    <a:pt x="74534" y="351080"/>
                  </a:lnTo>
                  <a:lnTo>
                    <a:pt x="76478" y="354108"/>
                  </a:lnTo>
                  <a:lnTo>
                    <a:pt x="78639" y="360118"/>
                  </a:lnTo>
                  <a:lnTo>
                    <a:pt x="80208" y="362118"/>
                  </a:lnTo>
                  <a:lnTo>
                    <a:pt x="82245" y="363451"/>
                  </a:lnTo>
                  <a:lnTo>
                    <a:pt x="84596" y="364340"/>
                  </a:lnTo>
                  <a:lnTo>
                    <a:pt x="89854" y="367973"/>
                  </a:lnTo>
                  <a:lnTo>
                    <a:pt x="96573" y="373650"/>
                  </a:lnTo>
                  <a:lnTo>
                    <a:pt x="98117" y="373124"/>
                  </a:lnTo>
                  <a:lnTo>
                    <a:pt x="102478" y="369893"/>
                  </a:lnTo>
                  <a:lnTo>
                    <a:pt x="107224" y="365871"/>
                  </a:lnTo>
                  <a:lnTo>
                    <a:pt x="111486" y="361709"/>
                  </a:lnTo>
                  <a:lnTo>
                    <a:pt x="113020" y="358217"/>
                  </a:lnTo>
                  <a:lnTo>
                    <a:pt x="114723" y="349046"/>
                  </a:lnTo>
                  <a:lnTo>
                    <a:pt x="118127" y="338356"/>
                  </a:lnTo>
                  <a:lnTo>
                    <a:pt x="121954" y="326990"/>
                  </a:lnTo>
                  <a:lnTo>
                    <a:pt x="123655" y="315324"/>
                  </a:lnTo>
                  <a:lnTo>
                    <a:pt x="125101" y="309435"/>
                  </a:lnTo>
                  <a:lnTo>
                    <a:pt x="127057" y="303524"/>
                  </a:lnTo>
                  <a:lnTo>
                    <a:pt x="129353" y="297600"/>
                  </a:lnTo>
                  <a:lnTo>
                    <a:pt x="130884" y="291665"/>
                  </a:lnTo>
                  <a:lnTo>
                    <a:pt x="131904" y="285726"/>
                  </a:lnTo>
                  <a:lnTo>
                    <a:pt x="132584" y="279781"/>
                  </a:lnTo>
                  <a:lnTo>
                    <a:pt x="134031" y="272841"/>
                  </a:lnTo>
                  <a:lnTo>
                    <a:pt x="135987" y="265238"/>
                  </a:lnTo>
                  <a:lnTo>
                    <a:pt x="138283" y="257192"/>
                  </a:lnTo>
                  <a:lnTo>
                    <a:pt x="139814" y="248852"/>
                  </a:lnTo>
                  <a:lnTo>
                    <a:pt x="140834" y="240315"/>
                  </a:lnTo>
                  <a:lnTo>
                    <a:pt x="141514" y="231648"/>
                  </a:lnTo>
                  <a:lnTo>
                    <a:pt x="142960" y="223885"/>
                  </a:lnTo>
                  <a:lnTo>
                    <a:pt x="144917" y="216725"/>
                  </a:lnTo>
                  <a:lnTo>
                    <a:pt x="147213" y="209968"/>
                  </a:lnTo>
                  <a:lnTo>
                    <a:pt x="148744" y="202487"/>
                  </a:lnTo>
                  <a:lnTo>
                    <a:pt x="149764" y="194523"/>
                  </a:lnTo>
                  <a:lnTo>
                    <a:pt x="150444" y="186236"/>
                  </a:lnTo>
                  <a:lnTo>
                    <a:pt x="151890" y="177736"/>
                  </a:lnTo>
                  <a:lnTo>
                    <a:pt x="153847" y="169092"/>
                  </a:lnTo>
                  <a:lnTo>
                    <a:pt x="156143" y="160353"/>
                  </a:lnTo>
                  <a:lnTo>
                    <a:pt x="157673" y="151550"/>
                  </a:lnTo>
                  <a:lnTo>
                    <a:pt x="158694" y="142706"/>
                  </a:lnTo>
                  <a:lnTo>
                    <a:pt x="159373" y="133833"/>
                  </a:lnTo>
                  <a:lnTo>
                    <a:pt x="159828" y="125933"/>
                  </a:lnTo>
                  <a:lnTo>
                    <a:pt x="160331" y="111863"/>
                  </a:lnTo>
                  <a:lnTo>
                    <a:pt x="161458" y="104341"/>
                  </a:lnTo>
                  <a:lnTo>
                    <a:pt x="163202" y="96350"/>
                  </a:lnTo>
                  <a:lnTo>
                    <a:pt x="165356" y="88046"/>
                  </a:lnTo>
                  <a:lnTo>
                    <a:pt x="166792" y="80526"/>
                  </a:lnTo>
                  <a:lnTo>
                    <a:pt x="167749" y="73528"/>
                  </a:lnTo>
                  <a:lnTo>
                    <a:pt x="168388" y="66878"/>
                  </a:lnTo>
                  <a:lnTo>
                    <a:pt x="168813" y="60461"/>
                  </a:lnTo>
                  <a:lnTo>
                    <a:pt x="169097" y="54198"/>
                  </a:lnTo>
                  <a:lnTo>
                    <a:pt x="169286" y="48038"/>
                  </a:lnTo>
                  <a:lnTo>
                    <a:pt x="170404" y="42940"/>
                  </a:lnTo>
                  <a:lnTo>
                    <a:pt x="175727" y="31023"/>
                  </a:lnTo>
                  <a:lnTo>
                    <a:pt x="177744" y="21209"/>
                  </a:lnTo>
                  <a:lnTo>
                    <a:pt x="178482" y="10743"/>
                  </a:lnTo>
                  <a:lnTo>
                    <a:pt x="1785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2" name="SMARTInkAnnotation64"/>
            <p:cNvSpPr/>
            <p:nvPr/>
          </p:nvSpPr>
          <p:spPr>
            <a:xfrm>
              <a:off x="7045200" y="4876200"/>
              <a:ext cx="89280" cy="222840"/>
            </a:xfrm>
            <a:custGeom>
              <a:avLst/>
              <a:gdLst>
                <a:gd name="textAreaLeft" fmla="*/ 0 w 89280"/>
                <a:gd name="textAreaRight" fmla="*/ 89280 w 892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89294" h="223124">
                  <a:moveTo>
                    <a:pt x="89293" y="26670"/>
                  </a:moveTo>
                  <a:lnTo>
                    <a:pt x="89293" y="18982"/>
                  </a:lnTo>
                  <a:lnTo>
                    <a:pt x="86647" y="15646"/>
                  </a:lnTo>
                  <a:lnTo>
                    <a:pt x="81604" y="10160"/>
                  </a:lnTo>
                  <a:lnTo>
                    <a:pt x="75991" y="4470"/>
                  </a:lnTo>
                  <a:lnTo>
                    <a:pt x="73479" y="2940"/>
                  </a:lnTo>
                  <a:lnTo>
                    <a:pt x="70813" y="1920"/>
                  </a:lnTo>
                  <a:lnTo>
                    <a:pt x="68044" y="1241"/>
                  </a:lnTo>
                  <a:lnTo>
                    <a:pt x="65204" y="787"/>
                  </a:lnTo>
                  <a:lnTo>
                    <a:pt x="62319" y="485"/>
                  </a:lnTo>
                  <a:lnTo>
                    <a:pt x="59404" y="284"/>
                  </a:lnTo>
                  <a:lnTo>
                    <a:pt x="56469" y="150"/>
                  </a:lnTo>
                  <a:lnTo>
                    <a:pt x="50562" y="0"/>
                  </a:lnTo>
                  <a:lnTo>
                    <a:pt x="47597" y="953"/>
                  </a:lnTo>
                  <a:lnTo>
                    <a:pt x="44629" y="2580"/>
                  </a:lnTo>
                  <a:lnTo>
                    <a:pt x="41657" y="4657"/>
                  </a:lnTo>
                  <a:lnTo>
                    <a:pt x="38684" y="6041"/>
                  </a:lnTo>
                  <a:lnTo>
                    <a:pt x="35710" y="6964"/>
                  </a:lnTo>
                  <a:lnTo>
                    <a:pt x="32735" y="7580"/>
                  </a:lnTo>
                  <a:lnTo>
                    <a:pt x="29759" y="8982"/>
                  </a:lnTo>
                  <a:lnTo>
                    <a:pt x="26783" y="10909"/>
                  </a:lnTo>
                  <a:lnTo>
                    <a:pt x="23808" y="13186"/>
                  </a:lnTo>
                  <a:lnTo>
                    <a:pt x="21824" y="15697"/>
                  </a:lnTo>
                  <a:lnTo>
                    <a:pt x="20500" y="18362"/>
                  </a:lnTo>
                  <a:lnTo>
                    <a:pt x="18039" y="24962"/>
                  </a:lnTo>
                  <a:lnTo>
                    <a:pt x="15993" y="29500"/>
                  </a:lnTo>
                  <a:lnTo>
                    <a:pt x="13638" y="34511"/>
                  </a:lnTo>
                  <a:lnTo>
                    <a:pt x="11075" y="38842"/>
                  </a:lnTo>
                  <a:lnTo>
                    <a:pt x="8374" y="42722"/>
                  </a:lnTo>
                  <a:lnTo>
                    <a:pt x="5582" y="46302"/>
                  </a:lnTo>
                  <a:lnTo>
                    <a:pt x="3720" y="50672"/>
                  </a:lnTo>
                  <a:lnTo>
                    <a:pt x="2478" y="55569"/>
                  </a:lnTo>
                  <a:lnTo>
                    <a:pt x="1651" y="60819"/>
                  </a:lnTo>
                  <a:lnTo>
                    <a:pt x="1099" y="66303"/>
                  </a:lnTo>
                  <a:lnTo>
                    <a:pt x="731" y="71944"/>
                  </a:lnTo>
                  <a:lnTo>
                    <a:pt x="487" y="77689"/>
                  </a:lnTo>
                  <a:lnTo>
                    <a:pt x="214" y="89363"/>
                  </a:lnTo>
                  <a:lnTo>
                    <a:pt x="0" y="148712"/>
                  </a:lnTo>
                  <a:lnTo>
                    <a:pt x="990" y="154664"/>
                  </a:lnTo>
                  <a:lnTo>
                    <a:pt x="2644" y="160617"/>
                  </a:lnTo>
                  <a:lnTo>
                    <a:pt x="4738" y="166569"/>
                  </a:lnTo>
                  <a:lnTo>
                    <a:pt x="7126" y="171530"/>
                  </a:lnTo>
                  <a:lnTo>
                    <a:pt x="9710" y="175830"/>
                  </a:lnTo>
                  <a:lnTo>
                    <a:pt x="12426" y="179688"/>
                  </a:lnTo>
                  <a:lnTo>
                    <a:pt x="15228" y="184244"/>
                  </a:lnTo>
                  <a:lnTo>
                    <a:pt x="18088" y="189267"/>
                  </a:lnTo>
                  <a:lnTo>
                    <a:pt x="20988" y="194600"/>
                  </a:lnTo>
                  <a:lnTo>
                    <a:pt x="22920" y="199147"/>
                  </a:lnTo>
                  <a:lnTo>
                    <a:pt x="24208" y="203170"/>
                  </a:lnTo>
                  <a:lnTo>
                    <a:pt x="25067" y="206845"/>
                  </a:lnTo>
                  <a:lnTo>
                    <a:pt x="26632" y="209294"/>
                  </a:lnTo>
                  <a:lnTo>
                    <a:pt x="28667" y="210927"/>
                  </a:lnTo>
                  <a:lnTo>
                    <a:pt x="31017" y="212016"/>
                  </a:lnTo>
                  <a:lnTo>
                    <a:pt x="33575" y="213734"/>
                  </a:lnTo>
                  <a:lnTo>
                    <a:pt x="36272" y="215872"/>
                  </a:lnTo>
                  <a:lnTo>
                    <a:pt x="44644" y="2231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3" name="SMARTInkAnnotation65"/>
            <p:cNvSpPr/>
            <p:nvPr/>
          </p:nvSpPr>
          <p:spPr>
            <a:xfrm>
              <a:off x="7018200" y="4956480"/>
              <a:ext cx="97920" cy="266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8227" h="26790">
                  <a:moveTo>
                    <a:pt x="0" y="0"/>
                  </a:moveTo>
                  <a:lnTo>
                    <a:pt x="13303" y="0"/>
                  </a:lnTo>
                  <a:lnTo>
                    <a:pt x="15814" y="992"/>
                  </a:lnTo>
                  <a:lnTo>
                    <a:pt x="18480" y="2646"/>
                  </a:lnTo>
                  <a:lnTo>
                    <a:pt x="21250" y="4740"/>
                  </a:lnTo>
                  <a:lnTo>
                    <a:pt x="24088" y="6137"/>
                  </a:lnTo>
                  <a:lnTo>
                    <a:pt x="26973" y="7068"/>
                  </a:lnTo>
                  <a:lnTo>
                    <a:pt x="29889" y="7688"/>
                  </a:lnTo>
                  <a:lnTo>
                    <a:pt x="32824" y="8102"/>
                  </a:lnTo>
                  <a:lnTo>
                    <a:pt x="35774" y="8378"/>
                  </a:lnTo>
                  <a:lnTo>
                    <a:pt x="38732" y="8562"/>
                  </a:lnTo>
                  <a:lnTo>
                    <a:pt x="41697" y="9677"/>
                  </a:lnTo>
                  <a:lnTo>
                    <a:pt x="44665" y="11412"/>
                  </a:lnTo>
                  <a:lnTo>
                    <a:pt x="47636" y="13561"/>
                  </a:lnTo>
                  <a:lnTo>
                    <a:pt x="51601" y="14994"/>
                  </a:lnTo>
                  <a:lnTo>
                    <a:pt x="56229" y="15949"/>
                  </a:lnTo>
                  <a:lnTo>
                    <a:pt x="61298" y="16586"/>
                  </a:lnTo>
                  <a:lnTo>
                    <a:pt x="65670" y="17010"/>
                  </a:lnTo>
                  <a:lnTo>
                    <a:pt x="69578" y="17294"/>
                  </a:lnTo>
                  <a:lnTo>
                    <a:pt x="73174" y="17482"/>
                  </a:lnTo>
                  <a:lnTo>
                    <a:pt x="75571" y="18600"/>
                  </a:lnTo>
                  <a:lnTo>
                    <a:pt x="77170" y="20338"/>
                  </a:lnTo>
                  <a:lnTo>
                    <a:pt x="78236" y="22487"/>
                  </a:lnTo>
                  <a:lnTo>
                    <a:pt x="79938" y="23922"/>
                  </a:lnTo>
                  <a:lnTo>
                    <a:pt x="82065" y="24877"/>
                  </a:lnTo>
                  <a:lnTo>
                    <a:pt x="84476" y="25515"/>
                  </a:lnTo>
                  <a:lnTo>
                    <a:pt x="87076" y="25939"/>
                  </a:lnTo>
                  <a:lnTo>
                    <a:pt x="89801" y="26222"/>
                  </a:lnTo>
                  <a:lnTo>
                    <a:pt x="98226" y="267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4" name="SMARTInkAnnotation66"/>
            <p:cNvSpPr/>
            <p:nvPr/>
          </p:nvSpPr>
          <p:spPr>
            <a:xfrm>
              <a:off x="7152120" y="4661640"/>
              <a:ext cx="124920" cy="2052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5017" h="205384">
                  <a:moveTo>
                    <a:pt x="0" y="0"/>
                  </a:moveTo>
                  <a:lnTo>
                    <a:pt x="29812" y="0"/>
                  </a:lnTo>
                  <a:lnTo>
                    <a:pt x="32773" y="993"/>
                  </a:lnTo>
                  <a:lnTo>
                    <a:pt x="35739" y="2646"/>
                  </a:lnTo>
                  <a:lnTo>
                    <a:pt x="38709" y="4740"/>
                  </a:lnTo>
                  <a:lnTo>
                    <a:pt x="41681" y="7129"/>
                  </a:lnTo>
                  <a:lnTo>
                    <a:pt x="44655" y="9714"/>
                  </a:lnTo>
                  <a:lnTo>
                    <a:pt x="47630" y="12429"/>
                  </a:lnTo>
                  <a:lnTo>
                    <a:pt x="53581" y="18092"/>
                  </a:lnTo>
                  <a:lnTo>
                    <a:pt x="56556" y="20991"/>
                  </a:lnTo>
                  <a:lnTo>
                    <a:pt x="60524" y="22923"/>
                  </a:lnTo>
                  <a:lnTo>
                    <a:pt x="65155" y="24213"/>
                  </a:lnTo>
                  <a:lnTo>
                    <a:pt x="70226" y="25072"/>
                  </a:lnTo>
                  <a:lnTo>
                    <a:pt x="74598" y="27629"/>
                  </a:lnTo>
                  <a:lnTo>
                    <a:pt x="78506" y="31318"/>
                  </a:lnTo>
                  <a:lnTo>
                    <a:pt x="82104" y="35761"/>
                  </a:lnTo>
                  <a:lnTo>
                    <a:pt x="84501" y="39716"/>
                  </a:lnTo>
                  <a:lnTo>
                    <a:pt x="86100" y="43345"/>
                  </a:lnTo>
                  <a:lnTo>
                    <a:pt x="87166" y="46756"/>
                  </a:lnTo>
                  <a:lnTo>
                    <a:pt x="88868" y="50023"/>
                  </a:lnTo>
                  <a:lnTo>
                    <a:pt x="90995" y="53192"/>
                  </a:lnTo>
                  <a:lnTo>
                    <a:pt x="93406" y="56297"/>
                  </a:lnTo>
                  <a:lnTo>
                    <a:pt x="95013" y="60352"/>
                  </a:lnTo>
                  <a:lnTo>
                    <a:pt x="96083" y="65039"/>
                  </a:lnTo>
                  <a:lnTo>
                    <a:pt x="96799" y="70149"/>
                  </a:lnTo>
                  <a:lnTo>
                    <a:pt x="97274" y="75540"/>
                  </a:lnTo>
                  <a:lnTo>
                    <a:pt x="97592" y="81118"/>
                  </a:lnTo>
                  <a:lnTo>
                    <a:pt x="97945" y="91615"/>
                  </a:lnTo>
                  <a:lnTo>
                    <a:pt x="98144" y="103103"/>
                  </a:lnTo>
                  <a:lnTo>
                    <a:pt x="98190" y="109655"/>
                  </a:lnTo>
                  <a:lnTo>
                    <a:pt x="97210" y="112790"/>
                  </a:lnTo>
                  <a:lnTo>
                    <a:pt x="93476" y="118921"/>
                  </a:lnTo>
                  <a:lnTo>
                    <a:pt x="91091" y="121945"/>
                  </a:lnTo>
                  <a:lnTo>
                    <a:pt x="88509" y="124953"/>
                  </a:lnTo>
                  <a:lnTo>
                    <a:pt x="85796" y="127950"/>
                  </a:lnTo>
                  <a:lnTo>
                    <a:pt x="82994" y="129949"/>
                  </a:lnTo>
                  <a:lnTo>
                    <a:pt x="80134" y="131281"/>
                  </a:lnTo>
                  <a:lnTo>
                    <a:pt x="77236" y="132169"/>
                  </a:lnTo>
                  <a:lnTo>
                    <a:pt x="73318" y="132761"/>
                  </a:lnTo>
                  <a:lnTo>
                    <a:pt x="68723" y="133156"/>
                  </a:lnTo>
                  <a:lnTo>
                    <a:pt x="59317" y="133595"/>
                  </a:lnTo>
                  <a:lnTo>
                    <a:pt x="51830" y="133790"/>
                  </a:lnTo>
                  <a:lnTo>
                    <a:pt x="42036" y="133899"/>
                  </a:lnTo>
                  <a:lnTo>
                    <a:pt x="37946" y="132923"/>
                  </a:lnTo>
                  <a:lnTo>
                    <a:pt x="33235" y="131280"/>
                  </a:lnTo>
                  <a:lnTo>
                    <a:pt x="28110" y="129192"/>
                  </a:lnTo>
                  <a:lnTo>
                    <a:pt x="23701" y="127800"/>
                  </a:lnTo>
                  <a:lnTo>
                    <a:pt x="19770" y="126872"/>
                  </a:lnTo>
                  <a:lnTo>
                    <a:pt x="16156" y="126254"/>
                  </a:lnTo>
                  <a:lnTo>
                    <a:pt x="12755" y="124849"/>
                  </a:lnTo>
                  <a:lnTo>
                    <a:pt x="9496" y="122920"/>
                  </a:lnTo>
                  <a:lnTo>
                    <a:pt x="6331" y="120642"/>
                  </a:lnTo>
                  <a:lnTo>
                    <a:pt x="4220" y="118131"/>
                  </a:lnTo>
                  <a:lnTo>
                    <a:pt x="2814" y="115465"/>
                  </a:lnTo>
                  <a:lnTo>
                    <a:pt x="49" y="107301"/>
                  </a:lnTo>
                  <a:lnTo>
                    <a:pt x="2668" y="107220"/>
                  </a:lnTo>
                  <a:lnTo>
                    <a:pt x="13304" y="107161"/>
                  </a:lnTo>
                  <a:lnTo>
                    <a:pt x="16807" y="108152"/>
                  </a:lnTo>
                  <a:lnTo>
                    <a:pt x="21127" y="109805"/>
                  </a:lnTo>
                  <a:lnTo>
                    <a:pt x="25991" y="111899"/>
                  </a:lnTo>
                  <a:lnTo>
                    <a:pt x="30226" y="113294"/>
                  </a:lnTo>
                  <a:lnTo>
                    <a:pt x="34042" y="114225"/>
                  </a:lnTo>
                  <a:lnTo>
                    <a:pt x="37577" y="114846"/>
                  </a:lnTo>
                  <a:lnTo>
                    <a:pt x="40926" y="117244"/>
                  </a:lnTo>
                  <a:lnTo>
                    <a:pt x="44153" y="120827"/>
                  </a:lnTo>
                  <a:lnTo>
                    <a:pt x="47293" y="125200"/>
                  </a:lnTo>
                  <a:lnTo>
                    <a:pt x="51374" y="129107"/>
                  </a:lnTo>
                  <a:lnTo>
                    <a:pt x="56077" y="132705"/>
                  </a:lnTo>
                  <a:lnTo>
                    <a:pt x="61197" y="136095"/>
                  </a:lnTo>
                  <a:lnTo>
                    <a:pt x="65603" y="139348"/>
                  </a:lnTo>
                  <a:lnTo>
                    <a:pt x="69533" y="142508"/>
                  </a:lnTo>
                  <a:lnTo>
                    <a:pt x="73145" y="145607"/>
                  </a:lnTo>
                  <a:lnTo>
                    <a:pt x="77537" y="149657"/>
                  </a:lnTo>
                  <a:lnTo>
                    <a:pt x="87708" y="159449"/>
                  </a:lnTo>
                  <a:lnTo>
                    <a:pt x="92207" y="164839"/>
                  </a:lnTo>
                  <a:lnTo>
                    <a:pt x="96198" y="170416"/>
                  </a:lnTo>
                  <a:lnTo>
                    <a:pt x="99851" y="176119"/>
                  </a:lnTo>
                  <a:lnTo>
                    <a:pt x="103278" y="180913"/>
                  </a:lnTo>
                  <a:lnTo>
                    <a:pt x="106555" y="185101"/>
                  </a:lnTo>
                  <a:lnTo>
                    <a:pt x="109732" y="188885"/>
                  </a:lnTo>
                  <a:lnTo>
                    <a:pt x="112843" y="192400"/>
                  </a:lnTo>
                  <a:lnTo>
                    <a:pt x="125016" y="2053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95" name="SMARTInkAnnotation67"/>
            <p:cNvSpPr/>
            <p:nvPr/>
          </p:nvSpPr>
          <p:spPr>
            <a:xfrm>
              <a:off x="6723360" y="4062960"/>
              <a:ext cx="312120" cy="356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12162" h="35717">
                  <a:moveTo>
                    <a:pt x="0" y="35716"/>
                  </a:moveTo>
                  <a:lnTo>
                    <a:pt x="12429" y="35716"/>
                  </a:lnTo>
                  <a:lnTo>
                    <a:pt x="15232" y="34724"/>
                  </a:lnTo>
                  <a:lnTo>
                    <a:pt x="18091" y="33071"/>
                  </a:lnTo>
                  <a:lnTo>
                    <a:pt x="20991" y="30976"/>
                  </a:lnTo>
                  <a:lnTo>
                    <a:pt x="23916" y="29580"/>
                  </a:lnTo>
                  <a:lnTo>
                    <a:pt x="26858" y="28648"/>
                  </a:lnTo>
                  <a:lnTo>
                    <a:pt x="32773" y="27614"/>
                  </a:lnTo>
                  <a:lnTo>
                    <a:pt x="41681" y="27032"/>
                  </a:lnTo>
                  <a:lnTo>
                    <a:pt x="47630" y="26895"/>
                  </a:lnTo>
                  <a:lnTo>
                    <a:pt x="251245" y="26786"/>
                  </a:lnTo>
                  <a:lnTo>
                    <a:pt x="254809" y="25795"/>
                  </a:lnTo>
                  <a:lnTo>
                    <a:pt x="258178" y="24141"/>
                  </a:lnTo>
                  <a:lnTo>
                    <a:pt x="261416" y="22046"/>
                  </a:lnTo>
                  <a:lnTo>
                    <a:pt x="265558" y="20650"/>
                  </a:lnTo>
                  <a:lnTo>
                    <a:pt x="270305" y="19719"/>
                  </a:lnTo>
                  <a:lnTo>
                    <a:pt x="279878" y="18684"/>
                  </a:lnTo>
                  <a:lnTo>
                    <a:pt x="287441" y="18225"/>
                  </a:lnTo>
                  <a:lnTo>
                    <a:pt x="289854" y="17110"/>
                  </a:lnTo>
                  <a:lnTo>
                    <a:pt x="291463" y="15375"/>
                  </a:lnTo>
                  <a:lnTo>
                    <a:pt x="292536" y="13225"/>
                  </a:lnTo>
                  <a:lnTo>
                    <a:pt x="294242" y="11793"/>
                  </a:lnTo>
                  <a:lnTo>
                    <a:pt x="296372" y="10837"/>
                  </a:lnTo>
                  <a:lnTo>
                    <a:pt x="303187" y="9039"/>
                  </a:lnTo>
                  <a:lnTo>
                    <a:pt x="312161" y="8930"/>
                  </a:lnTo>
                  <a:lnTo>
                    <a:pt x="298976" y="8927"/>
                  </a:lnTo>
                  <a:lnTo>
                    <a:pt x="295560" y="7935"/>
                  </a:lnTo>
                  <a:lnTo>
                    <a:pt x="291299" y="6282"/>
                  </a:lnTo>
                  <a:lnTo>
                    <a:pt x="286472" y="4187"/>
                  </a:lnTo>
                  <a:lnTo>
                    <a:pt x="282263" y="2791"/>
                  </a:lnTo>
                  <a:lnTo>
                    <a:pt x="278465" y="1859"/>
                  </a:lnTo>
                  <a:lnTo>
                    <a:pt x="271599" y="825"/>
                  </a:lnTo>
                  <a:lnTo>
                    <a:pt x="265240" y="365"/>
                  </a:lnTo>
                  <a:lnTo>
                    <a:pt x="256461" y="161"/>
                  </a:lnTo>
                  <a:lnTo>
                    <a:pt x="212689" y="0"/>
                  </a:lnTo>
                  <a:lnTo>
                    <a:pt x="208270" y="991"/>
                  </a:lnTo>
                  <a:lnTo>
                    <a:pt x="203339" y="2644"/>
                  </a:lnTo>
                  <a:lnTo>
                    <a:pt x="198067" y="4739"/>
                  </a:lnTo>
                  <a:lnTo>
                    <a:pt x="193560" y="6135"/>
                  </a:lnTo>
                  <a:lnTo>
                    <a:pt x="189565" y="7066"/>
                  </a:lnTo>
                  <a:lnTo>
                    <a:pt x="182477" y="8100"/>
                  </a:lnTo>
                  <a:lnTo>
                    <a:pt x="176021" y="8560"/>
                  </a:lnTo>
                  <a:lnTo>
                    <a:pt x="167198" y="8764"/>
                  </a:lnTo>
                  <a:lnTo>
                    <a:pt x="140278" y="8918"/>
                  </a:lnTo>
                  <a:lnTo>
                    <a:pt x="136183" y="9913"/>
                  </a:lnTo>
                  <a:lnTo>
                    <a:pt x="131468" y="11568"/>
                  </a:lnTo>
                  <a:lnTo>
                    <a:pt x="126341" y="13665"/>
                  </a:lnTo>
                  <a:lnTo>
                    <a:pt x="121931" y="15062"/>
                  </a:lnTo>
                  <a:lnTo>
                    <a:pt x="117998" y="15994"/>
                  </a:lnTo>
                  <a:lnTo>
                    <a:pt x="110983" y="17029"/>
                  </a:lnTo>
                  <a:lnTo>
                    <a:pt x="104557" y="17489"/>
                  </a:lnTo>
                  <a:lnTo>
                    <a:pt x="101455" y="18604"/>
                  </a:lnTo>
                  <a:lnTo>
                    <a:pt x="98396" y="20339"/>
                  </a:lnTo>
                  <a:lnTo>
                    <a:pt x="95363" y="22489"/>
                  </a:lnTo>
                  <a:lnTo>
                    <a:pt x="92349" y="23921"/>
                  </a:lnTo>
                  <a:lnTo>
                    <a:pt x="89347" y="24876"/>
                  </a:lnTo>
                  <a:lnTo>
                    <a:pt x="83366" y="25938"/>
                  </a:lnTo>
                  <a:lnTo>
                    <a:pt x="74089" y="26619"/>
                  </a:lnTo>
                  <a:lnTo>
                    <a:pt x="73205" y="26675"/>
                  </a:lnTo>
                  <a:lnTo>
                    <a:pt x="71624" y="27705"/>
                  </a:lnTo>
                  <a:lnTo>
                    <a:pt x="69578" y="29383"/>
                  </a:lnTo>
                  <a:lnTo>
                    <a:pt x="62533" y="35694"/>
                  </a:lnTo>
                  <a:lnTo>
                    <a:pt x="62508" y="35716"/>
                  </a:lnTo>
                  <a:lnTo>
                    <a:pt x="223242" y="357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5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A shotputter heaves a 7.26kg shot with a final speed of 7.50m/s. a. What is the kinetic energy of the shot? b. The shot was initially at rest, how much work was done on it to give it this kinetic energ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a.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= ½ mv</a:t>
            </a:r>
            <a:r>
              <a:rPr b="0" lang="en-CA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= ½ (7.26kg)(7.50m/s)</a:t>
            </a:r>
            <a:r>
              <a:rPr b="0" lang="en-CA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= 204 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. W =  ∆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=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f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–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i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= 204J – 0J = 204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SMARTInkAnnotation68"/>
          <p:cNvSpPr/>
          <p:nvPr/>
        </p:nvSpPr>
        <p:spPr>
          <a:xfrm>
            <a:off x="6661080" y="2973240"/>
            <a:ext cx="223920" cy="276480"/>
          </a:xfrm>
          <a:custGeom>
            <a:avLst/>
            <a:gdLst>
              <a:gd name="textAreaLeft" fmla="*/ 0 w 223920"/>
              <a:gd name="textAreaRight" fmla="*/ 224280 w 2239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23244" h="276487">
                <a:moveTo>
                  <a:pt x="8930" y="80202"/>
                </a:moveTo>
                <a:lnTo>
                  <a:pt x="1241" y="87890"/>
                </a:lnTo>
                <a:lnTo>
                  <a:pt x="552" y="91225"/>
                </a:lnTo>
                <a:lnTo>
                  <a:pt x="369" y="93504"/>
                </a:lnTo>
                <a:lnTo>
                  <a:pt x="1238" y="96015"/>
                </a:lnTo>
                <a:lnTo>
                  <a:pt x="4850" y="101451"/>
                </a:lnTo>
                <a:lnTo>
                  <a:pt x="7117" y="109820"/>
                </a:lnTo>
                <a:lnTo>
                  <a:pt x="7722" y="114830"/>
                </a:lnTo>
                <a:lnTo>
                  <a:pt x="8393" y="123043"/>
                </a:lnTo>
                <a:lnTo>
                  <a:pt x="8692" y="130992"/>
                </a:lnTo>
                <a:lnTo>
                  <a:pt x="8899" y="158009"/>
                </a:lnTo>
                <a:lnTo>
                  <a:pt x="8929" y="229033"/>
                </a:lnTo>
                <a:lnTo>
                  <a:pt x="7938" y="234985"/>
                </a:lnTo>
                <a:lnTo>
                  <a:pt x="6284" y="240937"/>
                </a:lnTo>
                <a:lnTo>
                  <a:pt x="4189" y="246890"/>
                </a:lnTo>
                <a:lnTo>
                  <a:pt x="2793" y="251851"/>
                </a:lnTo>
                <a:lnTo>
                  <a:pt x="1241" y="260008"/>
                </a:lnTo>
                <a:lnTo>
                  <a:pt x="552" y="266941"/>
                </a:lnTo>
                <a:lnTo>
                  <a:pt x="10" y="276486"/>
                </a:lnTo>
                <a:lnTo>
                  <a:pt x="0" y="132414"/>
                </a:lnTo>
                <a:lnTo>
                  <a:pt x="993" y="124932"/>
                </a:lnTo>
                <a:lnTo>
                  <a:pt x="2647" y="117959"/>
                </a:lnTo>
                <a:lnTo>
                  <a:pt x="4740" y="111326"/>
                </a:lnTo>
                <a:lnTo>
                  <a:pt x="6138" y="104920"/>
                </a:lnTo>
                <a:lnTo>
                  <a:pt x="7069" y="98665"/>
                </a:lnTo>
                <a:lnTo>
                  <a:pt x="7689" y="92511"/>
                </a:lnTo>
                <a:lnTo>
                  <a:pt x="8102" y="86423"/>
                </a:lnTo>
                <a:lnTo>
                  <a:pt x="8379" y="80381"/>
                </a:lnTo>
                <a:lnTo>
                  <a:pt x="8563" y="74368"/>
                </a:lnTo>
                <a:lnTo>
                  <a:pt x="9677" y="68375"/>
                </a:lnTo>
                <a:lnTo>
                  <a:pt x="11412" y="62396"/>
                </a:lnTo>
                <a:lnTo>
                  <a:pt x="13562" y="56425"/>
                </a:lnTo>
                <a:lnTo>
                  <a:pt x="15987" y="51452"/>
                </a:lnTo>
                <a:lnTo>
                  <a:pt x="21327" y="43281"/>
                </a:lnTo>
                <a:lnTo>
                  <a:pt x="23148" y="38721"/>
                </a:lnTo>
                <a:lnTo>
                  <a:pt x="24362" y="33696"/>
                </a:lnTo>
                <a:lnTo>
                  <a:pt x="25171" y="28362"/>
                </a:lnTo>
                <a:lnTo>
                  <a:pt x="28716" y="19790"/>
                </a:lnTo>
                <a:lnTo>
                  <a:pt x="33598" y="12672"/>
                </a:lnTo>
                <a:lnTo>
                  <a:pt x="39076" y="6202"/>
                </a:lnTo>
                <a:lnTo>
                  <a:pt x="42999" y="1721"/>
                </a:lnTo>
                <a:lnTo>
                  <a:pt x="44540" y="1092"/>
                </a:lnTo>
                <a:lnTo>
                  <a:pt x="51500" y="83"/>
                </a:lnTo>
                <a:lnTo>
                  <a:pt x="52193" y="0"/>
                </a:lnTo>
                <a:lnTo>
                  <a:pt x="52655" y="937"/>
                </a:lnTo>
                <a:lnTo>
                  <a:pt x="53168" y="4624"/>
                </a:lnTo>
                <a:lnTo>
                  <a:pt x="54297" y="6996"/>
                </a:lnTo>
                <a:lnTo>
                  <a:pt x="59635" y="15076"/>
                </a:lnTo>
                <a:lnTo>
                  <a:pt x="61231" y="20829"/>
                </a:lnTo>
                <a:lnTo>
                  <a:pt x="64586" y="26695"/>
                </a:lnTo>
                <a:lnTo>
                  <a:pt x="69385" y="33600"/>
                </a:lnTo>
                <a:lnTo>
                  <a:pt x="72054" y="38220"/>
                </a:lnTo>
                <a:lnTo>
                  <a:pt x="74825" y="43284"/>
                </a:lnTo>
                <a:lnTo>
                  <a:pt x="76673" y="48645"/>
                </a:lnTo>
                <a:lnTo>
                  <a:pt x="77905" y="54203"/>
                </a:lnTo>
                <a:lnTo>
                  <a:pt x="78726" y="59892"/>
                </a:lnTo>
                <a:lnTo>
                  <a:pt x="80265" y="65670"/>
                </a:lnTo>
                <a:lnTo>
                  <a:pt x="82284" y="71506"/>
                </a:lnTo>
                <a:lnTo>
                  <a:pt x="84622" y="77381"/>
                </a:lnTo>
                <a:lnTo>
                  <a:pt x="89865" y="91847"/>
                </a:lnTo>
                <a:lnTo>
                  <a:pt x="92653" y="99871"/>
                </a:lnTo>
                <a:lnTo>
                  <a:pt x="94511" y="107205"/>
                </a:lnTo>
                <a:lnTo>
                  <a:pt x="95750" y="114079"/>
                </a:lnTo>
                <a:lnTo>
                  <a:pt x="96576" y="120646"/>
                </a:lnTo>
                <a:lnTo>
                  <a:pt x="98118" y="128001"/>
                </a:lnTo>
                <a:lnTo>
                  <a:pt x="100139" y="135880"/>
                </a:lnTo>
                <a:lnTo>
                  <a:pt x="102478" y="144110"/>
                </a:lnTo>
                <a:lnTo>
                  <a:pt x="104038" y="151581"/>
                </a:lnTo>
                <a:lnTo>
                  <a:pt x="105078" y="158545"/>
                </a:lnTo>
                <a:lnTo>
                  <a:pt x="105771" y="165173"/>
                </a:lnTo>
                <a:lnTo>
                  <a:pt x="106233" y="171576"/>
                </a:lnTo>
                <a:lnTo>
                  <a:pt x="106540" y="177829"/>
                </a:lnTo>
                <a:lnTo>
                  <a:pt x="107036" y="192641"/>
                </a:lnTo>
                <a:lnTo>
                  <a:pt x="107146" y="203656"/>
                </a:lnTo>
                <a:lnTo>
                  <a:pt x="108142" y="204177"/>
                </a:lnTo>
                <a:lnTo>
                  <a:pt x="114845" y="205080"/>
                </a:lnTo>
                <a:lnTo>
                  <a:pt x="115258" y="204134"/>
                </a:lnTo>
                <a:lnTo>
                  <a:pt x="115841" y="198061"/>
                </a:lnTo>
                <a:lnTo>
                  <a:pt x="115978" y="192776"/>
                </a:lnTo>
                <a:lnTo>
                  <a:pt x="116077" y="162976"/>
                </a:lnTo>
                <a:lnTo>
                  <a:pt x="117072" y="157213"/>
                </a:lnTo>
                <a:lnTo>
                  <a:pt x="118727" y="151386"/>
                </a:lnTo>
                <a:lnTo>
                  <a:pt x="120824" y="145517"/>
                </a:lnTo>
                <a:lnTo>
                  <a:pt x="122221" y="139620"/>
                </a:lnTo>
                <a:lnTo>
                  <a:pt x="123153" y="133705"/>
                </a:lnTo>
                <a:lnTo>
                  <a:pt x="123774" y="127777"/>
                </a:lnTo>
                <a:lnTo>
                  <a:pt x="125180" y="120848"/>
                </a:lnTo>
                <a:lnTo>
                  <a:pt x="127110" y="113252"/>
                </a:lnTo>
                <a:lnTo>
                  <a:pt x="129389" y="105212"/>
                </a:lnTo>
                <a:lnTo>
                  <a:pt x="131900" y="97867"/>
                </a:lnTo>
                <a:lnTo>
                  <a:pt x="134567" y="90987"/>
                </a:lnTo>
                <a:lnTo>
                  <a:pt x="137336" y="84415"/>
                </a:lnTo>
                <a:lnTo>
                  <a:pt x="139183" y="79042"/>
                </a:lnTo>
                <a:lnTo>
                  <a:pt x="141234" y="70426"/>
                </a:lnTo>
                <a:lnTo>
                  <a:pt x="142773" y="65747"/>
                </a:lnTo>
                <a:lnTo>
                  <a:pt x="144792" y="60643"/>
                </a:lnTo>
                <a:lnTo>
                  <a:pt x="147130" y="55256"/>
                </a:lnTo>
                <a:lnTo>
                  <a:pt x="152372" y="46625"/>
                </a:lnTo>
                <a:lnTo>
                  <a:pt x="158011" y="39482"/>
                </a:lnTo>
                <a:lnTo>
                  <a:pt x="163824" y="33000"/>
                </a:lnTo>
                <a:lnTo>
                  <a:pt x="169715" y="26812"/>
                </a:lnTo>
                <a:lnTo>
                  <a:pt x="185763" y="10539"/>
                </a:lnTo>
                <a:lnTo>
                  <a:pt x="187342" y="9948"/>
                </a:lnTo>
                <a:lnTo>
                  <a:pt x="194306" y="9115"/>
                </a:lnTo>
                <a:lnTo>
                  <a:pt x="199798" y="8920"/>
                </a:lnTo>
                <a:lnTo>
                  <a:pt x="201660" y="9860"/>
                </a:lnTo>
                <a:lnTo>
                  <a:pt x="202901" y="11479"/>
                </a:lnTo>
                <a:lnTo>
                  <a:pt x="203729" y="13551"/>
                </a:lnTo>
                <a:lnTo>
                  <a:pt x="209633" y="21207"/>
                </a:lnTo>
                <a:lnTo>
                  <a:pt x="211194" y="24004"/>
                </a:lnTo>
                <a:lnTo>
                  <a:pt x="212926" y="29759"/>
                </a:lnTo>
                <a:lnTo>
                  <a:pt x="213697" y="35624"/>
                </a:lnTo>
                <a:lnTo>
                  <a:pt x="213903" y="38577"/>
                </a:lnTo>
                <a:lnTo>
                  <a:pt x="216776" y="47150"/>
                </a:lnTo>
                <a:lnTo>
                  <a:pt x="218931" y="52214"/>
                </a:lnTo>
                <a:lnTo>
                  <a:pt x="220369" y="57575"/>
                </a:lnTo>
                <a:lnTo>
                  <a:pt x="221326" y="63133"/>
                </a:lnTo>
                <a:lnTo>
                  <a:pt x="221965" y="68822"/>
                </a:lnTo>
                <a:lnTo>
                  <a:pt x="222391" y="74600"/>
                </a:lnTo>
                <a:lnTo>
                  <a:pt x="222675" y="80436"/>
                </a:lnTo>
                <a:lnTo>
                  <a:pt x="222990" y="93205"/>
                </a:lnTo>
                <a:lnTo>
                  <a:pt x="223243" y="2052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SMARTInkAnnotation69"/>
          <p:cNvSpPr/>
          <p:nvPr/>
        </p:nvSpPr>
        <p:spPr>
          <a:xfrm>
            <a:off x="6956280" y="3009960"/>
            <a:ext cx="133560" cy="172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33946" h="17861">
                <a:moveTo>
                  <a:pt x="0" y="17860"/>
                </a:moveTo>
                <a:lnTo>
                  <a:pt x="4740" y="13119"/>
                </a:lnTo>
                <a:lnTo>
                  <a:pt x="7129" y="11723"/>
                </a:lnTo>
                <a:lnTo>
                  <a:pt x="9714" y="10792"/>
                </a:lnTo>
                <a:lnTo>
                  <a:pt x="12429" y="10171"/>
                </a:lnTo>
                <a:lnTo>
                  <a:pt x="15232" y="9757"/>
                </a:lnTo>
                <a:lnTo>
                  <a:pt x="18091" y="9482"/>
                </a:lnTo>
                <a:lnTo>
                  <a:pt x="20991" y="9297"/>
                </a:lnTo>
                <a:lnTo>
                  <a:pt x="29503" y="9093"/>
                </a:lnTo>
                <a:lnTo>
                  <a:pt x="60932" y="8939"/>
                </a:lnTo>
                <a:lnTo>
                  <a:pt x="66418" y="7944"/>
                </a:lnTo>
                <a:lnTo>
                  <a:pt x="72059" y="6288"/>
                </a:lnTo>
                <a:lnTo>
                  <a:pt x="77806" y="4192"/>
                </a:lnTo>
                <a:lnTo>
                  <a:pt x="82628" y="2795"/>
                </a:lnTo>
                <a:lnTo>
                  <a:pt x="86836" y="1863"/>
                </a:lnTo>
                <a:lnTo>
                  <a:pt x="90633" y="1242"/>
                </a:lnTo>
                <a:lnTo>
                  <a:pt x="95149" y="828"/>
                </a:lnTo>
                <a:lnTo>
                  <a:pt x="100144" y="552"/>
                </a:lnTo>
                <a:lnTo>
                  <a:pt x="109993" y="246"/>
                </a:lnTo>
                <a:lnTo>
                  <a:pt x="124400" y="49"/>
                </a:lnTo>
                <a:lnTo>
                  <a:pt x="1339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SMARTInkAnnotation70"/>
          <p:cNvSpPr/>
          <p:nvPr/>
        </p:nvSpPr>
        <p:spPr>
          <a:xfrm>
            <a:off x="6983280" y="3089160"/>
            <a:ext cx="133560" cy="27000"/>
          </a:xfrm>
          <a:custGeom>
            <a:avLst/>
            <a:gdLst>
              <a:gd name="textAreaLeft" fmla="*/ 0 w 133560"/>
              <a:gd name="textAreaRight" fmla="*/ 133920 w 1335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33946" h="26790">
                <a:moveTo>
                  <a:pt x="0" y="26789"/>
                </a:moveTo>
                <a:lnTo>
                  <a:pt x="4740" y="26789"/>
                </a:lnTo>
                <a:lnTo>
                  <a:pt x="6138" y="25797"/>
                </a:lnTo>
                <a:lnTo>
                  <a:pt x="7069" y="24144"/>
                </a:lnTo>
                <a:lnTo>
                  <a:pt x="7689" y="22049"/>
                </a:lnTo>
                <a:lnTo>
                  <a:pt x="9095" y="20653"/>
                </a:lnTo>
                <a:lnTo>
                  <a:pt x="11024" y="19722"/>
                </a:lnTo>
                <a:lnTo>
                  <a:pt x="13303" y="19101"/>
                </a:lnTo>
                <a:lnTo>
                  <a:pt x="16806" y="18687"/>
                </a:lnTo>
                <a:lnTo>
                  <a:pt x="21126" y="18411"/>
                </a:lnTo>
                <a:lnTo>
                  <a:pt x="30225" y="18105"/>
                </a:lnTo>
                <a:lnTo>
                  <a:pt x="41918" y="17933"/>
                </a:lnTo>
                <a:lnTo>
                  <a:pt x="52035" y="17892"/>
                </a:lnTo>
                <a:lnTo>
                  <a:pt x="57510" y="16889"/>
                </a:lnTo>
                <a:lnTo>
                  <a:pt x="63145" y="15229"/>
                </a:lnTo>
                <a:lnTo>
                  <a:pt x="68886" y="13129"/>
                </a:lnTo>
                <a:lnTo>
                  <a:pt x="74698" y="11729"/>
                </a:lnTo>
                <a:lnTo>
                  <a:pt x="80556" y="10796"/>
                </a:lnTo>
                <a:lnTo>
                  <a:pt x="86446" y="10174"/>
                </a:lnTo>
                <a:lnTo>
                  <a:pt x="92357" y="8767"/>
                </a:lnTo>
                <a:lnTo>
                  <a:pt x="98282" y="6837"/>
                </a:lnTo>
                <a:lnTo>
                  <a:pt x="104218" y="4558"/>
                </a:lnTo>
                <a:lnTo>
                  <a:pt x="110158" y="3039"/>
                </a:lnTo>
                <a:lnTo>
                  <a:pt x="116102" y="2026"/>
                </a:lnTo>
                <a:lnTo>
                  <a:pt x="13394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SMARTInkAnnotation71"/>
          <p:cNvSpPr/>
          <p:nvPr/>
        </p:nvSpPr>
        <p:spPr>
          <a:xfrm>
            <a:off x="7188120" y="2894040"/>
            <a:ext cx="196920" cy="303120"/>
          </a:xfrm>
          <a:custGeom>
            <a:avLst/>
            <a:gdLst>
              <a:gd name="textAreaLeft" fmla="*/ 0 w 196920"/>
              <a:gd name="textAreaRight" fmla="*/ 197280 w 1969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195918" h="303233">
                <a:moveTo>
                  <a:pt x="0" y="17482"/>
                </a:moveTo>
                <a:lnTo>
                  <a:pt x="0" y="9793"/>
                </a:lnTo>
                <a:lnTo>
                  <a:pt x="992" y="9379"/>
                </a:lnTo>
                <a:lnTo>
                  <a:pt x="4740" y="8920"/>
                </a:lnTo>
                <a:lnTo>
                  <a:pt x="7129" y="7805"/>
                </a:lnTo>
                <a:lnTo>
                  <a:pt x="12429" y="3920"/>
                </a:lnTo>
                <a:lnTo>
                  <a:pt x="16223" y="2488"/>
                </a:lnTo>
                <a:lnTo>
                  <a:pt x="20738" y="1533"/>
                </a:lnTo>
                <a:lnTo>
                  <a:pt x="25732" y="896"/>
                </a:lnTo>
                <a:lnTo>
                  <a:pt x="31045" y="471"/>
                </a:lnTo>
                <a:lnTo>
                  <a:pt x="36571" y="188"/>
                </a:lnTo>
                <a:lnTo>
                  <a:pt x="42240" y="0"/>
                </a:lnTo>
                <a:lnTo>
                  <a:pt x="48004" y="866"/>
                </a:lnTo>
                <a:lnTo>
                  <a:pt x="53831" y="2436"/>
                </a:lnTo>
                <a:lnTo>
                  <a:pt x="59699" y="4475"/>
                </a:lnTo>
                <a:lnTo>
                  <a:pt x="65597" y="5833"/>
                </a:lnTo>
                <a:lnTo>
                  <a:pt x="71513" y="6740"/>
                </a:lnTo>
                <a:lnTo>
                  <a:pt x="77441" y="7344"/>
                </a:lnTo>
                <a:lnTo>
                  <a:pt x="84370" y="8739"/>
                </a:lnTo>
                <a:lnTo>
                  <a:pt x="91965" y="10661"/>
                </a:lnTo>
                <a:lnTo>
                  <a:pt x="100005" y="12935"/>
                </a:lnTo>
                <a:lnTo>
                  <a:pt x="107350" y="14450"/>
                </a:lnTo>
                <a:lnTo>
                  <a:pt x="114231" y="15461"/>
                </a:lnTo>
                <a:lnTo>
                  <a:pt x="120803" y="16134"/>
                </a:lnTo>
                <a:lnTo>
                  <a:pt x="127168" y="17576"/>
                </a:lnTo>
                <a:lnTo>
                  <a:pt x="133396" y="19529"/>
                </a:lnTo>
                <a:lnTo>
                  <a:pt x="139533" y="21823"/>
                </a:lnTo>
                <a:lnTo>
                  <a:pt x="145607" y="24345"/>
                </a:lnTo>
                <a:lnTo>
                  <a:pt x="151642" y="27018"/>
                </a:lnTo>
                <a:lnTo>
                  <a:pt x="157650" y="29793"/>
                </a:lnTo>
                <a:lnTo>
                  <a:pt x="162647" y="32634"/>
                </a:lnTo>
                <a:lnTo>
                  <a:pt x="166970" y="35521"/>
                </a:lnTo>
                <a:lnTo>
                  <a:pt x="170845" y="38437"/>
                </a:lnTo>
                <a:lnTo>
                  <a:pt x="174420" y="41374"/>
                </a:lnTo>
                <a:lnTo>
                  <a:pt x="177795" y="44324"/>
                </a:lnTo>
                <a:lnTo>
                  <a:pt x="181038" y="47283"/>
                </a:lnTo>
                <a:lnTo>
                  <a:pt x="184192" y="51240"/>
                </a:lnTo>
                <a:lnTo>
                  <a:pt x="187287" y="55862"/>
                </a:lnTo>
                <a:lnTo>
                  <a:pt x="192379" y="65298"/>
                </a:lnTo>
                <a:lnTo>
                  <a:pt x="194643" y="72798"/>
                </a:lnTo>
                <a:lnTo>
                  <a:pt x="195649" y="82085"/>
                </a:lnTo>
                <a:lnTo>
                  <a:pt x="195917" y="87340"/>
                </a:lnTo>
                <a:lnTo>
                  <a:pt x="195104" y="92827"/>
                </a:lnTo>
                <a:lnTo>
                  <a:pt x="193569" y="98470"/>
                </a:lnTo>
                <a:lnTo>
                  <a:pt x="191554" y="104216"/>
                </a:lnTo>
                <a:lnTo>
                  <a:pt x="189219" y="110031"/>
                </a:lnTo>
                <a:lnTo>
                  <a:pt x="186669" y="115892"/>
                </a:lnTo>
                <a:lnTo>
                  <a:pt x="183977" y="121784"/>
                </a:lnTo>
                <a:lnTo>
                  <a:pt x="180198" y="127696"/>
                </a:lnTo>
                <a:lnTo>
                  <a:pt x="175695" y="133622"/>
                </a:lnTo>
                <a:lnTo>
                  <a:pt x="170707" y="139557"/>
                </a:lnTo>
                <a:lnTo>
                  <a:pt x="166391" y="145498"/>
                </a:lnTo>
                <a:lnTo>
                  <a:pt x="162522" y="151443"/>
                </a:lnTo>
                <a:lnTo>
                  <a:pt x="158948" y="157391"/>
                </a:lnTo>
                <a:lnTo>
                  <a:pt x="154583" y="163341"/>
                </a:lnTo>
                <a:lnTo>
                  <a:pt x="149688" y="169291"/>
                </a:lnTo>
                <a:lnTo>
                  <a:pt x="144441" y="175243"/>
                </a:lnTo>
                <a:lnTo>
                  <a:pt x="133318" y="187147"/>
                </a:lnTo>
                <a:lnTo>
                  <a:pt x="127574" y="193100"/>
                </a:lnTo>
                <a:lnTo>
                  <a:pt x="122753" y="200045"/>
                </a:lnTo>
                <a:lnTo>
                  <a:pt x="118546" y="207651"/>
                </a:lnTo>
                <a:lnTo>
                  <a:pt x="114750" y="215699"/>
                </a:lnTo>
                <a:lnTo>
                  <a:pt x="110234" y="223049"/>
                </a:lnTo>
                <a:lnTo>
                  <a:pt x="105240" y="229932"/>
                </a:lnTo>
                <a:lnTo>
                  <a:pt x="99925" y="236506"/>
                </a:lnTo>
                <a:lnTo>
                  <a:pt x="95391" y="241881"/>
                </a:lnTo>
                <a:lnTo>
                  <a:pt x="91374" y="246456"/>
                </a:lnTo>
                <a:lnTo>
                  <a:pt x="87706" y="250498"/>
                </a:lnTo>
                <a:lnTo>
                  <a:pt x="84268" y="255178"/>
                </a:lnTo>
                <a:lnTo>
                  <a:pt x="80983" y="260282"/>
                </a:lnTo>
                <a:lnTo>
                  <a:pt x="77801" y="265669"/>
                </a:lnTo>
                <a:lnTo>
                  <a:pt x="75681" y="271244"/>
                </a:lnTo>
                <a:lnTo>
                  <a:pt x="74266" y="276946"/>
                </a:lnTo>
                <a:lnTo>
                  <a:pt x="73324" y="282732"/>
                </a:lnTo>
                <a:lnTo>
                  <a:pt x="69630" y="291805"/>
                </a:lnTo>
                <a:lnTo>
                  <a:pt x="62508" y="3032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SMARTInkAnnotation72"/>
          <p:cNvSpPr/>
          <p:nvPr/>
        </p:nvSpPr>
        <p:spPr>
          <a:xfrm>
            <a:off x="7331040" y="319716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8931">
                <a:moveTo>
                  <a:pt x="0" y="0"/>
                </a:moveTo>
                <a:lnTo>
                  <a:pt x="0" y="89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SMARTInkAnnotation73"/>
          <p:cNvSpPr/>
          <p:nvPr/>
        </p:nvSpPr>
        <p:spPr>
          <a:xfrm>
            <a:off x="7448400" y="2919240"/>
            <a:ext cx="160560" cy="293760"/>
          </a:xfrm>
          <a:custGeom>
            <a:avLst/>
            <a:gdLst>
              <a:gd name="textAreaLeft" fmla="*/ 0 w 160560"/>
              <a:gd name="textAreaRight" fmla="*/ 160920 w 1605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59226" h="292867">
                <a:moveTo>
                  <a:pt x="16350" y="8897"/>
                </a:moveTo>
                <a:lnTo>
                  <a:pt x="16350" y="4157"/>
                </a:lnTo>
                <a:lnTo>
                  <a:pt x="17342" y="2760"/>
                </a:lnTo>
                <a:lnTo>
                  <a:pt x="18995" y="1829"/>
                </a:lnTo>
                <a:lnTo>
                  <a:pt x="23479" y="795"/>
                </a:lnTo>
                <a:lnTo>
                  <a:pt x="26064" y="519"/>
                </a:lnTo>
                <a:lnTo>
                  <a:pt x="28779" y="335"/>
                </a:lnTo>
                <a:lnTo>
                  <a:pt x="31581" y="213"/>
                </a:lnTo>
                <a:lnTo>
                  <a:pt x="37341" y="76"/>
                </a:lnTo>
                <a:lnTo>
                  <a:pt x="46162" y="0"/>
                </a:lnTo>
                <a:lnTo>
                  <a:pt x="49123" y="981"/>
                </a:lnTo>
                <a:lnTo>
                  <a:pt x="52089" y="2628"/>
                </a:lnTo>
                <a:lnTo>
                  <a:pt x="55060" y="4718"/>
                </a:lnTo>
                <a:lnTo>
                  <a:pt x="59024" y="7103"/>
                </a:lnTo>
                <a:lnTo>
                  <a:pt x="63650" y="9685"/>
                </a:lnTo>
                <a:lnTo>
                  <a:pt x="68720" y="12399"/>
                </a:lnTo>
                <a:lnTo>
                  <a:pt x="73091" y="16193"/>
                </a:lnTo>
                <a:lnTo>
                  <a:pt x="76998" y="20706"/>
                </a:lnTo>
                <a:lnTo>
                  <a:pt x="80594" y="25699"/>
                </a:lnTo>
                <a:lnTo>
                  <a:pt x="84976" y="31013"/>
                </a:lnTo>
                <a:lnTo>
                  <a:pt x="89883" y="36539"/>
                </a:lnTo>
                <a:lnTo>
                  <a:pt x="95138" y="42208"/>
                </a:lnTo>
                <a:lnTo>
                  <a:pt x="99633" y="47972"/>
                </a:lnTo>
                <a:lnTo>
                  <a:pt x="103622" y="53798"/>
                </a:lnTo>
                <a:lnTo>
                  <a:pt x="107273" y="59667"/>
                </a:lnTo>
                <a:lnTo>
                  <a:pt x="111693" y="68541"/>
                </a:lnTo>
                <a:lnTo>
                  <a:pt x="116623" y="79417"/>
                </a:lnTo>
                <a:lnTo>
                  <a:pt x="121894" y="91630"/>
                </a:lnTo>
                <a:lnTo>
                  <a:pt x="125408" y="102747"/>
                </a:lnTo>
                <a:lnTo>
                  <a:pt x="127751" y="113136"/>
                </a:lnTo>
                <a:lnTo>
                  <a:pt x="129313" y="123038"/>
                </a:lnTo>
                <a:lnTo>
                  <a:pt x="130353" y="132616"/>
                </a:lnTo>
                <a:lnTo>
                  <a:pt x="131048" y="141978"/>
                </a:lnTo>
                <a:lnTo>
                  <a:pt x="131511" y="151196"/>
                </a:lnTo>
                <a:lnTo>
                  <a:pt x="132025" y="169375"/>
                </a:lnTo>
                <a:lnTo>
                  <a:pt x="132162" y="178391"/>
                </a:lnTo>
                <a:lnTo>
                  <a:pt x="131262" y="186385"/>
                </a:lnTo>
                <a:lnTo>
                  <a:pt x="129669" y="193699"/>
                </a:lnTo>
                <a:lnTo>
                  <a:pt x="125253" y="208109"/>
                </a:lnTo>
                <a:lnTo>
                  <a:pt x="119983" y="224436"/>
                </a:lnTo>
                <a:lnTo>
                  <a:pt x="117189" y="231965"/>
                </a:lnTo>
                <a:lnTo>
                  <a:pt x="114334" y="238968"/>
                </a:lnTo>
                <a:lnTo>
                  <a:pt x="111438" y="245622"/>
                </a:lnTo>
                <a:lnTo>
                  <a:pt x="107524" y="251049"/>
                </a:lnTo>
                <a:lnTo>
                  <a:pt x="102929" y="255660"/>
                </a:lnTo>
                <a:lnTo>
                  <a:pt x="97882" y="259726"/>
                </a:lnTo>
                <a:lnTo>
                  <a:pt x="93525" y="263429"/>
                </a:lnTo>
                <a:lnTo>
                  <a:pt x="89629" y="266889"/>
                </a:lnTo>
                <a:lnTo>
                  <a:pt x="86038" y="270189"/>
                </a:lnTo>
                <a:lnTo>
                  <a:pt x="81660" y="273381"/>
                </a:lnTo>
                <a:lnTo>
                  <a:pt x="76757" y="276501"/>
                </a:lnTo>
                <a:lnTo>
                  <a:pt x="71504" y="279573"/>
                </a:lnTo>
                <a:lnTo>
                  <a:pt x="66018" y="282613"/>
                </a:lnTo>
                <a:lnTo>
                  <a:pt x="54631" y="288637"/>
                </a:lnTo>
                <a:lnTo>
                  <a:pt x="49807" y="290640"/>
                </a:lnTo>
                <a:lnTo>
                  <a:pt x="45601" y="291976"/>
                </a:lnTo>
                <a:lnTo>
                  <a:pt x="41804" y="292866"/>
                </a:lnTo>
                <a:lnTo>
                  <a:pt x="38280" y="292468"/>
                </a:lnTo>
                <a:lnTo>
                  <a:pt x="34939" y="291210"/>
                </a:lnTo>
                <a:lnTo>
                  <a:pt x="31719" y="289379"/>
                </a:lnTo>
                <a:lnTo>
                  <a:pt x="27588" y="288158"/>
                </a:lnTo>
                <a:lnTo>
                  <a:pt x="22850" y="287345"/>
                </a:lnTo>
                <a:lnTo>
                  <a:pt x="17707" y="286802"/>
                </a:lnTo>
                <a:lnTo>
                  <a:pt x="14278" y="285448"/>
                </a:lnTo>
                <a:lnTo>
                  <a:pt x="11992" y="283554"/>
                </a:lnTo>
                <a:lnTo>
                  <a:pt x="8460" y="278803"/>
                </a:lnTo>
                <a:lnTo>
                  <a:pt x="3583" y="273384"/>
                </a:lnTo>
                <a:lnTo>
                  <a:pt x="1886" y="270550"/>
                </a:lnTo>
                <a:lnTo>
                  <a:pt x="0" y="264755"/>
                </a:lnTo>
                <a:lnTo>
                  <a:pt x="489" y="261820"/>
                </a:lnTo>
                <a:lnTo>
                  <a:pt x="4925" y="252950"/>
                </a:lnTo>
                <a:lnTo>
                  <a:pt x="6312" y="247011"/>
                </a:lnTo>
                <a:lnTo>
                  <a:pt x="8665" y="244038"/>
                </a:lnTo>
                <a:lnTo>
                  <a:pt x="12219" y="241064"/>
                </a:lnTo>
                <a:lnTo>
                  <a:pt x="16573" y="238089"/>
                </a:lnTo>
                <a:lnTo>
                  <a:pt x="21459" y="236106"/>
                </a:lnTo>
                <a:lnTo>
                  <a:pt x="26702" y="234784"/>
                </a:lnTo>
                <a:lnTo>
                  <a:pt x="32181" y="233902"/>
                </a:lnTo>
                <a:lnTo>
                  <a:pt x="36826" y="233315"/>
                </a:lnTo>
                <a:lnTo>
                  <a:pt x="40915" y="232923"/>
                </a:lnTo>
                <a:lnTo>
                  <a:pt x="44632" y="232662"/>
                </a:lnTo>
                <a:lnTo>
                  <a:pt x="49096" y="232487"/>
                </a:lnTo>
                <a:lnTo>
                  <a:pt x="64858" y="232242"/>
                </a:lnTo>
                <a:lnTo>
                  <a:pt x="76274" y="232185"/>
                </a:lnTo>
                <a:lnTo>
                  <a:pt x="81104" y="233162"/>
                </a:lnTo>
                <a:lnTo>
                  <a:pt x="85317" y="234805"/>
                </a:lnTo>
                <a:lnTo>
                  <a:pt x="89117" y="236893"/>
                </a:lnTo>
                <a:lnTo>
                  <a:pt x="93635" y="238285"/>
                </a:lnTo>
                <a:lnTo>
                  <a:pt x="98631" y="239213"/>
                </a:lnTo>
                <a:lnTo>
                  <a:pt x="103946" y="239832"/>
                </a:lnTo>
                <a:lnTo>
                  <a:pt x="109475" y="240244"/>
                </a:lnTo>
                <a:lnTo>
                  <a:pt x="115143" y="240519"/>
                </a:lnTo>
                <a:lnTo>
                  <a:pt x="120908" y="240702"/>
                </a:lnTo>
                <a:lnTo>
                  <a:pt x="125743" y="241817"/>
                </a:lnTo>
                <a:lnTo>
                  <a:pt x="129958" y="243552"/>
                </a:lnTo>
                <a:lnTo>
                  <a:pt x="133761" y="245701"/>
                </a:lnTo>
                <a:lnTo>
                  <a:pt x="143278" y="250734"/>
                </a:lnTo>
                <a:lnTo>
                  <a:pt x="159225" y="2589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SMARTInkAnnotation74"/>
          <p:cNvSpPr/>
          <p:nvPr/>
        </p:nvSpPr>
        <p:spPr>
          <a:xfrm>
            <a:off x="7670880" y="2938320"/>
            <a:ext cx="152280" cy="293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51389" h="293970">
                <a:moveTo>
                  <a:pt x="151388" y="8820"/>
                </a:moveTo>
                <a:lnTo>
                  <a:pt x="146648" y="4080"/>
                </a:lnTo>
                <a:lnTo>
                  <a:pt x="144260" y="2683"/>
                </a:lnTo>
                <a:lnTo>
                  <a:pt x="141674" y="1752"/>
                </a:lnTo>
                <a:lnTo>
                  <a:pt x="138959" y="1132"/>
                </a:lnTo>
                <a:lnTo>
                  <a:pt x="136156" y="718"/>
                </a:lnTo>
                <a:lnTo>
                  <a:pt x="133297" y="442"/>
                </a:lnTo>
                <a:lnTo>
                  <a:pt x="130398" y="258"/>
                </a:lnTo>
                <a:lnTo>
                  <a:pt x="124530" y="54"/>
                </a:lnTo>
                <a:lnTo>
                  <a:pt x="121576" y="0"/>
                </a:lnTo>
                <a:lnTo>
                  <a:pt x="118615" y="956"/>
                </a:lnTo>
                <a:lnTo>
                  <a:pt x="115650" y="2585"/>
                </a:lnTo>
                <a:lnTo>
                  <a:pt x="112679" y="4664"/>
                </a:lnTo>
                <a:lnTo>
                  <a:pt x="108714" y="7041"/>
                </a:lnTo>
                <a:lnTo>
                  <a:pt x="104087" y="9619"/>
                </a:lnTo>
                <a:lnTo>
                  <a:pt x="93654" y="15128"/>
                </a:lnTo>
                <a:lnTo>
                  <a:pt x="82404" y="20885"/>
                </a:lnTo>
                <a:lnTo>
                  <a:pt x="76625" y="24801"/>
                </a:lnTo>
                <a:lnTo>
                  <a:pt x="70788" y="29396"/>
                </a:lnTo>
                <a:lnTo>
                  <a:pt x="64912" y="34443"/>
                </a:lnTo>
                <a:lnTo>
                  <a:pt x="60003" y="38801"/>
                </a:lnTo>
                <a:lnTo>
                  <a:pt x="51903" y="46288"/>
                </a:lnTo>
                <a:lnTo>
                  <a:pt x="37023" y="60822"/>
                </a:lnTo>
                <a:lnTo>
                  <a:pt x="32481" y="67301"/>
                </a:lnTo>
                <a:lnTo>
                  <a:pt x="28461" y="74597"/>
                </a:lnTo>
                <a:lnTo>
                  <a:pt x="18061" y="96440"/>
                </a:lnTo>
                <a:lnTo>
                  <a:pt x="14878" y="102952"/>
                </a:lnTo>
                <a:lnTo>
                  <a:pt x="12757" y="110270"/>
                </a:lnTo>
                <a:lnTo>
                  <a:pt x="11342" y="118126"/>
                </a:lnTo>
                <a:lnTo>
                  <a:pt x="10399" y="126339"/>
                </a:lnTo>
                <a:lnTo>
                  <a:pt x="8779" y="134791"/>
                </a:lnTo>
                <a:lnTo>
                  <a:pt x="6706" y="143402"/>
                </a:lnTo>
                <a:lnTo>
                  <a:pt x="4332" y="152120"/>
                </a:lnTo>
                <a:lnTo>
                  <a:pt x="2750" y="159916"/>
                </a:lnTo>
                <a:lnTo>
                  <a:pt x="1694" y="167098"/>
                </a:lnTo>
                <a:lnTo>
                  <a:pt x="990" y="173870"/>
                </a:lnTo>
                <a:lnTo>
                  <a:pt x="522" y="181361"/>
                </a:lnTo>
                <a:lnTo>
                  <a:pt x="0" y="197623"/>
                </a:lnTo>
                <a:lnTo>
                  <a:pt x="854" y="205134"/>
                </a:lnTo>
                <a:lnTo>
                  <a:pt x="2415" y="212126"/>
                </a:lnTo>
                <a:lnTo>
                  <a:pt x="4447" y="218772"/>
                </a:lnTo>
                <a:lnTo>
                  <a:pt x="5803" y="225186"/>
                </a:lnTo>
                <a:lnTo>
                  <a:pt x="6706" y="231447"/>
                </a:lnTo>
                <a:lnTo>
                  <a:pt x="7309" y="237606"/>
                </a:lnTo>
                <a:lnTo>
                  <a:pt x="9695" y="244688"/>
                </a:lnTo>
                <a:lnTo>
                  <a:pt x="13269" y="252386"/>
                </a:lnTo>
                <a:lnTo>
                  <a:pt x="17636" y="260494"/>
                </a:lnTo>
                <a:lnTo>
                  <a:pt x="21541" y="266892"/>
                </a:lnTo>
                <a:lnTo>
                  <a:pt x="25136" y="272149"/>
                </a:lnTo>
                <a:lnTo>
                  <a:pt x="28525" y="276647"/>
                </a:lnTo>
                <a:lnTo>
                  <a:pt x="31776" y="280637"/>
                </a:lnTo>
                <a:lnTo>
                  <a:pt x="34936" y="284289"/>
                </a:lnTo>
                <a:lnTo>
                  <a:pt x="38035" y="287716"/>
                </a:lnTo>
                <a:lnTo>
                  <a:pt x="44069" y="290001"/>
                </a:lnTo>
                <a:lnTo>
                  <a:pt x="52060" y="291524"/>
                </a:lnTo>
                <a:lnTo>
                  <a:pt x="61358" y="292540"/>
                </a:lnTo>
                <a:lnTo>
                  <a:pt x="68547" y="293217"/>
                </a:lnTo>
                <a:lnTo>
                  <a:pt x="74333" y="293668"/>
                </a:lnTo>
                <a:lnTo>
                  <a:pt x="79182" y="293969"/>
                </a:lnTo>
                <a:lnTo>
                  <a:pt x="84400" y="293177"/>
                </a:lnTo>
                <a:lnTo>
                  <a:pt x="89861" y="291657"/>
                </a:lnTo>
                <a:lnTo>
                  <a:pt x="95487" y="289652"/>
                </a:lnTo>
                <a:lnTo>
                  <a:pt x="99238" y="287323"/>
                </a:lnTo>
                <a:lnTo>
                  <a:pt x="101738" y="284778"/>
                </a:lnTo>
                <a:lnTo>
                  <a:pt x="105509" y="278312"/>
                </a:lnTo>
                <a:lnTo>
                  <a:pt x="110492" y="268824"/>
                </a:lnTo>
                <a:lnTo>
                  <a:pt x="113368" y="260638"/>
                </a:lnTo>
                <a:lnTo>
                  <a:pt x="114136" y="257066"/>
                </a:lnTo>
                <a:lnTo>
                  <a:pt x="113654" y="253692"/>
                </a:lnTo>
                <a:lnTo>
                  <a:pt x="112342" y="250451"/>
                </a:lnTo>
                <a:lnTo>
                  <a:pt x="108237" y="244204"/>
                </a:lnTo>
                <a:lnTo>
                  <a:pt x="105754" y="241149"/>
                </a:lnTo>
                <a:lnTo>
                  <a:pt x="103106" y="238121"/>
                </a:lnTo>
                <a:lnTo>
                  <a:pt x="100347" y="235109"/>
                </a:lnTo>
                <a:lnTo>
                  <a:pt x="94639" y="229117"/>
                </a:lnTo>
                <a:lnTo>
                  <a:pt x="90735" y="226131"/>
                </a:lnTo>
                <a:lnTo>
                  <a:pt x="86148" y="223147"/>
                </a:lnTo>
                <a:lnTo>
                  <a:pt x="81105" y="220166"/>
                </a:lnTo>
                <a:lnTo>
                  <a:pt x="76752" y="217186"/>
                </a:lnTo>
                <a:lnTo>
                  <a:pt x="72857" y="214207"/>
                </a:lnTo>
                <a:lnTo>
                  <a:pt x="69269" y="211229"/>
                </a:lnTo>
                <a:lnTo>
                  <a:pt x="64892" y="208252"/>
                </a:lnTo>
                <a:lnTo>
                  <a:pt x="59989" y="205275"/>
                </a:lnTo>
                <a:lnTo>
                  <a:pt x="54737" y="202298"/>
                </a:lnTo>
                <a:lnTo>
                  <a:pt x="50244" y="200314"/>
                </a:lnTo>
                <a:lnTo>
                  <a:pt x="46255" y="198990"/>
                </a:lnTo>
                <a:lnTo>
                  <a:pt x="42604" y="198108"/>
                </a:lnTo>
                <a:lnTo>
                  <a:pt x="39178" y="196528"/>
                </a:lnTo>
                <a:lnTo>
                  <a:pt x="35902" y="194482"/>
                </a:lnTo>
                <a:lnTo>
                  <a:pt x="32725" y="192126"/>
                </a:lnTo>
                <a:lnTo>
                  <a:pt x="29615" y="190555"/>
                </a:lnTo>
                <a:lnTo>
                  <a:pt x="26550" y="189508"/>
                </a:lnTo>
                <a:lnTo>
                  <a:pt x="19242" y="187828"/>
                </a:lnTo>
                <a:lnTo>
                  <a:pt x="15596" y="187598"/>
                </a:lnTo>
                <a:lnTo>
                  <a:pt x="8513" y="1874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SMARTInkAnnotation75"/>
          <p:cNvSpPr/>
          <p:nvPr/>
        </p:nvSpPr>
        <p:spPr>
          <a:xfrm>
            <a:off x="7875720" y="2946240"/>
            <a:ext cx="63360" cy="268560"/>
          </a:xfrm>
          <a:custGeom>
            <a:avLst/>
            <a:gdLst>
              <a:gd name="textAreaLeft" fmla="*/ 0 w 63360"/>
              <a:gd name="textAreaRight" fmla="*/ 63720 w 633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62509" h="267892">
                <a:moveTo>
                  <a:pt x="62508" y="0"/>
                </a:moveTo>
                <a:lnTo>
                  <a:pt x="53946" y="0"/>
                </a:lnTo>
                <a:lnTo>
                  <a:pt x="53651" y="7130"/>
                </a:lnTo>
                <a:lnTo>
                  <a:pt x="53588" y="25732"/>
                </a:lnTo>
                <a:lnTo>
                  <a:pt x="52593" y="31045"/>
                </a:lnTo>
                <a:lnTo>
                  <a:pt x="50937" y="36572"/>
                </a:lnTo>
                <a:lnTo>
                  <a:pt x="48841" y="42241"/>
                </a:lnTo>
                <a:lnTo>
                  <a:pt x="47443" y="48997"/>
                </a:lnTo>
                <a:lnTo>
                  <a:pt x="46512" y="56477"/>
                </a:lnTo>
                <a:lnTo>
                  <a:pt x="45891" y="64440"/>
                </a:lnTo>
                <a:lnTo>
                  <a:pt x="44485" y="71734"/>
                </a:lnTo>
                <a:lnTo>
                  <a:pt x="42554" y="78581"/>
                </a:lnTo>
                <a:lnTo>
                  <a:pt x="32329" y="108567"/>
                </a:lnTo>
                <a:lnTo>
                  <a:pt x="29490" y="119011"/>
                </a:lnTo>
                <a:lnTo>
                  <a:pt x="26604" y="130935"/>
                </a:lnTo>
                <a:lnTo>
                  <a:pt x="23689" y="143845"/>
                </a:lnTo>
                <a:lnTo>
                  <a:pt x="20754" y="154436"/>
                </a:lnTo>
                <a:lnTo>
                  <a:pt x="17805" y="163481"/>
                </a:lnTo>
                <a:lnTo>
                  <a:pt x="14847" y="171495"/>
                </a:lnTo>
                <a:lnTo>
                  <a:pt x="12874" y="179814"/>
                </a:lnTo>
                <a:lnTo>
                  <a:pt x="11560" y="188338"/>
                </a:lnTo>
                <a:lnTo>
                  <a:pt x="10684" y="196996"/>
                </a:lnTo>
                <a:lnTo>
                  <a:pt x="9107" y="204753"/>
                </a:lnTo>
                <a:lnTo>
                  <a:pt x="7064" y="211908"/>
                </a:lnTo>
                <a:lnTo>
                  <a:pt x="4709" y="218663"/>
                </a:lnTo>
                <a:lnTo>
                  <a:pt x="3140" y="226143"/>
                </a:lnTo>
                <a:lnTo>
                  <a:pt x="2093" y="234105"/>
                </a:lnTo>
                <a:lnTo>
                  <a:pt x="931" y="248906"/>
                </a:lnTo>
                <a:lnTo>
                  <a:pt x="0" y="26789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SMARTInkAnnotation76"/>
          <p:cNvSpPr/>
          <p:nvPr/>
        </p:nvSpPr>
        <p:spPr>
          <a:xfrm>
            <a:off x="7875720" y="3009960"/>
            <a:ext cx="187200" cy="88920"/>
          </a:xfrm>
          <a:custGeom>
            <a:avLst/>
            <a:gdLst>
              <a:gd name="textAreaLeft" fmla="*/ 0 w 187200"/>
              <a:gd name="textAreaRight" fmla="*/ 187560 w 187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87524" h="89298">
                <a:moveTo>
                  <a:pt x="0" y="89297"/>
                </a:moveTo>
                <a:lnTo>
                  <a:pt x="12429" y="76868"/>
                </a:lnTo>
                <a:lnTo>
                  <a:pt x="16223" y="74066"/>
                </a:lnTo>
                <a:lnTo>
                  <a:pt x="20738" y="71206"/>
                </a:lnTo>
                <a:lnTo>
                  <a:pt x="25732" y="68306"/>
                </a:lnTo>
                <a:lnTo>
                  <a:pt x="36571" y="62439"/>
                </a:lnTo>
                <a:lnTo>
                  <a:pt x="65597" y="47616"/>
                </a:lnTo>
                <a:lnTo>
                  <a:pt x="95265" y="32741"/>
                </a:lnTo>
                <a:lnTo>
                  <a:pt x="102205" y="29765"/>
                </a:lnTo>
                <a:lnTo>
                  <a:pt x="109809" y="26789"/>
                </a:lnTo>
                <a:lnTo>
                  <a:pt x="117854" y="23812"/>
                </a:lnTo>
                <a:lnTo>
                  <a:pt x="125203" y="20836"/>
                </a:lnTo>
                <a:lnTo>
                  <a:pt x="132086" y="17859"/>
                </a:lnTo>
                <a:lnTo>
                  <a:pt x="138659" y="14883"/>
                </a:lnTo>
                <a:lnTo>
                  <a:pt x="145025" y="12898"/>
                </a:lnTo>
                <a:lnTo>
                  <a:pt x="151253" y="11575"/>
                </a:lnTo>
                <a:lnTo>
                  <a:pt x="157390" y="10694"/>
                </a:lnTo>
                <a:lnTo>
                  <a:pt x="163467" y="9114"/>
                </a:lnTo>
                <a:lnTo>
                  <a:pt x="169500" y="7068"/>
                </a:lnTo>
                <a:lnTo>
                  <a:pt x="18752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SMARTInkAnnotation77"/>
          <p:cNvSpPr/>
          <p:nvPr/>
        </p:nvSpPr>
        <p:spPr>
          <a:xfrm>
            <a:off x="7947000" y="3071880"/>
            <a:ext cx="90360" cy="169920"/>
          </a:xfrm>
          <a:custGeom>
            <a:avLst/>
            <a:gdLst>
              <a:gd name="textAreaLeft" fmla="*/ 0 w 90360"/>
              <a:gd name="textAreaRight" fmla="*/ 90720 w 903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89298" h="169665">
                <a:moveTo>
                  <a:pt x="0" y="0"/>
                </a:moveTo>
                <a:lnTo>
                  <a:pt x="0" y="20991"/>
                </a:lnTo>
                <a:lnTo>
                  <a:pt x="993" y="24908"/>
                </a:lnTo>
                <a:lnTo>
                  <a:pt x="2647" y="29504"/>
                </a:lnTo>
                <a:lnTo>
                  <a:pt x="4740" y="34552"/>
                </a:lnTo>
                <a:lnTo>
                  <a:pt x="7129" y="38910"/>
                </a:lnTo>
                <a:lnTo>
                  <a:pt x="9715" y="42807"/>
                </a:lnTo>
                <a:lnTo>
                  <a:pt x="12429" y="46397"/>
                </a:lnTo>
                <a:lnTo>
                  <a:pt x="15232" y="50776"/>
                </a:lnTo>
                <a:lnTo>
                  <a:pt x="18092" y="55678"/>
                </a:lnTo>
                <a:lnTo>
                  <a:pt x="20991" y="60932"/>
                </a:lnTo>
                <a:lnTo>
                  <a:pt x="22924" y="65426"/>
                </a:lnTo>
                <a:lnTo>
                  <a:pt x="24213" y="69414"/>
                </a:lnTo>
                <a:lnTo>
                  <a:pt x="25072" y="73065"/>
                </a:lnTo>
                <a:lnTo>
                  <a:pt x="26637" y="77484"/>
                </a:lnTo>
                <a:lnTo>
                  <a:pt x="28672" y="82413"/>
                </a:lnTo>
                <a:lnTo>
                  <a:pt x="31021" y="87684"/>
                </a:lnTo>
                <a:lnTo>
                  <a:pt x="36276" y="98833"/>
                </a:lnTo>
                <a:lnTo>
                  <a:pt x="39067" y="104584"/>
                </a:lnTo>
                <a:lnTo>
                  <a:pt x="40928" y="109410"/>
                </a:lnTo>
                <a:lnTo>
                  <a:pt x="42169" y="113620"/>
                </a:lnTo>
                <a:lnTo>
                  <a:pt x="42995" y="117418"/>
                </a:lnTo>
                <a:lnTo>
                  <a:pt x="44540" y="120943"/>
                </a:lnTo>
                <a:lnTo>
                  <a:pt x="46560" y="124285"/>
                </a:lnTo>
                <a:lnTo>
                  <a:pt x="48900" y="127505"/>
                </a:lnTo>
                <a:lnTo>
                  <a:pt x="51451" y="130644"/>
                </a:lnTo>
                <a:lnTo>
                  <a:pt x="54145" y="133729"/>
                </a:lnTo>
                <a:lnTo>
                  <a:pt x="56933" y="136778"/>
                </a:lnTo>
                <a:lnTo>
                  <a:pt x="58792" y="139802"/>
                </a:lnTo>
                <a:lnTo>
                  <a:pt x="60030" y="142811"/>
                </a:lnTo>
                <a:lnTo>
                  <a:pt x="60857" y="145809"/>
                </a:lnTo>
                <a:lnTo>
                  <a:pt x="62400" y="148800"/>
                </a:lnTo>
                <a:lnTo>
                  <a:pt x="64420" y="151786"/>
                </a:lnTo>
                <a:lnTo>
                  <a:pt x="66760" y="154769"/>
                </a:lnTo>
                <a:lnTo>
                  <a:pt x="69312" y="157749"/>
                </a:lnTo>
                <a:lnTo>
                  <a:pt x="72005" y="160729"/>
                </a:lnTo>
                <a:lnTo>
                  <a:pt x="74793" y="163707"/>
                </a:lnTo>
                <a:lnTo>
                  <a:pt x="77643" y="165693"/>
                </a:lnTo>
                <a:lnTo>
                  <a:pt x="80535" y="167017"/>
                </a:lnTo>
                <a:lnTo>
                  <a:pt x="89297" y="16966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SMARTInkAnnotation78"/>
          <p:cNvSpPr/>
          <p:nvPr/>
        </p:nvSpPr>
        <p:spPr>
          <a:xfrm>
            <a:off x="8062920" y="3108240"/>
            <a:ext cx="179280" cy="222480"/>
          </a:xfrm>
          <a:custGeom>
            <a:avLst/>
            <a:gdLst>
              <a:gd name="textAreaLeft" fmla="*/ 0 w 179280"/>
              <a:gd name="textAreaRight" fmla="*/ 179640 w 1792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8591" h="223043">
                <a:moveTo>
                  <a:pt x="107153" y="17817"/>
                </a:moveTo>
                <a:lnTo>
                  <a:pt x="102412" y="13077"/>
                </a:lnTo>
                <a:lnTo>
                  <a:pt x="101016" y="10688"/>
                </a:lnTo>
                <a:lnTo>
                  <a:pt x="99464" y="5388"/>
                </a:lnTo>
                <a:lnTo>
                  <a:pt x="98058" y="3578"/>
                </a:lnTo>
                <a:lnTo>
                  <a:pt x="96129" y="2371"/>
                </a:lnTo>
                <a:lnTo>
                  <a:pt x="91340" y="1030"/>
                </a:lnTo>
                <a:lnTo>
                  <a:pt x="85903" y="434"/>
                </a:lnTo>
                <a:lnTo>
                  <a:pt x="82072" y="276"/>
                </a:lnTo>
                <a:lnTo>
                  <a:pt x="68192" y="52"/>
                </a:lnTo>
                <a:lnTo>
                  <a:pt x="60733" y="0"/>
                </a:lnTo>
                <a:lnTo>
                  <a:pt x="57355" y="978"/>
                </a:lnTo>
                <a:lnTo>
                  <a:pt x="54110" y="2622"/>
                </a:lnTo>
                <a:lnTo>
                  <a:pt x="50954" y="4711"/>
                </a:lnTo>
                <a:lnTo>
                  <a:pt x="47859" y="7095"/>
                </a:lnTo>
                <a:lnTo>
                  <a:pt x="44804" y="9677"/>
                </a:lnTo>
                <a:lnTo>
                  <a:pt x="41774" y="12390"/>
                </a:lnTo>
                <a:lnTo>
                  <a:pt x="35762" y="18051"/>
                </a:lnTo>
                <a:lnTo>
                  <a:pt x="23818" y="29770"/>
                </a:lnTo>
                <a:lnTo>
                  <a:pt x="21831" y="32731"/>
                </a:lnTo>
                <a:lnTo>
                  <a:pt x="19622" y="38667"/>
                </a:lnTo>
                <a:lnTo>
                  <a:pt x="18641" y="44612"/>
                </a:lnTo>
                <a:lnTo>
                  <a:pt x="18205" y="50562"/>
                </a:lnTo>
                <a:lnTo>
                  <a:pt x="18011" y="56514"/>
                </a:lnTo>
                <a:lnTo>
                  <a:pt x="18951" y="59490"/>
                </a:lnTo>
                <a:lnTo>
                  <a:pt x="22642" y="65443"/>
                </a:lnTo>
                <a:lnTo>
                  <a:pt x="27590" y="71396"/>
                </a:lnTo>
                <a:lnTo>
                  <a:pt x="30298" y="74372"/>
                </a:lnTo>
                <a:lnTo>
                  <a:pt x="33096" y="76356"/>
                </a:lnTo>
                <a:lnTo>
                  <a:pt x="35954" y="77680"/>
                </a:lnTo>
                <a:lnTo>
                  <a:pt x="38851" y="78561"/>
                </a:lnTo>
                <a:lnTo>
                  <a:pt x="41774" y="79149"/>
                </a:lnTo>
                <a:lnTo>
                  <a:pt x="44716" y="79541"/>
                </a:lnTo>
                <a:lnTo>
                  <a:pt x="47669" y="79802"/>
                </a:lnTo>
                <a:lnTo>
                  <a:pt x="51623" y="79977"/>
                </a:lnTo>
                <a:lnTo>
                  <a:pt x="61306" y="80170"/>
                </a:lnTo>
                <a:lnTo>
                  <a:pt x="77915" y="80279"/>
                </a:lnTo>
                <a:lnTo>
                  <a:pt x="82699" y="79302"/>
                </a:lnTo>
                <a:lnTo>
                  <a:pt x="86881" y="77659"/>
                </a:lnTo>
                <a:lnTo>
                  <a:pt x="90662" y="75571"/>
                </a:lnTo>
                <a:lnTo>
                  <a:pt x="94174" y="73187"/>
                </a:lnTo>
                <a:lnTo>
                  <a:pt x="97509" y="70605"/>
                </a:lnTo>
                <a:lnTo>
                  <a:pt x="100723" y="67892"/>
                </a:lnTo>
                <a:lnTo>
                  <a:pt x="103859" y="65091"/>
                </a:lnTo>
                <a:lnTo>
                  <a:pt x="109989" y="59333"/>
                </a:lnTo>
                <a:lnTo>
                  <a:pt x="119017" y="50513"/>
                </a:lnTo>
                <a:lnTo>
                  <a:pt x="122008" y="48544"/>
                </a:lnTo>
                <a:lnTo>
                  <a:pt x="124993" y="47232"/>
                </a:lnTo>
                <a:lnTo>
                  <a:pt x="133928" y="44610"/>
                </a:lnTo>
                <a:lnTo>
                  <a:pt x="129197" y="49348"/>
                </a:lnTo>
                <a:lnTo>
                  <a:pt x="127802" y="52728"/>
                </a:lnTo>
                <a:lnTo>
                  <a:pt x="126872" y="56966"/>
                </a:lnTo>
                <a:lnTo>
                  <a:pt x="126252" y="61776"/>
                </a:lnTo>
                <a:lnTo>
                  <a:pt x="124847" y="65975"/>
                </a:lnTo>
                <a:lnTo>
                  <a:pt x="122917" y="69766"/>
                </a:lnTo>
                <a:lnTo>
                  <a:pt x="120639" y="73286"/>
                </a:lnTo>
                <a:lnTo>
                  <a:pt x="118128" y="77616"/>
                </a:lnTo>
                <a:lnTo>
                  <a:pt x="112693" y="87720"/>
                </a:lnTo>
                <a:lnTo>
                  <a:pt x="89278" y="133959"/>
                </a:lnTo>
                <a:lnTo>
                  <a:pt x="77384" y="157727"/>
                </a:lnTo>
                <a:lnTo>
                  <a:pt x="73417" y="162684"/>
                </a:lnTo>
                <a:lnTo>
                  <a:pt x="68787" y="166981"/>
                </a:lnTo>
                <a:lnTo>
                  <a:pt x="63716" y="170838"/>
                </a:lnTo>
                <a:lnTo>
                  <a:pt x="59343" y="175394"/>
                </a:lnTo>
                <a:lnTo>
                  <a:pt x="55436" y="180415"/>
                </a:lnTo>
                <a:lnTo>
                  <a:pt x="51839" y="185747"/>
                </a:lnTo>
                <a:lnTo>
                  <a:pt x="48448" y="190294"/>
                </a:lnTo>
                <a:lnTo>
                  <a:pt x="45197" y="194317"/>
                </a:lnTo>
                <a:lnTo>
                  <a:pt x="42036" y="197991"/>
                </a:lnTo>
                <a:lnTo>
                  <a:pt x="38937" y="201433"/>
                </a:lnTo>
                <a:lnTo>
                  <a:pt x="32847" y="207904"/>
                </a:lnTo>
                <a:lnTo>
                  <a:pt x="23841" y="217124"/>
                </a:lnTo>
                <a:lnTo>
                  <a:pt x="20854" y="219149"/>
                </a:lnTo>
                <a:lnTo>
                  <a:pt x="17871" y="220500"/>
                </a:lnTo>
                <a:lnTo>
                  <a:pt x="14888" y="221400"/>
                </a:lnTo>
                <a:lnTo>
                  <a:pt x="11909" y="222000"/>
                </a:lnTo>
                <a:lnTo>
                  <a:pt x="8931" y="222400"/>
                </a:lnTo>
                <a:lnTo>
                  <a:pt x="1761" y="223042"/>
                </a:lnTo>
                <a:lnTo>
                  <a:pt x="1173" y="222102"/>
                </a:lnTo>
                <a:lnTo>
                  <a:pt x="151" y="215498"/>
                </a:lnTo>
                <a:lnTo>
                  <a:pt x="9" y="209638"/>
                </a:lnTo>
                <a:lnTo>
                  <a:pt x="0" y="206614"/>
                </a:lnTo>
                <a:lnTo>
                  <a:pt x="4739" y="200978"/>
                </a:lnTo>
                <a:lnTo>
                  <a:pt x="7126" y="199455"/>
                </a:lnTo>
                <a:lnTo>
                  <a:pt x="16220" y="196321"/>
                </a:lnTo>
                <a:lnTo>
                  <a:pt x="20735" y="194366"/>
                </a:lnTo>
                <a:lnTo>
                  <a:pt x="25728" y="192071"/>
                </a:lnTo>
                <a:lnTo>
                  <a:pt x="31042" y="190541"/>
                </a:lnTo>
                <a:lnTo>
                  <a:pt x="36568" y="189521"/>
                </a:lnTo>
                <a:lnTo>
                  <a:pt x="42236" y="188841"/>
                </a:lnTo>
                <a:lnTo>
                  <a:pt x="47008" y="188388"/>
                </a:lnTo>
                <a:lnTo>
                  <a:pt x="51182" y="188086"/>
                </a:lnTo>
                <a:lnTo>
                  <a:pt x="54956" y="187884"/>
                </a:lnTo>
                <a:lnTo>
                  <a:pt x="67087" y="187660"/>
                </a:lnTo>
                <a:lnTo>
                  <a:pt x="112851" y="187492"/>
                </a:lnTo>
                <a:lnTo>
                  <a:pt x="117898" y="186496"/>
                </a:lnTo>
                <a:lnTo>
                  <a:pt x="122254" y="184840"/>
                </a:lnTo>
                <a:lnTo>
                  <a:pt x="126149" y="182744"/>
                </a:lnTo>
                <a:lnTo>
                  <a:pt x="130732" y="181347"/>
                </a:lnTo>
                <a:lnTo>
                  <a:pt x="135770" y="180415"/>
                </a:lnTo>
                <a:lnTo>
                  <a:pt x="141114" y="179794"/>
                </a:lnTo>
                <a:lnTo>
                  <a:pt x="145669" y="179380"/>
                </a:lnTo>
                <a:lnTo>
                  <a:pt x="149696" y="179104"/>
                </a:lnTo>
                <a:lnTo>
                  <a:pt x="153375" y="178920"/>
                </a:lnTo>
                <a:lnTo>
                  <a:pt x="160107" y="178715"/>
                </a:lnTo>
                <a:lnTo>
                  <a:pt x="178590" y="1785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SMARTInkAnnotation79"/>
          <p:cNvSpPr/>
          <p:nvPr/>
        </p:nvSpPr>
        <p:spPr>
          <a:xfrm>
            <a:off x="6527880" y="3367080"/>
            <a:ext cx="276120" cy="336600"/>
          </a:xfrm>
          <a:custGeom>
            <a:avLst/>
            <a:gdLst>
              <a:gd name="textAreaLeft" fmla="*/ 0 w 276120"/>
              <a:gd name="textAreaRight" fmla="*/ 276480 w 2761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76821" h="337922">
                <a:moveTo>
                  <a:pt x="0" y="0"/>
                </a:moveTo>
                <a:lnTo>
                  <a:pt x="0" y="4740"/>
                </a:lnTo>
                <a:lnTo>
                  <a:pt x="992" y="6137"/>
                </a:lnTo>
                <a:lnTo>
                  <a:pt x="2646" y="7068"/>
                </a:lnTo>
                <a:lnTo>
                  <a:pt x="4740" y="7688"/>
                </a:lnTo>
                <a:lnTo>
                  <a:pt x="6138" y="9094"/>
                </a:lnTo>
                <a:lnTo>
                  <a:pt x="7069" y="11023"/>
                </a:lnTo>
                <a:lnTo>
                  <a:pt x="8102" y="15813"/>
                </a:lnTo>
                <a:lnTo>
                  <a:pt x="8562" y="21249"/>
                </a:lnTo>
                <a:lnTo>
                  <a:pt x="11412" y="29618"/>
                </a:lnTo>
                <a:lnTo>
                  <a:pt x="14994" y="38960"/>
                </a:lnTo>
                <a:lnTo>
                  <a:pt x="16585" y="46420"/>
                </a:lnTo>
                <a:lnTo>
                  <a:pt x="19940" y="55688"/>
                </a:lnTo>
                <a:lnTo>
                  <a:pt x="22222" y="60938"/>
                </a:lnTo>
                <a:lnTo>
                  <a:pt x="23745" y="66422"/>
                </a:lnTo>
                <a:lnTo>
                  <a:pt x="24759" y="72062"/>
                </a:lnTo>
                <a:lnTo>
                  <a:pt x="25436" y="77807"/>
                </a:lnTo>
                <a:lnTo>
                  <a:pt x="26880" y="84614"/>
                </a:lnTo>
                <a:lnTo>
                  <a:pt x="28833" y="92128"/>
                </a:lnTo>
                <a:lnTo>
                  <a:pt x="31128" y="100114"/>
                </a:lnTo>
                <a:lnTo>
                  <a:pt x="32659" y="107422"/>
                </a:lnTo>
                <a:lnTo>
                  <a:pt x="33679" y="114279"/>
                </a:lnTo>
                <a:lnTo>
                  <a:pt x="34358" y="120834"/>
                </a:lnTo>
                <a:lnTo>
                  <a:pt x="35804" y="127189"/>
                </a:lnTo>
                <a:lnTo>
                  <a:pt x="37761" y="133410"/>
                </a:lnTo>
                <a:lnTo>
                  <a:pt x="40057" y="139542"/>
                </a:lnTo>
                <a:lnTo>
                  <a:pt x="48029" y="162392"/>
                </a:lnTo>
                <a:lnTo>
                  <a:pt x="49879" y="169777"/>
                </a:lnTo>
                <a:lnTo>
                  <a:pt x="51112" y="176685"/>
                </a:lnTo>
                <a:lnTo>
                  <a:pt x="51934" y="183274"/>
                </a:lnTo>
                <a:lnTo>
                  <a:pt x="53474" y="190643"/>
                </a:lnTo>
                <a:lnTo>
                  <a:pt x="55494" y="198533"/>
                </a:lnTo>
                <a:lnTo>
                  <a:pt x="57831" y="206769"/>
                </a:lnTo>
                <a:lnTo>
                  <a:pt x="60382" y="214245"/>
                </a:lnTo>
                <a:lnTo>
                  <a:pt x="63075" y="221213"/>
                </a:lnTo>
                <a:lnTo>
                  <a:pt x="65863" y="227842"/>
                </a:lnTo>
                <a:lnTo>
                  <a:pt x="68714" y="235238"/>
                </a:lnTo>
                <a:lnTo>
                  <a:pt x="74527" y="251394"/>
                </a:lnTo>
                <a:lnTo>
                  <a:pt x="77465" y="258877"/>
                </a:lnTo>
                <a:lnTo>
                  <a:pt x="80418" y="265851"/>
                </a:lnTo>
                <a:lnTo>
                  <a:pt x="83377" y="272484"/>
                </a:lnTo>
                <a:lnTo>
                  <a:pt x="89312" y="282499"/>
                </a:lnTo>
                <a:lnTo>
                  <a:pt x="95256" y="291251"/>
                </a:lnTo>
                <a:lnTo>
                  <a:pt x="101206" y="301755"/>
                </a:lnTo>
                <a:lnTo>
                  <a:pt x="107159" y="310392"/>
                </a:lnTo>
                <a:lnTo>
                  <a:pt x="113110" y="317538"/>
                </a:lnTo>
                <a:lnTo>
                  <a:pt x="119063" y="324021"/>
                </a:lnTo>
                <a:lnTo>
                  <a:pt x="122040" y="326147"/>
                </a:lnTo>
                <a:lnTo>
                  <a:pt x="127991" y="328509"/>
                </a:lnTo>
                <a:lnTo>
                  <a:pt x="133945" y="332205"/>
                </a:lnTo>
                <a:lnTo>
                  <a:pt x="136921" y="334579"/>
                </a:lnTo>
                <a:lnTo>
                  <a:pt x="139899" y="336162"/>
                </a:lnTo>
                <a:lnTo>
                  <a:pt x="145851" y="337921"/>
                </a:lnTo>
                <a:lnTo>
                  <a:pt x="147836" y="337398"/>
                </a:lnTo>
                <a:lnTo>
                  <a:pt x="149159" y="336057"/>
                </a:lnTo>
                <a:lnTo>
                  <a:pt x="150042" y="334170"/>
                </a:lnTo>
                <a:lnTo>
                  <a:pt x="151622" y="332913"/>
                </a:lnTo>
                <a:lnTo>
                  <a:pt x="153667" y="332075"/>
                </a:lnTo>
                <a:lnTo>
                  <a:pt x="156023" y="331516"/>
                </a:lnTo>
                <a:lnTo>
                  <a:pt x="158586" y="329159"/>
                </a:lnTo>
                <a:lnTo>
                  <a:pt x="164078" y="321248"/>
                </a:lnTo>
                <a:lnTo>
                  <a:pt x="169828" y="313764"/>
                </a:lnTo>
                <a:lnTo>
                  <a:pt x="175690" y="306138"/>
                </a:lnTo>
                <a:lnTo>
                  <a:pt x="181603" y="296134"/>
                </a:lnTo>
                <a:lnTo>
                  <a:pt x="183576" y="290689"/>
                </a:lnTo>
                <a:lnTo>
                  <a:pt x="184892" y="285073"/>
                </a:lnTo>
                <a:lnTo>
                  <a:pt x="185769" y="279346"/>
                </a:lnTo>
                <a:lnTo>
                  <a:pt x="187346" y="272550"/>
                </a:lnTo>
                <a:lnTo>
                  <a:pt x="189390" y="265044"/>
                </a:lnTo>
                <a:lnTo>
                  <a:pt x="191744" y="257063"/>
                </a:lnTo>
                <a:lnTo>
                  <a:pt x="194306" y="249758"/>
                </a:lnTo>
                <a:lnTo>
                  <a:pt x="197006" y="242904"/>
                </a:lnTo>
                <a:lnTo>
                  <a:pt x="199798" y="236350"/>
                </a:lnTo>
                <a:lnTo>
                  <a:pt x="202652" y="229004"/>
                </a:lnTo>
                <a:lnTo>
                  <a:pt x="208469" y="212905"/>
                </a:lnTo>
                <a:lnTo>
                  <a:pt x="210417" y="204444"/>
                </a:lnTo>
                <a:lnTo>
                  <a:pt x="211716" y="195827"/>
                </a:lnTo>
                <a:lnTo>
                  <a:pt x="212582" y="187106"/>
                </a:lnTo>
                <a:lnTo>
                  <a:pt x="214151" y="179308"/>
                </a:lnTo>
                <a:lnTo>
                  <a:pt x="216189" y="172124"/>
                </a:lnTo>
                <a:lnTo>
                  <a:pt x="226590" y="141597"/>
                </a:lnTo>
                <a:lnTo>
                  <a:pt x="229443" y="134085"/>
                </a:lnTo>
                <a:lnTo>
                  <a:pt x="232337" y="127093"/>
                </a:lnTo>
                <a:lnTo>
                  <a:pt x="235259" y="120448"/>
                </a:lnTo>
                <a:lnTo>
                  <a:pt x="237207" y="114033"/>
                </a:lnTo>
                <a:lnTo>
                  <a:pt x="238505" y="107772"/>
                </a:lnTo>
                <a:lnTo>
                  <a:pt x="239371" y="101613"/>
                </a:lnTo>
                <a:lnTo>
                  <a:pt x="240940" y="95523"/>
                </a:lnTo>
                <a:lnTo>
                  <a:pt x="242978" y="89479"/>
                </a:lnTo>
                <a:lnTo>
                  <a:pt x="245329" y="83465"/>
                </a:lnTo>
                <a:lnTo>
                  <a:pt x="247941" y="74137"/>
                </a:lnTo>
                <a:lnTo>
                  <a:pt x="250095" y="65692"/>
                </a:lnTo>
                <a:lnTo>
                  <a:pt x="254359" y="55324"/>
                </a:lnTo>
                <a:lnTo>
                  <a:pt x="256916" y="46747"/>
                </a:lnTo>
                <a:lnTo>
                  <a:pt x="257598" y="43071"/>
                </a:lnTo>
                <a:lnTo>
                  <a:pt x="259045" y="40620"/>
                </a:lnTo>
                <a:lnTo>
                  <a:pt x="261000" y="38986"/>
                </a:lnTo>
                <a:lnTo>
                  <a:pt x="267772" y="35775"/>
                </a:lnTo>
                <a:lnTo>
                  <a:pt x="274943" y="35726"/>
                </a:lnTo>
                <a:lnTo>
                  <a:pt x="276820" y="3571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SMARTInkAnnotation80"/>
          <p:cNvSpPr/>
          <p:nvPr/>
        </p:nvSpPr>
        <p:spPr>
          <a:xfrm>
            <a:off x="6796080" y="3554280"/>
            <a:ext cx="88920" cy="214560"/>
          </a:xfrm>
          <a:custGeom>
            <a:avLst/>
            <a:gdLst>
              <a:gd name="textAreaLeft" fmla="*/ 0 w 88920"/>
              <a:gd name="textAreaRight" fmla="*/ 89280 w 889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89175" h="213943">
                <a:moveTo>
                  <a:pt x="89174" y="17489"/>
                </a:moveTo>
                <a:lnTo>
                  <a:pt x="84434" y="17489"/>
                </a:lnTo>
                <a:lnTo>
                  <a:pt x="83037" y="16496"/>
                </a:lnTo>
                <a:lnTo>
                  <a:pt x="82106" y="14843"/>
                </a:lnTo>
                <a:lnTo>
                  <a:pt x="80276" y="8668"/>
                </a:lnTo>
                <a:lnTo>
                  <a:pt x="72558" y="880"/>
                </a:lnTo>
                <a:lnTo>
                  <a:pt x="71151" y="463"/>
                </a:lnTo>
                <a:lnTo>
                  <a:pt x="69222" y="185"/>
                </a:lnTo>
                <a:lnTo>
                  <a:pt x="66943" y="0"/>
                </a:lnTo>
                <a:lnTo>
                  <a:pt x="64432" y="869"/>
                </a:lnTo>
                <a:lnTo>
                  <a:pt x="61764" y="2440"/>
                </a:lnTo>
                <a:lnTo>
                  <a:pt x="58995" y="4480"/>
                </a:lnTo>
                <a:lnTo>
                  <a:pt x="56157" y="5839"/>
                </a:lnTo>
                <a:lnTo>
                  <a:pt x="53272" y="6746"/>
                </a:lnTo>
                <a:lnTo>
                  <a:pt x="50356" y="7350"/>
                </a:lnTo>
                <a:lnTo>
                  <a:pt x="48412" y="8745"/>
                </a:lnTo>
                <a:lnTo>
                  <a:pt x="47117" y="10668"/>
                </a:lnTo>
                <a:lnTo>
                  <a:pt x="46254" y="12941"/>
                </a:lnTo>
                <a:lnTo>
                  <a:pt x="44686" y="15449"/>
                </a:lnTo>
                <a:lnTo>
                  <a:pt x="42648" y="18113"/>
                </a:lnTo>
                <a:lnTo>
                  <a:pt x="40297" y="20882"/>
                </a:lnTo>
                <a:lnTo>
                  <a:pt x="37738" y="23719"/>
                </a:lnTo>
                <a:lnTo>
                  <a:pt x="32248" y="29518"/>
                </a:lnTo>
                <a:lnTo>
                  <a:pt x="29396" y="33446"/>
                </a:lnTo>
                <a:lnTo>
                  <a:pt x="26501" y="38048"/>
                </a:lnTo>
                <a:lnTo>
                  <a:pt x="23579" y="43102"/>
                </a:lnTo>
                <a:lnTo>
                  <a:pt x="20641" y="47462"/>
                </a:lnTo>
                <a:lnTo>
                  <a:pt x="17687" y="51362"/>
                </a:lnTo>
                <a:lnTo>
                  <a:pt x="14727" y="54954"/>
                </a:lnTo>
                <a:lnTo>
                  <a:pt x="12754" y="59332"/>
                </a:lnTo>
                <a:lnTo>
                  <a:pt x="11438" y="64236"/>
                </a:lnTo>
                <a:lnTo>
                  <a:pt x="10561" y="69490"/>
                </a:lnTo>
                <a:lnTo>
                  <a:pt x="8985" y="74976"/>
                </a:lnTo>
                <a:lnTo>
                  <a:pt x="6941" y="80618"/>
                </a:lnTo>
                <a:lnTo>
                  <a:pt x="4586" y="86364"/>
                </a:lnTo>
                <a:lnTo>
                  <a:pt x="3017" y="92179"/>
                </a:lnTo>
                <a:lnTo>
                  <a:pt x="1970" y="98040"/>
                </a:lnTo>
                <a:lnTo>
                  <a:pt x="1272" y="103932"/>
                </a:lnTo>
                <a:lnTo>
                  <a:pt x="808" y="109844"/>
                </a:lnTo>
                <a:lnTo>
                  <a:pt x="498" y="115770"/>
                </a:lnTo>
                <a:lnTo>
                  <a:pt x="153" y="127646"/>
                </a:lnTo>
                <a:lnTo>
                  <a:pt x="0" y="139539"/>
                </a:lnTo>
                <a:lnTo>
                  <a:pt x="950" y="145488"/>
                </a:lnTo>
                <a:lnTo>
                  <a:pt x="2577" y="151439"/>
                </a:lnTo>
                <a:lnTo>
                  <a:pt x="4654" y="157390"/>
                </a:lnTo>
                <a:lnTo>
                  <a:pt x="6038" y="162350"/>
                </a:lnTo>
                <a:lnTo>
                  <a:pt x="6961" y="166649"/>
                </a:lnTo>
                <a:lnTo>
                  <a:pt x="7576" y="170507"/>
                </a:lnTo>
                <a:lnTo>
                  <a:pt x="7986" y="175063"/>
                </a:lnTo>
                <a:lnTo>
                  <a:pt x="8260" y="180085"/>
                </a:lnTo>
                <a:lnTo>
                  <a:pt x="8442" y="185418"/>
                </a:lnTo>
                <a:lnTo>
                  <a:pt x="9556" y="189965"/>
                </a:lnTo>
                <a:lnTo>
                  <a:pt x="11291" y="193988"/>
                </a:lnTo>
                <a:lnTo>
                  <a:pt x="16463" y="202834"/>
                </a:lnTo>
                <a:lnTo>
                  <a:pt x="17171" y="206690"/>
                </a:lnTo>
                <a:lnTo>
                  <a:pt x="17736" y="2139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SMARTInkAnnotation81"/>
          <p:cNvSpPr/>
          <p:nvPr/>
        </p:nvSpPr>
        <p:spPr>
          <a:xfrm>
            <a:off x="6750000" y="3643200"/>
            <a:ext cx="98640" cy="9720"/>
          </a:xfrm>
          <a:custGeom>
            <a:avLst/>
            <a:gdLst>
              <a:gd name="textAreaLeft" fmla="*/ 0 w 98640"/>
              <a:gd name="textAreaRight" fmla="*/ 99000 w 986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98228" h="8563">
                <a:moveTo>
                  <a:pt x="0" y="8562"/>
                </a:moveTo>
                <a:lnTo>
                  <a:pt x="7689" y="873"/>
                </a:lnTo>
                <a:lnTo>
                  <a:pt x="9095" y="459"/>
                </a:lnTo>
                <a:lnTo>
                  <a:pt x="11024" y="184"/>
                </a:lnTo>
                <a:lnTo>
                  <a:pt x="13303" y="0"/>
                </a:lnTo>
                <a:lnTo>
                  <a:pt x="15815" y="869"/>
                </a:lnTo>
                <a:lnTo>
                  <a:pt x="18481" y="2441"/>
                </a:lnTo>
                <a:lnTo>
                  <a:pt x="21250" y="4482"/>
                </a:lnTo>
                <a:lnTo>
                  <a:pt x="24089" y="5842"/>
                </a:lnTo>
                <a:lnTo>
                  <a:pt x="26974" y="6748"/>
                </a:lnTo>
                <a:lnTo>
                  <a:pt x="29889" y="7353"/>
                </a:lnTo>
                <a:lnTo>
                  <a:pt x="32825" y="7756"/>
                </a:lnTo>
                <a:lnTo>
                  <a:pt x="35774" y="8025"/>
                </a:lnTo>
                <a:lnTo>
                  <a:pt x="38732" y="8204"/>
                </a:lnTo>
                <a:lnTo>
                  <a:pt x="44665" y="8403"/>
                </a:lnTo>
                <a:lnTo>
                  <a:pt x="56229" y="8515"/>
                </a:lnTo>
                <a:lnTo>
                  <a:pt x="98227" y="85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SMARTInkAnnotation82"/>
          <p:cNvSpPr/>
          <p:nvPr/>
        </p:nvSpPr>
        <p:spPr>
          <a:xfrm>
            <a:off x="6983280" y="3510000"/>
            <a:ext cx="125640" cy="17280"/>
          </a:xfrm>
          <a:custGeom>
            <a:avLst/>
            <a:gdLst>
              <a:gd name="textAreaLeft" fmla="*/ 0 w 125640"/>
              <a:gd name="textAreaRight" fmla="*/ 126000 w 1256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5017" h="17860">
                <a:moveTo>
                  <a:pt x="0" y="0"/>
                </a:moveTo>
                <a:lnTo>
                  <a:pt x="28939" y="0"/>
                </a:lnTo>
                <a:lnTo>
                  <a:pt x="32190" y="992"/>
                </a:lnTo>
                <a:lnTo>
                  <a:pt x="35351" y="2646"/>
                </a:lnTo>
                <a:lnTo>
                  <a:pt x="38451" y="4740"/>
                </a:lnTo>
                <a:lnTo>
                  <a:pt x="42501" y="6137"/>
                </a:lnTo>
                <a:lnTo>
                  <a:pt x="47186" y="7068"/>
                </a:lnTo>
                <a:lnTo>
                  <a:pt x="52293" y="7688"/>
                </a:lnTo>
                <a:lnTo>
                  <a:pt x="57683" y="8102"/>
                </a:lnTo>
                <a:lnTo>
                  <a:pt x="63260" y="8378"/>
                </a:lnTo>
                <a:lnTo>
                  <a:pt x="77944" y="8766"/>
                </a:lnTo>
                <a:lnTo>
                  <a:pt x="96535" y="8897"/>
                </a:lnTo>
                <a:lnTo>
                  <a:pt x="101068" y="9900"/>
                </a:lnTo>
                <a:lnTo>
                  <a:pt x="105082" y="11561"/>
                </a:lnTo>
                <a:lnTo>
                  <a:pt x="108751" y="13660"/>
                </a:lnTo>
                <a:lnTo>
                  <a:pt x="112188" y="15060"/>
                </a:lnTo>
                <a:lnTo>
                  <a:pt x="115471" y="15993"/>
                </a:lnTo>
                <a:lnTo>
                  <a:pt x="125016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SMARTInkAnnotation83"/>
          <p:cNvSpPr/>
          <p:nvPr/>
        </p:nvSpPr>
        <p:spPr>
          <a:xfrm>
            <a:off x="7000920" y="3625920"/>
            <a:ext cx="160200" cy="7920"/>
          </a:xfrm>
          <a:custGeom>
            <a:avLst/>
            <a:gdLst>
              <a:gd name="textAreaLeft" fmla="*/ 0 w 160200"/>
              <a:gd name="textAreaRight" fmla="*/ 160560 w 160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735" h="8930">
                <a:moveTo>
                  <a:pt x="0" y="0"/>
                </a:moveTo>
                <a:lnTo>
                  <a:pt x="7688" y="0"/>
                </a:lnTo>
                <a:lnTo>
                  <a:pt x="9094" y="992"/>
                </a:lnTo>
                <a:lnTo>
                  <a:pt x="11024" y="2646"/>
                </a:lnTo>
                <a:lnTo>
                  <a:pt x="13303" y="4740"/>
                </a:lnTo>
                <a:lnTo>
                  <a:pt x="15814" y="6136"/>
                </a:lnTo>
                <a:lnTo>
                  <a:pt x="18480" y="7067"/>
                </a:lnTo>
                <a:lnTo>
                  <a:pt x="21249" y="7688"/>
                </a:lnTo>
                <a:lnTo>
                  <a:pt x="24088" y="8102"/>
                </a:lnTo>
                <a:lnTo>
                  <a:pt x="26973" y="8378"/>
                </a:lnTo>
                <a:lnTo>
                  <a:pt x="29888" y="8562"/>
                </a:lnTo>
                <a:lnTo>
                  <a:pt x="38419" y="8766"/>
                </a:lnTo>
                <a:lnTo>
                  <a:pt x="160734" y="89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SMARTInkAnnotation84"/>
          <p:cNvSpPr/>
          <p:nvPr/>
        </p:nvSpPr>
        <p:spPr>
          <a:xfrm>
            <a:off x="7304040" y="3456000"/>
            <a:ext cx="214200" cy="295200"/>
          </a:xfrm>
          <a:custGeom>
            <a:avLst/>
            <a:gdLst>
              <a:gd name="textAreaLeft" fmla="*/ 0 w 214200"/>
              <a:gd name="textAreaRight" fmla="*/ 214560 w 2142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14120" h="294313">
                <a:moveTo>
                  <a:pt x="0" y="8562"/>
                </a:moveTo>
                <a:lnTo>
                  <a:pt x="59699" y="8562"/>
                </a:lnTo>
                <a:lnTo>
                  <a:pt x="65597" y="7570"/>
                </a:lnTo>
                <a:lnTo>
                  <a:pt x="71513" y="5917"/>
                </a:lnTo>
                <a:lnTo>
                  <a:pt x="77441" y="3822"/>
                </a:lnTo>
                <a:lnTo>
                  <a:pt x="84370" y="2425"/>
                </a:lnTo>
                <a:lnTo>
                  <a:pt x="91965" y="1494"/>
                </a:lnTo>
                <a:lnTo>
                  <a:pt x="100005" y="874"/>
                </a:lnTo>
                <a:lnTo>
                  <a:pt x="107350" y="460"/>
                </a:lnTo>
                <a:lnTo>
                  <a:pt x="120803" y="0"/>
                </a:lnTo>
                <a:lnTo>
                  <a:pt x="127168" y="870"/>
                </a:lnTo>
                <a:lnTo>
                  <a:pt x="133396" y="2442"/>
                </a:lnTo>
                <a:lnTo>
                  <a:pt x="139532" y="4482"/>
                </a:lnTo>
                <a:lnTo>
                  <a:pt x="146599" y="5842"/>
                </a:lnTo>
                <a:lnTo>
                  <a:pt x="154288" y="6749"/>
                </a:lnTo>
                <a:lnTo>
                  <a:pt x="168783" y="7756"/>
                </a:lnTo>
                <a:lnTo>
                  <a:pt x="178533" y="8204"/>
                </a:lnTo>
                <a:lnTo>
                  <a:pt x="183515" y="9316"/>
                </a:lnTo>
                <a:lnTo>
                  <a:pt x="188819" y="11049"/>
                </a:lnTo>
                <a:lnTo>
                  <a:pt x="194341" y="13197"/>
                </a:lnTo>
                <a:lnTo>
                  <a:pt x="199014" y="14629"/>
                </a:lnTo>
                <a:lnTo>
                  <a:pt x="203121" y="15583"/>
                </a:lnTo>
                <a:lnTo>
                  <a:pt x="206852" y="16219"/>
                </a:lnTo>
                <a:lnTo>
                  <a:pt x="209339" y="17636"/>
                </a:lnTo>
                <a:lnTo>
                  <a:pt x="210997" y="19572"/>
                </a:lnTo>
                <a:lnTo>
                  <a:pt x="213658" y="25069"/>
                </a:lnTo>
                <a:lnTo>
                  <a:pt x="214119" y="30761"/>
                </a:lnTo>
                <a:lnTo>
                  <a:pt x="211581" y="38603"/>
                </a:lnTo>
                <a:lnTo>
                  <a:pt x="207145" y="47711"/>
                </a:lnTo>
                <a:lnTo>
                  <a:pt x="201867" y="55066"/>
                </a:lnTo>
                <a:lnTo>
                  <a:pt x="199070" y="59408"/>
                </a:lnTo>
                <a:lnTo>
                  <a:pt x="196214" y="64288"/>
                </a:lnTo>
                <a:lnTo>
                  <a:pt x="193317" y="69525"/>
                </a:lnTo>
                <a:lnTo>
                  <a:pt x="189401" y="75001"/>
                </a:lnTo>
                <a:lnTo>
                  <a:pt x="184806" y="80636"/>
                </a:lnTo>
                <a:lnTo>
                  <a:pt x="179759" y="86377"/>
                </a:lnTo>
                <a:lnTo>
                  <a:pt x="174410" y="92189"/>
                </a:lnTo>
                <a:lnTo>
                  <a:pt x="163174" y="103938"/>
                </a:lnTo>
                <a:lnTo>
                  <a:pt x="158393" y="109849"/>
                </a:lnTo>
                <a:lnTo>
                  <a:pt x="154212" y="115775"/>
                </a:lnTo>
                <a:lnTo>
                  <a:pt x="150433" y="121709"/>
                </a:lnTo>
                <a:lnTo>
                  <a:pt x="145930" y="127650"/>
                </a:lnTo>
                <a:lnTo>
                  <a:pt x="140942" y="133595"/>
                </a:lnTo>
                <a:lnTo>
                  <a:pt x="135633" y="139542"/>
                </a:lnTo>
                <a:lnTo>
                  <a:pt x="124443" y="151442"/>
                </a:lnTo>
                <a:lnTo>
                  <a:pt x="118681" y="157393"/>
                </a:lnTo>
                <a:lnTo>
                  <a:pt x="113847" y="163346"/>
                </a:lnTo>
                <a:lnTo>
                  <a:pt x="109633" y="169298"/>
                </a:lnTo>
                <a:lnTo>
                  <a:pt x="105830" y="175251"/>
                </a:lnTo>
                <a:lnTo>
                  <a:pt x="101312" y="181204"/>
                </a:lnTo>
                <a:lnTo>
                  <a:pt x="96315" y="187157"/>
                </a:lnTo>
                <a:lnTo>
                  <a:pt x="86463" y="198070"/>
                </a:lnTo>
                <a:lnTo>
                  <a:pt x="78777" y="206228"/>
                </a:lnTo>
                <a:lnTo>
                  <a:pt x="75339" y="210785"/>
                </a:lnTo>
                <a:lnTo>
                  <a:pt x="72054" y="215807"/>
                </a:lnTo>
                <a:lnTo>
                  <a:pt x="68872" y="221140"/>
                </a:lnTo>
                <a:lnTo>
                  <a:pt x="62691" y="229710"/>
                </a:lnTo>
                <a:lnTo>
                  <a:pt x="59653" y="233385"/>
                </a:lnTo>
                <a:lnTo>
                  <a:pt x="57629" y="237819"/>
                </a:lnTo>
                <a:lnTo>
                  <a:pt x="56278" y="242760"/>
                </a:lnTo>
                <a:lnTo>
                  <a:pt x="55379" y="248038"/>
                </a:lnTo>
                <a:lnTo>
                  <a:pt x="51732" y="256548"/>
                </a:lnTo>
                <a:lnTo>
                  <a:pt x="47798" y="263637"/>
                </a:lnTo>
                <a:lnTo>
                  <a:pt x="46047" y="270096"/>
                </a:lnTo>
                <a:lnTo>
                  <a:pt x="45270" y="276273"/>
                </a:lnTo>
                <a:lnTo>
                  <a:pt x="44730" y="285175"/>
                </a:lnTo>
                <a:lnTo>
                  <a:pt x="44648" y="2943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Freeform 20"/>
          <p:cNvSpPr/>
          <p:nvPr/>
        </p:nvSpPr>
        <p:spPr>
          <a:xfrm>
            <a:off x="7429680" y="369720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647" h="1">
                <a:moveTo>
                  <a:pt x="0" y="0"/>
                </a:moveTo>
                <a:lnTo>
                  <a:pt x="2646" y="0"/>
                </a:lnTo>
                <a:close/>
              </a:path>
            </a:pathLst>
          </a:custGeom>
          <a:solidFill>
            <a:srgbClr val="d16349"/>
          </a:solidFill>
          <a:ln w="38160">
            <a:solidFill>
              <a:srgbClr val="0093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SMARTInkAnnotation86"/>
          <p:cNvSpPr/>
          <p:nvPr/>
        </p:nvSpPr>
        <p:spPr>
          <a:xfrm>
            <a:off x="7535880" y="3483000"/>
            <a:ext cx="162000" cy="266760"/>
          </a:xfrm>
          <a:custGeom>
            <a:avLst/>
            <a:gdLst>
              <a:gd name="textAreaLeft" fmla="*/ 0 w 162000"/>
              <a:gd name="textAreaRight" fmla="*/ 162360 w 162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0368" h="267726">
                <a:moveTo>
                  <a:pt x="151804" y="35675"/>
                </a:moveTo>
                <a:lnTo>
                  <a:pt x="151804" y="30935"/>
                </a:lnTo>
                <a:lnTo>
                  <a:pt x="152797" y="29539"/>
                </a:lnTo>
                <a:lnTo>
                  <a:pt x="154451" y="28608"/>
                </a:lnTo>
                <a:lnTo>
                  <a:pt x="156544" y="27987"/>
                </a:lnTo>
                <a:lnTo>
                  <a:pt x="157942" y="26581"/>
                </a:lnTo>
                <a:lnTo>
                  <a:pt x="158873" y="24652"/>
                </a:lnTo>
                <a:lnTo>
                  <a:pt x="160367" y="19166"/>
                </a:lnTo>
                <a:lnTo>
                  <a:pt x="157925" y="15770"/>
                </a:lnTo>
                <a:lnTo>
                  <a:pt x="153532" y="10954"/>
                </a:lnTo>
                <a:lnTo>
                  <a:pt x="144475" y="1601"/>
                </a:lnTo>
                <a:lnTo>
                  <a:pt x="141956" y="1053"/>
                </a:lnTo>
                <a:lnTo>
                  <a:pt x="138294" y="688"/>
                </a:lnTo>
                <a:lnTo>
                  <a:pt x="129925" y="282"/>
                </a:lnTo>
                <a:lnTo>
                  <a:pt x="122898" y="101"/>
                </a:lnTo>
                <a:lnTo>
                  <a:pt x="113364" y="0"/>
                </a:lnTo>
                <a:lnTo>
                  <a:pt x="109310" y="977"/>
                </a:lnTo>
                <a:lnTo>
                  <a:pt x="104624" y="2622"/>
                </a:lnTo>
                <a:lnTo>
                  <a:pt x="99514" y="4710"/>
                </a:lnTo>
                <a:lnTo>
                  <a:pt x="95116" y="7094"/>
                </a:lnTo>
                <a:lnTo>
                  <a:pt x="91192" y="9676"/>
                </a:lnTo>
                <a:lnTo>
                  <a:pt x="87584" y="12390"/>
                </a:lnTo>
                <a:lnTo>
                  <a:pt x="83194" y="15191"/>
                </a:lnTo>
                <a:lnTo>
                  <a:pt x="78283" y="18050"/>
                </a:lnTo>
                <a:lnTo>
                  <a:pt x="73025" y="20949"/>
                </a:lnTo>
                <a:lnTo>
                  <a:pt x="68527" y="22881"/>
                </a:lnTo>
                <a:lnTo>
                  <a:pt x="64537" y="24169"/>
                </a:lnTo>
                <a:lnTo>
                  <a:pt x="60884" y="25028"/>
                </a:lnTo>
                <a:lnTo>
                  <a:pt x="57455" y="27585"/>
                </a:lnTo>
                <a:lnTo>
                  <a:pt x="54179" y="31274"/>
                </a:lnTo>
                <a:lnTo>
                  <a:pt x="51002" y="35718"/>
                </a:lnTo>
                <a:lnTo>
                  <a:pt x="47892" y="39672"/>
                </a:lnTo>
                <a:lnTo>
                  <a:pt x="44826" y="43301"/>
                </a:lnTo>
                <a:lnTo>
                  <a:pt x="41791" y="46712"/>
                </a:lnTo>
                <a:lnTo>
                  <a:pt x="39766" y="49979"/>
                </a:lnTo>
                <a:lnTo>
                  <a:pt x="37518" y="56254"/>
                </a:lnTo>
                <a:lnTo>
                  <a:pt x="36918" y="60308"/>
                </a:lnTo>
                <a:lnTo>
                  <a:pt x="36518" y="64996"/>
                </a:lnTo>
                <a:lnTo>
                  <a:pt x="36074" y="74504"/>
                </a:lnTo>
                <a:lnTo>
                  <a:pt x="35877" y="82036"/>
                </a:lnTo>
                <a:lnTo>
                  <a:pt x="35766" y="96596"/>
                </a:lnTo>
                <a:lnTo>
                  <a:pt x="36742" y="102086"/>
                </a:lnTo>
                <a:lnTo>
                  <a:pt x="38385" y="107731"/>
                </a:lnTo>
                <a:lnTo>
                  <a:pt x="40473" y="113478"/>
                </a:lnTo>
                <a:lnTo>
                  <a:pt x="42857" y="118302"/>
                </a:lnTo>
                <a:lnTo>
                  <a:pt x="45438" y="122510"/>
                </a:lnTo>
                <a:lnTo>
                  <a:pt x="48152" y="126307"/>
                </a:lnTo>
                <a:lnTo>
                  <a:pt x="50953" y="130823"/>
                </a:lnTo>
                <a:lnTo>
                  <a:pt x="53812" y="135818"/>
                </a:lnTo>
                <a:lnTo>
                  <a:pt x="56711" y="141133"/>
                </a:lnTo>
                <a:lnTo>
                  <a:pt x="60627" y="146660"/>
                </a:lnTo>
                <a:lnTo>
                  <a:pt x="65223" y="152329"/>
                </a:lnTo>
                <a:lnTo>
                  <a:pt x="70271" y="158093"/>
                </a:lnTo>
                <a:lnTo>
                  <a:pt x="78525" y="167143"/>
                </a:lnTo>
                <a:lnTo>
                  <a:pt x="82116" y="170946"/>
                </a:lnTo>
                <a:lnTo>
                  <a:pt x="85502" y="175465"/>
                </a:lnTo>
                <a:lnTo>
                  <a:pt x="88751" y="180462"/>
                </a:lnTo>
                <a:lnTo>
                  <a:pt x="91910" y="185778"/>
                </a:lnTo>
                <a:lnTo>
                  <a:pt x="95008" y="190314"/>
                </a:lnTo>
                <a:lnTo>
                  <a:pt x="98065" y="194330"/>
                </a:lnTo>
                <a:lnTo>
                  <a:pt x="101094" y="198000"/>
                </a:lnTo>
                <a:lnTo>
                  <a:pt x="104463" y="204724"/>
                </a:lnTo>
                <a:lnTo>
                  <a:pt x="105958" y="212011"/>
                </a:lnTo>
                <a:lnTo>
                  <a:pt x="106358" y="216733"/>
                </a:lnTo>
                <a:lnTo>
                  <a:pt x="106802" y="226278"/>
                </a:lnTo>
                <a:lnTo>
                  <a:pt x="106999" y="233828"/>
                </a:lnTo>
                <a:lnTo>
                  <a:pt x="106059" y="236238"/>
                </a:lnTo>
                <a:lnTo>
                  <a:pt x="104441" y="237845"/>
                </a:lnTo>
                <a:lnTo>
                  <a:pt x="99997" y="240622"/>
                </a:lnTo>
                <a:lnTo>
                  <a:pt x="97422" y="242752"/>
                </a:lnTo>
                <a:lnTo>
                  <a:pt x="94713" y="245164"/>
                </a:lnTo>
                <a:lnTo>
                  <a:pt x="89059" y="250490"/>
                </a:lnTo>
                <a:lnTo>
                  <a:pt x="86161" y="253299"/>
                </a:lnTo>
                <a:lnTo>
                  <a:pt x="82246" y="255172"/>
                </a:lnTo>
                <a:lnTo>
                  <a:pt x="77651" y="256420"/>
                </a:lnTo>
                <a:lnTo>
                  <a:pt x="72603" y="257253"/>
                </a:lnTo>
                <a:lnTo>
                  <a:pt x="68246" y="258800"/>
                </a:lnTo>
                <a:lnTo>
                  <a:pt x="64349" y="260824"/>
                </a:lnTo>
                <a:lnTo>
                  <a:pt x="60759" y="263165"/>
                </a:lnTo>
                <a:lnTo>
                  <a:pt x="57373" y="264725"/>
                </a:lnTo>
                <a:lnTo>
                  <a:pt x="54124" y="265766"/>
                </a:lnTo>
                <a:lnTo>
                  <a:pt x="50966" y="266460"/>
                </a:lnTo>
                <a:lnTo>
                  <a:pt x="47867" y="266922"/>
                </a:lnTo>
                <a:lnTo>
                  <a:pt x="44810" y="267231"/>
                </a:lnTo>
                <a:lnTo>
                  <a:pt x="41780" y="267436"/>
                </a:lnTo>
                <a:lnTo>
                  <a:pt x="37775" y="267573"/>
                </a:lnTo>
                <a:lnTo>
                  <a:pt x="28034" y="267725"/>
                </a:lnTo>
                <a:lnTo>
                  <a:pt x="24642" y="266774"/>
                </a:lnTo>
                <a:lnTo>
                  <a:pt x="22381" y="265147"/>
                </a:lnTo>
                <a:lnTo>
                  <a:pt x="20874" y="263071"/>
                </a:lnTo>
                <a:lnTo>
                  <a:pt x="18877" y="261686"/>
                </a:lnTo>
                <a:lnTo>
                  <a:pt x="14012" y="260148"/>
                </a:lnTo>
                <a:lnTo>
                  <a:pt x="11325" y="259738"/>
                </a:lnTo>
                <a:lnTo>
                  <a:pt x="8543" y="259464"/>
                </a:lnTo>
                <a:lnTo>
                  <a:pt x="0" y="2589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SMARTInkAnnotation87"/>
          <p:cNvSpPr/>
          <p:nvPr/>
        </p:nvSpPr>
        <p:spPr>
          <a:xfrm>
            <a:off x="7705800" y="3527280"/>
            <a:ext cx="206280" cy="222480"/>
          </a:xfrm>
          <a:custGeom>
            <a:avLst/>
            <a:gdLst>
              <a:gd name="textAreaLeft" fmla="*/ 0 w 206280"/>
              <a:gd name="textAreaRight" fmla="*/ 206640 w 20628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05092" h="222707">
                <a:moveTo>
                  <a:pt x="124892" y="8930"/>
                </a:moveTo>
                <a:lnTo>
                  <a:pt x="120152" y="8930"/>
                </a:lnTo>
                <a:lnTo>
                  <a:pt x="118756" y="7938"/>
                </a:lnTo>
                <a:lnTo>
                  <a:pt x="117825" y="6284"/>
                </a:lnTo>
                <a:lnTo>
                  <a:pt x="117204" y="4189"/>
                </a:lnTo>
                <a:lnTo>
                  <a:pt x="115798" y="2793"/>
                </a:lnTo>
                <a:lnTo>
                  <a:pt x="113868" y="1862"/>
                </a:lnTo>
                <a:lnTo>
                  <a:pt x="109079" y="828"/>
                </a:lnTo>
                <a:lnTo>
                  <a:pt x="103643" y="368"/>
                </a:lnTo>
                <a:lnTo>
                  <a:pt x="100804" y="1238"/>
                </a:lnTo>
                <a:lnTo>
                  <a:pt x="95004" y="4849"/>
                </a:lnTo>
                <a:lnTo>
                  <a:pt x="89119" y="7116"/>
                </a:lnTo>
                <a:lnTo>
                  <a:pt x="86161" y="7721"/>
                </a:lnTo>
                <a:lnTo>
                  <a:pt x="82204" y="9116"/>
                </a:lnTo>
                <a:lnTo>
                  <a:pt x="77582" y="11038"/>
                </a:lnTo>
                <a:lnTo>
                  <a:pt x="72516" y="13312"/>
                </a:lnTo>
                <a:lnTo>
                  <a:pt x="68146" y="15820"/>
                </a:lnTo>
                <a:lnTo>
                  <a:pt x="64242" y="18484"/>
                </a:lnTo>
                <a:lnTo>
                  <a:pt x="60646" y="21253"/>
                </a:lnTo>
                <a:lnTo>
                  <a:pt x="57257" y="24090"/>
                </a:lnTo>
                <a:lnTo>
                  <a:pt x="54006" y="26974"/>
                </a:lnTo>
                <a:lnTo>
                  <a:pt x="50845" y="29889"/>
                </a:lnTo>
                <a:lnTo>
                  <a:pt x="36916" y="43473"/>
                </a:lnTo>
                <a:lnTo>
                  <a:pt x="32507" y="48825"/>
                </a:lnTo>
                <a:lnTo>
                  <a:pt x="28576" y="54379"/>
                </a:lnTo>
                <a:lnTo>
                  <a:pt x="24962" y="60065"/>
                </a:lnTo>
                <a:lnTo>
                  <a:pt x="21562" y="65840"/>
                </a:lnTo>
                <a:lnTo>
                  <a:pt x="18302" y="71675"/>
                </a:lnTo>
                <a:lnTo>
                  <a:pt x="15137" y="77549"/>
                </a:lnTo>
                <a:lnTo>
                  <a:pt x="13026" y="82457"/>
                </a:lnTo>
                <a:lnTo>
                  <a:pt x="11620" y="86722"/>
                </a:lnTo>
                <a:lnTo>
                  <a:pt x="10682" y="90557"/>
                </a:lnTo>
                <a:lnTo>
                  <a:pt x="9065" y="95098"/>
                </a:lnTo>
                <a:lnTo>
                  <a:pt x="6994" y="100109"/>
                </a:lnTo>
                <a:lnTo>
                  <a:pt x="4622" y="105435"/>
                </a:lnTo>
                <a:lnTo>
                  <a:pt x="3040" y="111962"/>
                </a:lnTo>
                <a:lnTo>
                  <a:pt x="1985" y="119290"/>
                </a:lnTo>
                <a:lnTo>
                  <a:pt x="1283" y="127152"/>
                </a:lnTo>
                <a:lnTo>
                  <a:pt x="815" y="134377"/>
                </a:lnTo>
                <a:lnTo>
                  <a:pt x="293" y="147697"/>
                </a:lnTo>
                <a:lnTo>
                  <a:pt x="0" y="166353"/>
                </a:lnTo>
                <a:lnTo>
                  <a:pt x="950" y="172418"/>
                </a:lnTo>
                <a:lnTo>
                  <a:pt x="2577" y="178445"/>
                </a:lnTo>
                <a:lnTo>
                  <a:pt x="4654" y="184448"/>
                </a:lnTo>
                <a:lnTo>
                  <a:pt x="8023" y="189442"/>
                </a:lnTo>
                <a:lnTo>
                  <a:pt x="12253" y="193763"/>
                </a:lnTo>
                <a:lnTo>
                  <a:pt x="17057" y="197637"/>
                </a:lnTo>
                <a:lnTo>
                  <a:pt x="22244" y="201211"/>
                </a:lnTo>
                <a:lnTo>
                  <a:pt x="27688" y="204586"/>
                </a:lnTo>
                <a:lnTo>
                  <a:pt x="33300" y="207828"/>
                </a:lnTo>
                <a:lnTo>
                  <a:pt x="38034" y="210982"/>
                </a:lnTo>
                <a:lnTo>
                  <a:pt x="42181" y="214077"/>
                </a:lnTo>
                <a:lnTo>
                  <a:pt x="45940" y="217132"/>
                </a:lnTo>
                <a:lnTo>
                  <a:pt x="50429" y="219169"/>
                </a:lnTo>
                <a:lnTo>
                  <a:pt x="55407" y="220527"/>
                </a:lnTo>
                <a:lnTo>
                  <a:pt x="60710" y="221432"/>
                </a:lnTo>
                <a:lnTo>
                  <a:pt x="66229" y="222036"/>
                </a:lnTo>
                <a:lnTo>
                  <a:pt x="71893" y="222438"/>
                </a:lnTo>
                <a:lnTo>
                  <a:pt x="77653" y="222706"/>
                </a:lnTo>
                <a:lnTo>
                  <a:pt x="84470" y="221893"/>
                </a:lnTo>
                <a:lnTo>
                  <a:pt x="91991" y="220358"/>
                </a:lnTo>
                <a:lnTo>
                  <a:pt x="99982" y="218343"/>
                </a:lnTo>
                <a:lnTo>
                  <a:pt x="107294" y="216007"/>
                </a:lnTo>
                <a:lnTo>
                  <a:pt x="114151" y="213458"/>
                </a:lnTo>
                <a:lnTo>
                  <a:pt x="120709" y="210767"/>
                </a:lnTo>
                <a:lnTo>
                  <a:pt x="127064" y="206988"/>
                </a:lnTo>
                <a:lnTo>
                  <a:pt x="133285" y="202484"/>
                </a:lnTo>
                <a:lnTo>
                  <a:pt x="139418" y="197497"/>
                </a:lnTo>
                <a:lnTo>
                  <a:pt x="145490" y="192188"/>
                </a:lnTo>
                <a:lnTo>
                  <a:pt x="151523" y="186665"/>
                </a:lnTo>
                <a:lnTo>
                  <a:pt x="163517" y="175235"/>
                </a:lnTo>
                <a:lnTo>
                  <a:pt x="175463" y="163542"/>
                </a:lnTo>
                <a:lnTo>
                  <a:pt x="180435" y="157645"/>
                </a:lnTo>
                <a:lnTo>
                  <a:pt x="184741" y="151730"/>
                </a:lnTo>
                <a:lnTo>
                  <a:pt x="188604" y="145802"/>
                </a:lnTo>
                <a:lnTo>
                  <a:pt x="192172" y="139865"/>
                </a:lnTo>
                <a:lnTo>
                  <a:pt x="195542" y="133923"/>
                </a:lnTo>
                <a:lnTo>
                  <a:pt x="198781" y="127978"/>
                </a:lnTo>
                <a:lnTo>
                  <a:pt x="200941" y="122029"/>
                </a:lnTo>
                <a:lnTo>
                  <a:pt x="202381" y="116079"/>
                </a:lnTo>
                <a:lnTo>
                  <a:pt x="203340" y="110129"/>
                </a:lnTo>
                <a:lnTo>
                  <a:pt x="203980" y="104177"/>
                </a:lnTo>
                <a:lnTo>
                  <a:pt x="204407" y="98225"/>
                </a:lnTo>
                <a:lnTo>
                  <a:pt x="204691" y="92273"/>
                </a:lnTo>
                <a:lnTo>
                  <a:pt x="205007" y="80367"/>
                </a:lnTo>
                <a:lnTo>
                  <a:pt x="205091" y="74414"/>
                </a:lnTo>
                <a:lnTo>
                  <a:pt x="204155" y="68461"/>
                </a:lnTo>
                <a:lnTo>
                  <a:pt x="202540" y="62508"/>
                </a:lnTo>
                <a:lnTo>
                  <a:pt x="200470" y="56555"/>
                </a:lnTo>
                <a:lnTo>
                  <a:pt x="198098" y="51594"/>
                </a:lnTo>
                <a:lnTo>
                  <a:pt x="195525" y="47294"/>
                </a:lnTo>
                <a:lnTo>
                  <a:pt x="192816" y="43436"/>
                </a:lnTo>
                <a:lnTo>
                  <a:pt x="187162" y="36503"/>
                </a:lnTo>
                <a:lnTo>
                  <a:pt x="181342" y="30114"/>
                </a:lnTo>
                <a:lnTo>
                  <a:pt x="172486" y="20939"/>
                </a:lnTo>
                <a:lnTo>
                  <a:pt x="157631" y="5967"/>
                </a:lnTo>
                <a:lnTo>
                  <a:pt x="154656" y="3978"/>
                </a:lnTo>
                <a:lnTo>
                  <a:pt x="148704" y="1768"/>
                </a:lnTo>
                <a:lnTo>
                  <a:pt x="142751" y="786"/>
                </a:lnTo>
                <a:lnTo>
                  <a:pt x="13382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SMARTInkAnnotation88"/>
          <p:cNvSpPr/>
          <p:nvPr/>
        </p:nvSpPr>
        <p:spPr>
          <a:xfrm>
            <a:off x="7939080" y="3594240"/>
            <a:ext cx="177840" cy="191880"/>
          </a:xfrm>
          <a:custGeom>
            <a:avLst/>
            <a:gdLst>
              <a:gd name="textAreaLeft" fmla="*/ 0 w 177840"/>
              <a:gd name="textAreaRight" fmla="*/ 178200 w 1778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78588" h="192312">
                <a:moveTo>
                  <a:pt x="35714" y="49436"/>
                </a:moveTo>
                <a:lnTo>
                  <a:pt x="35714" y="54177"/>
                </a:lnTo>
                <a:lnTo>
                  <a:pt x="34722" y="56565"/>
                </a:lnTo>
                <a:lnTo>
                  <a:pt x="30974" y="61865"/>
                </a:lnTo>
                <a:lnTo>
                  <a:pt x="29578" y="65660"/>
                </a:lnTo>
                <a:lnTo>
                  <a:pt x="28647" y="70173"/>
                </a:lnTo>
                <a:lnTo>
                  <a:pt x="28026" y="75167"/>
                </a:lnTo>
                <a:lnTo>
                  <a:pt x="27613" y="80481"/>
                </a:lnTo>
                <a:lnTo>
                  <a:pt x="27337" y="86007"/>
                </a:lnTo>
                <a:lnTo>
                  <a:pt x="27153" y="91676"/>
                </a:lnTo>
                <a:lnTo>
                  <a:pt x="26038" y="96448"/>
                </a:lnTo>
                <a:lnTo>
                  <a:pt x="24303" y="100621"/>
                </a:lnTo>
                <a:lnTo>
                  <a:pt x="22154" y="104395"/>
                </a:lnTo>
                <a:lnTo>
                  <a:pt x="20721" y="108896"/>
                </a:lnTo>
                <a:lnTo>
                  <a:pt x="19766" y="113881"/>
                </a:lnTo>
                <a:lnTo>
                  <a:pt x="19129" y="119188"/>
                </a:lnTo>
                <a:lnTo>
                  <a:pt x="17712" y="124711"/>
                </a:lnTo>
                <a:lnTo>
                  <a:pt x="15775" y="130378"/>
                </a:lnTo>
                <a:lnTo>
                  <a:pt x="13493" y="136139"/>
                </a:lnTo>
                <a:lnTo>
                  <a:pt x="10977" y="141965"/>
                </a:lnTo>
                <a:lnTo>
                  <a:pt x="5538" y="153729"/>
                </a:lnTo>
                <a:lnTo>
                  <a:pt x="3691" y="158653"/>
                </a:lnTo>
                <a:lnTo>
                  <a:pt x="2459" y="162927"/>
                </a:lnTo>
                <a:lnTo>
                  <a:pt x="482" y="172175"/>
                </a:lnTo>
                <a:lnTo>
                  <a:pt x="212" y="176086"/>
                </a:lnTo>
                <a:lnTo>
                  <a:pt x="38" y="181940"/>
                </a:lnTo>
                <a:lnTo>
                  <a:pt x="2" y="176124"/>
                </a:lnTo>
                <a:lnTo>
                  <a:pt x="0" y="175567"/>
                </a:lnTo>
                <a:lnTo>
                  <a:pt x="2644" y="169655"/>
                </a:lnTo>
                <a:lnTo>
                  <a:pt x="4738" y="165301"/>
                </a:lnTo>
                <a:lnTo>
                  <a:pt x="7125" y="161406"/>
                </a:lnTo>
                <a:lnTo>
                  <a:pt x="9710" y="157817"/>
                </a:lnTo>
                <a:lnTo>
                  <a:pt x="12426" y="154432"/>
                </a:lnTo>
                <a:lnTo>
                  <a:pt x="14235" y="150191"/>
                </a:lnTo>
                <a:lnTo>
                  <a:pt x="15442" y="145380"/>
                </a:lnTo>
                <a:lnTo>
                  <a:pt x="16247" y="140187"/>
                </a:lnTo>
                <a:lnTo>
                  <a:pt x="17775" y="133750"/>
                </a:lnTo>
                <a:lnTo>
                  <a:pt x="19786" y="126481"/>
                </a:lnTo>
                <a:lnTo>
                  <a:pt x="22118" y="118659"/>
                </a:lnTo>
                <a:lnTo>
                  <a:pt x="24666" y="111460"/>
                </a:lnTo>
                <a:lnTo>
                  <a:pt x="27358" y="104676"/>
                </a:lnTo>
                <a:lnTo>
                  <a:pt x="30143" y="98169"/>
                </a:lnTo>
                <a:lnTo>
                  <a:pt x="35884" y="85647"/>
                </a:lnTo>
                <a:lnTo>
                  <a:pt x="47654" y="61440"/>
                </a:lnTo>
                <a:lnTo>
                  <a:pt x="56561" y="43512"/>
                </a:lnTo>
                <a:lnTo>
                  <a:pt x="59535" y="38541"/>
                </a:lnTo>
                <a:lnTo>
                  <a:pt x="62508" y="34235"/>
                </a:lnTo>
                <a:lnTo>
                  <a:pt x="65483" y="30372"/>
                </a:lnTo>
                <a:lnTo>
                  <a:pt x="68458" y="26805"/>
                </a:lnTo>
                <a:lnTo>
                  <a:pt x="71436" y="23435"/>
                </a:lnTo>
                <a:lnTo>
                  <a:pt x="77387" y="17044"/>
                </a:lnTo>
                <a:lnTo>
                  <a:pt x="83340" y="10896"/>
                </a:lnTo>
                <a:lnTo>
                  <a:pt x="86317" y="8860"/>
                </a:lnTo>
                <a:lnTo>
                  <a:pt x="89293" y="7503"/>
                </a:lnTo>
                <a:lnTo>
                  <a:pt x="92270" y="6598"/>
                </a:lnTo>
                <a:lnTo>
                  <a:pt x="94254" y="5002"/>
                </a:lnTo>
                <a:lnTo>
                  <a:pt x="95577" y="2946"/>
                </a:lnTo>
                <a:lnTo>
                  <a:pt x="96460" y="584"/>
                </a:lnTo>
                <a:lnTo>
                  <a:pt x="98039" y="0"/>
                </a:lnTo>
                <a:lnTo>
                  <a:pt x="100084" y="604"/>
                </a:lnTo>
                <a:lnTo>
                  <a:pt x="105756" y="3961"/>
                </a:lnTo>
                <a:lnTo>
                  <a:pt x="106222" y="5229"/>
                </a:lnTo>
                <a:lnTo>
                  <a:pt x="106739" y="9283"/>
                </a:lnTo>
                <a:lnTo>
                  <a:pt x="106969" y="14392"/>
                </a:lnTo>
                <a:lnTo>
                  <a:pt x="107071" y="20963"/>
                </a:lnTo>
                <a:lnTo>
                  <a:pt x="107151" y="77487"/>
                </a:lnTo>
                <a:lnTo>
                  <a:pt x="106159" y="82027"/>
                </a:lnTo>
                <a:lnTo>
                  <a:pt x="104506" y="87039"/>
                </a:lnTo>
                <a:lnTo>
                  <a:pt x="102412" y="92364"/>
                </a:lnTo>
                <a:lnTo>
                  <a:pt x="101016" y="96906"/>
                </a:lnTo>
                <a:lnTo>
                  <a:pt x="100084" y="100927"/>
                </a:lnTo>
                <a:lnTo>
                  <a:pt x="99463" y="104599"/>
                </a:lnTo>
                <a:lnTo>
                  <a:pt x="99050" y="108040"/>
                </a:lnTo>
                <a:lnTo>
                  <a:pt x="98774" y="111326"/>
                </a:lnTo>
                <a:lnTo>
                  <a:pt x="98590" y="114508"/>
                </a:lnTo>
                <a:lnTo>
                  <a:pt x="97476" y="117622"/>
                </a:lnTo>
                <a:lnTo>
                  <a:pt x="95740" y="120691"/>
                </a:lnTo>
                <a:lnTo>
                  <a:pt x="89404" y="129645"/>
                </a:lnTo>
                <a:lnTo>
                  <a:pt x="89326" y="125016"/>
                </a:lnTo>
                <a:lnTo>
                  <a:pt x="90307" y="123635"/>
                </a:lnTo>
                <a:lnTo>
                  <a:pt x="91954" y="122715"/>
                </a:lnTo>
                <a:lnTo>
                  <a:pt x="94043" y="122101"/>
                </a:lnTo>
                <a:lnTo>
                  <a:pt x="95436" y="119708"/>
                </a:lnTo>
                <a:lnTo>
                  <a:pt x="96366" y="116128"/>
                </a:lnTo>
                <a:lnTo>
                  <a:pt x="96984" y="111757"/>
                </a:lnTo>
                <a:lnTo>
                  <a:pt x="98390" y="107850"/>
                </a:lnTo>
                <a:lnTo>
                  <a:pt x="100317" y="104254"/>
                </a:lnTo>
                <a:lnTo>
                  <a:pt x="102596" y="100864"/>
                </a:lnTo>
                <a:lnTo>
                  <a:pt x="106099" y="96620"/>
                </a:lnTo>
                <a:lnTo>
                  <a:pt x="110419" y="91806"/>
                </a:lnTo>
                <a:lnTo>
                  <a:pt x="123335" y="78196"/>
                </a:lnTo>
                <a:lnTo>
                  <a:pt x="126869" y="74562"/>
                </a:lnTo>
                <a:lnTo>
                  <a:pt x="130220" y="70156"/>
                </a:lnTo>
                <a:lnTo>
                  <a:pt x="133445" y="65234"/>
                </a:lnTo>
                <a:lnTo>
                  <a:pt x="136586" y="59968"/>
                </a:lnTo>
                <a:lnTo>
                  <a:pt x="139674" y="55465"/>
                </a:lnTo>
                <a:lnTo>
                  <a:pt x="142724" y="51471"/>
                </a:lnTo>
                <a:lnTo>
                  <a:pt x="145750" y="47816"/>
                </a:lnTo>
                <a:lnTo>
                  <a:pt x="148759" y="45379"/>
                </a:lnTo>
                <a:lnTo>
                  <a:pt x="151757" y="43755"/>
                </a:lnTo>
                <a:lnTo>
                  <a:pt x="154748" y="42672"/>
                </a:lnTo>
                <a:lnTo>
                  <a:pt x="157735" y="40958"/>
                </a:lnTo>
                <a:lnTo>
                  <a:pt x="160718" y="38823"/>
                </a:lnTo>
                <a:lnTo>
                  <a:pt x="167894" y="33008"/>
                </a:lnTo>
                <a:lnTo>
                  <a:pt x="171521" y="32213"/>
                </a:lnTo>
                <a:lnTo>
                  <a:pt x="177193" y="31702"/>
                </a:lnTo>
                <a:lnTo>
                  <a:pt x="177659" y="32653"/>
                </a:lnTo>
                <a:lnTo>
                  <a:pt x="178176" y="36354"/>
                </a:lnTo>
                <a:lnTo>
                  <a:pt x="178407" y="41307"/>
                </a:lnTo>
                <a:lnTo>
                  <a:pt x="178536" y="49673"/>
                </a:lnTo>
                <a:lnTo>
                  <a:pt x="178587" y="77975"/>
                </a:lnTo>
                <a:lnTo>
                  <a:pt x="177596" y="82352"/>
                </a:lnTo>
                <a:lnTo>
                  <a:pt x="175943" y="87255"/>
                </a:lnTo>
                <a:lnTo>
                  <a:pt x="173849" y="92509"/>
                </a:lnTo>
                <a:lnTo>
                  <a:pt x="172453" y="97995"/>
                </a:lnTo>
                <a:lnTo>
                  <a:pt x="171522" y="103637"/>
                </a:lnTo>
                <a:lnTo>
                  <a:pt x="170901" y="109382"/>
                </a:lnTo>
                <a:lnTo>
                  <a:pt x="169495" y="115197"/>
                </a:lnTo>
                <a:lnTo>
                  <a:pt x="167566" y="121058"/>
                </a:lnTo>
                <a:lnTo>
                  <a:pt x="165288" y="126949"/>
                </a:lnTo>
                <a:lnTo>
                  <a:pt x="163769" y="132862"/>
                </a:lnTo>
                <a:lnTo>
                  <a:pt x="162756" y="138788"/>
                </a:lnTo>
                <a:lnTo>
                  <a:pt x="162081" y="144723"/>
                </a:lnTo>
                <a:lnTo>
                  <a:pt x="160639" y="149671"/>
                </a:lnTo>
                <a:lnTo>
                  <a:pt x="158684" y="153963"/>
                </a:lnTo>
                <a:lnTo>
                  <a:pt x="156390" y="157816"/>
                </a:lnTo>
                <a:lnTo>
                  <a:pt x="154860" y="162369"/>
                </a:lnTo>
                <a:lnTo>
                  <a:pt x="153840" y="167389"/>
                </a:lnTo>
                <a:lnTo>
                  <a:pt x="151921" y="182445"/>
                </a:lnTo>
                <a:lnTo>
                  <a:pt x="151854" y="185611"/>
                </a:lnTo>
                <a:lnTo>
                  <a:pt x="151800" y="1923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SMARTInkAnnotation89"/>
          <p:cNvSpPr/>
          <p:nvPr/>
        </p:nvSpPr>
        <p:spPr>
          <a:xfrm>
            <a:off x="8099280" y="3473280"/>
            <a:ext cx="169920" cy="384480"/>
          </a:xfrm>
          <a:custGeom>
            <a:avLst/>
            <a:gdLst>
              <a:gd name="textAreaLeft" fmla="*/ 0 w 169920"/>
              <a:gd name="textAreaRight" fmla="*/ 170280 w 16992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169665" h="383978">
                <a:moveTo>
                  <a:pt x="169664" y="0"/>
                </a:moveTo>
                <a:lnTo>
                  <a:pt x="169664" y="12429"/>
                </a:lnTo>
                <a:lnTo>
                  <a:pt x="167019" y="20737"/>
                </a:lnTo>
                <a:lnTo>
                  <a:pt x="162536" y="31045"/>
                </a:lnTo>
                <a:lnTo>
                  <a:pt x="157235" y="42240"/>
                </a:lnTo>
                <a:lnTo>
                  <a:pt x="130956" y="95265"/>
                </a:lnTo>
                <a:lnTo>
                  <a:pt x="127984" y="102205"/>
                </a:lnTo>
                <a:lnTo>
                  <a:pt x="125010" y="109809"/>
                </a:lnTo>
                <a:lnTo>
                  <a:pt x="122035" y="117854"/>
                </a:lnTo>
                <a:lnTo>
                  <a:pt x="119060" y="125202"/>
                </a:lnTo>
                <a:lnTo>
                  <a:pt x="116084" y="132085"/>
                </a:lnTo>
                <a:lnTo>
                  <a:pt x="113109" y="138659"/>
                </a:lnTo>
                <a:lnTo>
                  <a:pt x="79873" y="206262"/>
                </a:lnTo>
                <a:lnTo>
                  <a:pt x="76069" y="214898"/>
                </a:lnTo>
                <a:lnTo>
                  <a:pt x="72541" y="223633"/>
                </a:lnTo>
                <a:lnTo>
                  <a:pt x="65975" y="241275"/>
                </a:lnTo>
                <a:lnTo>
                  <a:pt x="59749" y="259038"/>
                </a:lnTo>
                <a:lnTo>
                  <a:pt x="56700" y="266950"/>
                </a:lnTo>
                <a:lnTo>
                  <a:pt x="53676" y="274209"/>
                </a:lnTo>
                <a:lnTo>
                  <a:pt x="50667" y="281032"/>
                </a:lnTo>
                <a:lnTo>
                  <a:pt x="47668" y="288558"/>
                </a:lnTo>
                <a:lnTo>
                  <a:pt x="41692" y="304857"/>
                </a:lnTo>
                <a:lnTo>
                  <a:pt x="39701" y="312379"/>
                </a:lnTo>
                <a:lnTo>
                  <a:pt x="38374" y="319377"/>
                </a:lnTo>
                <a:lnTo>
                  <a:pt x="37489" y="326027"/>
                </a:lnTo>
                <a:lnTo>
                  <a:pt x="33859" y="336062"/>
                </a:lnTo>
                <a:lnTo>
                  <a:pt x="28939" y="344822"/>
                </a:lnTo>
                <a:lnTo>
                  <a:pt x="23445" y="355330"/>
                </a:lnTo>
                <a:lnTo>
                  <a:pt x="20592" y="359918"/>
                </a:lnTo>
                <a:lnTo>
                  <a:pt x="17696" y="363969"/>
                </a:lnTo>
                <a:lnTo>
                  <a:pt x="10661" y="372859"/>
                </a:lnTo>
                <a:lnTo>
                  <a:pt x="7053" y="376720"/>
                </a:lnTo>
                <a:lnTo>
                  <a:pt x="0" y="38397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SMARTInkAnnotation90"/>
          <p:cNvSpPr/>
          <p:nvPr/>
        </p:nvSpPr>
        <p:spPr>
          <a:xfrm>
            <a:off x="8232840" y="3633840"/>
            <a:ext cx="125280" cy="169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125006" h="169596">
                <a:moveTo>
                  <a:pt x="116086" y="17824"/>
                </a:moveTo>
                <a:lnTo>
                  <a:pt x="116086" y="10135"/>
                </a:lnTo>
                <a:lnTo>
                  <a:pt x="113441" y="6800"/>
                </a:lnTo>
                <a:lnTo>
                  <a:pt x="108398" y="1315"/>
                </a:lnTo>
                <a:lnTo>
                  <a:pt x="106992" y="865"/>
                </a:lnTo>
                <a:lnTo>
                  <a:pt x="105063" y="565"/>
                </a:lnTo>
                <a:lnTo>
                  <a:pt x="102784" y="365"/>
                </a:lnTo>
                <a:lnTo>
                  <a:pt x="100273" y="231"/>
                </a:lnTo>
                <a:lnTo>
                  <a:pt x="94837" y="83"/>
                </a:lnTo>
                <a:lnTo>
                  <a:pt x="86197" y="0"/>
                </a:lnTo>
                <a:lnTo>
                  <a:pt x="83263" y="980"/>
                </a:lnTo>
                <a:lnTo>
                  <a:pt x="80313" y="2626"/>
                </a:lnTo>
                <a:lnTo>
                  <a:pt x="77355" y="4715"/>
                </a:lnTo>
                <a:lnTo>
                  <a:pt x="74390" y="6108"/>
                </a:lnTo>
                <a:lnTo>
                  <a:pt x="71422" y="7037"/>
                </a:lnTo>
                <a:lnTo>
                  <a:pt x="68451" y="7656"/>
                </a:lnTo>
                <a:lnTo>
                  <a:pt x="65478" y="9061"/>
                </a:lnTo>
                <a:lnTo>
                  <a:pt x="62504" y="10990"/>
                </a:lnTo>
                <a:lnTo>
                  <a:pt x="59529" y="13268"/>
                </a:lnTo>
                <a:lnTo>
                  <a:pt x="56553" y="14786"/>
                </a:lnTo>
                <a:lnTo>
                  <a:pt x="53578" y="15799"/>
                </a:lnTo>
                <a:lnTo>
                  <a:pt x="50601" y="16474"/>
                </a:lnTo>
                <a:lnTo>
                  <a:pt x="48618" y="17916"/>
                </a:lnTo>
                <a:lnTo>
                  <a:pt x="47294" y="19870"/>
                </a:lnTo>
                <a:lnTo>
                  <a:pt x="46412" y="22165"/>
                </a:lnTo>
                <a:lnTo>
                  <a:pt x="42786" y="27360"/>
                </a:lnTo>
                <a:lnTo>
                  <a:pt x="37116" y="34039"/>
                </a:lnTo>
                <a:lnTo>
                  <a:pt x="36340" y="37598"/>
                </a:lnTo>
                <a:lnTo>
                  <a:pt x="36133" y="39937"/>
                </a:lnTo>
                <a:lnTo>
                  <a:pt x="36987" y="42488"/>
                </a:lnTo>
                <a:lnTo>
                  <a:pt x="38548" y="45181"/>
                </a:lnTo>
                <a:lnTo>
                  <a:pt x="40582" y="47968"/>
                </a:lnTo>
                <a:lnTo>
                  <a:pt x="42930" y="50818"/>
                </a:lnTo>
                <a:lnTo>
                  <a:pt x="45488" y="53711"/>
                </a:lnTo>
                <a:lnTo>
                  <a:pt x="50975" y="59571"/>
                </a:lnTo>
                <a:lnTo>
                  <a:pt x="65534" y="74388"/>
                </a:lnTo>
                <a:lnTo>
                  <a:pt x="83350" y="92239"/>
                </a:lnTo>
                <a:lnTo>
                  <a:pt x="87317" y="95215"/>
                </a:lnTo>
                <a:lnTo>
                  <a:pt x="91946" y="98191"/>
                </a:lnTo>
                <a:lnTo>
                  <a:pt x="97016" y="101168"/>
                </a:lnTo>
                <a:lnTo>
                  <a:pt x="101389" y="104144"/>
                </a:lnTo>
                <a:lnTo>
                  <a:pt x="105295" y="107121"/>
                </a:lnTo>
                <a:lnTo>
                  <a:pt x="113955" y="114287"/>
                </a:lnTo>
                <a:lnTo>
                  <a:pt x="117785" y="117912"/>
                </a:lnTo>
                <a:lnTo>
                  <a:pt x="120196" y="120268"/>
                </a:lnTo>
                <a:lnTo>
                  <a:pt x="121802" y="122831"/>
                </a:lnTo>
                <a:lnTo>
                  <a:pt x="122873" y="125531"/>
                </a:lnTo>
                <a:lnTo>
                  <a:pt x="123588" y="128324"/>
                </a:lnTo>
                <a:lnTo>
                  <a:pt x="124063" y="131179"/>
                </a:lnTo>
                <a:lnTo>
                  <a:pt x="124382" y="134073"/>
                </a:lnTo>
                <a:lnTo>
                  <a:pt x="124890" y="141108"/>
                </a:lnTo>
                <a:lnTo>
                  <a:pt x="124962" y="144715"/>
                </a:lnTo>
                <a:lnTo>
                  <a:pt x="125005" y="150376"/>
                </a:lnTo>
                <a:lnTo>
                  <a:pt x="122366" y="153796"/>
                </a:lnTo>
                <a:lnTo>
                  <a:pt x="120272" y="156097"/>
                </a:lnTo>
                <a:lnTo>
                  <a:pt x="117885" y="157631"/>
                </a:lnTo>
                <a:lnTo>
                  <a:pt x="115300" y="158653"/>
                </a:lnTo>
                <a:lnTo>
                  <a:pt x="112586" y="159335"/>
                </a:lnTo>
                <a:lnTo>
                  <a:pt x="109784" y="159790"/>
                </a:lnTo>
                <a:lnTo>
                  <a:pt x="106924" y="160093"/>
                </a:lnTo>
                <a:lnTo>
                  <a:pt x="104025" y="160295"/>
                </a:lnTo>
                <a:lnTo>
                  <a:pt x="101101" y="161422"/>
                </a:lnTo>
                <a:lnTo>
                  <a:pt x="98158" y="163165"/>
                </a:lnTo>
                <a:lnTo>
                  <a:pt x="95205" y="165320"/>
                </a:lnTo>
                <a:lnTo>
                  <a:pt x="92243" y="166756"/>
                </a:lnTo>
                <a:lnTo>
                  <a:pt x="89278" y="167713"/>
                </a:lnTo>
                <a:lnTo>
                  <a:pt x="86308" y="168352"/>
                </a:lnTo>
                <a:lnTo>
                  <a:pt x="83336" y="168778"/>
                </a:lnTo>
                <a:lnTo>
                  <a:pt x="80362" y="169061"/>
                </a:lnTo>
                <a:lnTo>
                  <a:pt x="77387" y="169250"/>
                </a:lnTo>
                <a:lnTo>
                  <a:pt x="68792" y="169460"/>
                </a:lnTo>
                <a:lnTo>
                  <a:pt x="51843" y="169595"/>
                </a:lnTo>
                <a:lnTo>
                  <a:pt x="48452" y="168614"/>
                </a:lnTo>
                <a:lnTo>
                  <a:pt x="45201" y="166968"/>
                </a:lnTo>
                <a:lnTo>
                  <a:pt x="42040" y="164878"/>
                </a:lnTo>
                <a:lnTo>
                  <a:pt x="38941" y="163485"/>
                </a:lnTo>
                <a:lnTo>
                  <a:pt x="35883" y="162556"/>
                </a:lnTo>
                <a:lnTo>
                  <a:pt x="32852" y="161937"/>
                </a:lnTo>
                <a:lnTo>
                  <a:pt x="29840" y="161524"/>
                </a:lnTo>
                <a:lnTo>
                  <a:pt x="26838" y="161249"/>
                </a:lnTo>
                <a:lnTo>
                  <a:pt x="19633" y="160808"/>
                </a:lnTo>
                <a:lnTo>
                  <a:pt x="16002" y="160747"/>
                </a:lnTo>
                <a:lnTo>
                  <a:pt x="0" y="1606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SMARTInkAnnotation91"/>
          <p:cNvSpPr/>
          <p:nvPr/>
        </p:nvSpPr>
        <p:spPr>
          <a:xfrm>
            <a:off x="749160" y="3732120"/>
            <a:ext cx="393840" cy="27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92908" h="26757">
                <a:moveTo>
                  <a:pt x="392907" y="26756"/>
                </a:moveTo>
                <a:lnTo>
                  <a:pt x="388166" y="22015"/>
                </a:lnTo>
                <a:lnTo>
                  <a:pt x="385777" y="20619"/>
                </a:lnTo>
                <a:lnTo>
                  <a:pt x="383193" y="19688"/>
                </a:lnTo>
                <a:lnTo>
                  <a:pt x="380478" y="19068"/>
                </a:lnTo>
                <a:lnTo>
                  <a:pt x="374815" y="18378"/>
                </a:lnTo>
                <a:lnTo>
                  <a:pt x="363095" y="17936"/>
                </a:lnTo>
                <a:lnTo>
                  <a:pt x="332849" y="17836"/>
                </a:lnTo>
                <a:lnTo>
                  <a:pt x="327071" y="16840"/>
                </a:lnTo>
                <a:lnTo>
                  <a:pt x="321235" y="15185"/>
                </a:lnTo>
                <a:lnTo>
                  <a:pt x="315360" y="13089"/>
                </a:lnTo>
                <a:lnTo>
                  <a:pt x="309459" y="11691"/>
                </a:lnTo>
                <a:lnTo>
                  <a:pt x="303540" y="10760"/>
                </a:lnTo>
                <a:lnTo>
                  <a:pt x="297610" y="10139"/>
                </a:lnTo>
                <a:lnTo>
                  <a:pt x="285730" y="9449"/>
                </a:lnTo>
                <a:lnTo>
                  <a:pt x="279783" y="9265"/>
                </a:lnTo>
                <a:lnTo>
                  <a:pt x="273835" y="8150"/>
                </a:lnTo>
                <a:lnTo>
                  <a:pt x="267885" y="6415"/>
                </a:lnTo>
                <a:lnTo>
                  <a:pt x="261934" y="4265"/>
                </a:lnTo>
                <a:lnTo>
                  <a:pt x="255982" y="2833"/>
                </a:lnTo>
                <a:lnTo>
                  <a:pt x="250030" y="1878"/>
                </a:lnTo>
                <a:lnTo>
                  <a:pt x="244077" y="1241"/>
                </a:lnTo>
                <a:lnTo>
                  <a:pt x="237132" y="816"/>
                </a:lnTo>
                <a:lnTo>
                  <a:pt x="221478" y="344"/>
                </a:lnTo>
                <a:lnTo>
                  <a:pt x="188075" y="16"/>
                </a:lnTo>
                <a:lnTo>
                  <a:pt x="181938" y="0"/>
                </a:lnTo>
                <a:lnTo>
                  <a:pt x="175863" y="981"/>
                </a:lnTo>
                <a:lnTo>
                  <a:pt x="169828" y="2628"/>
                </a:lnTo>
                <a:lnTo>
                  <a:pt x="163820" y="4717"/>
                </a:lnTo>
                <a:lnTo>
                  <a:pt x="156838" y="6110"/>
                </a:lnTo>
                <a:lnTo>
                  <a:pt x="149207" y="7039"/>
                </a:lnTo>
                <a:lnTo>
                  <a:pt x="141144" y="7658"/>
                </a:lnTo>
                <a:lnTo>
                  <a:pt x="133783" y="8071"/>
                </a:lnTo>
                <a:lnTo>
                  <a:pt x="120314" y="8530"/>
                </a:lnTo>
                <a:lnTo>
                  <a:pt x="106315" y="8788"/>
                </a:lnTo>
                <a:lnTo>
                  <a:pt x="64144" y="8894"/>
                </a:lnTo>
                <a:lnTo>
                  <a:pt x="59630" y="9887"/>
                </a:lnTo>
                <a:lnTo>
                  <a:pt x="55628" y="11541"/>
                </a:lnTo>
                <a:lnTo>
                  <a:pt x="51968" y="13637"/>
                </a:lnTo>
                <a:lnTo>
                  <a:pt x="48537" y="15033"/>
                </a:lnTo>
                <a:lnTo>
                  <a:pt x="45256" y="15964"/>
                </a:lnTo>
                <a:lnTo>
                  <a:pt x="37603" y="17459"/>
                </a:lnTo>
                <a:lnTo>
                  <a:pt x="25797" y="17826"/>
                </a:lnTo>
                <a:lnTo>
                  <a:pt x="19101" y="17826"/>
                </a:lnTo>
                <a:lnTo>
                  <a:pt x="18687" y="16834"/>
                </a:lnTo>
                <a:lnTo>
                  <a:pt x="18411" y="15181"/>
                </a:lnTo>
                <a:lnTo>
                  <a:pt x="17968" y="10138"/>
                </a:lnTo>
                <a:lnTo>
                  <a:pt x="16940" y="9724"/>
                </a:lnTo>
                <a:lnTo>
                  <a:pt x="9301" y="8929"/>
                </a:lnTo>
                <a:lnTo>
                  <a:pt x="0" y="889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SMARTInkAnnotation92"/>
          <p:cNvSpPr/>
          <p:nvPr/>
        </p:nvSpPr>
        <p:spPr>
          <a:xfrm>
            <a:off x="6562800" y="3875040"/>
            <a:ext cx="196920" cy="268200"/>
          </a:xfrm>
          <a:custGeom>
            <a:avLst/>
            <a:gdLst>
              <a:gd name="textAreaLeft" fmla="*/ 0 w 196920"/>
              <a:gd name="textAreaRight" fmla="*/ 197280 w 1969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96454" h="267736">
                <a:moveTo>
                  <a:pt x="0" y="17860"/>
                </a:moveTo>
                <a:lnTo>
                  <a:pt x="0" y="30288"/>
                </a:lnTo>
                <a:lnTo>
                  <a:pt x="992" y="33090"/>
                </a:lnTo>
                <a:lnTo>
                  <a:pt x="4740" y="38850"/>
                </a:lnTo>
                <a:lnTo>
                  <a:pt x="7068" y="44717"/>
                </a:lnTo>
                <a:lnTo>
                  <a:pt x="7688" y="47671"/>
                </a:lnTo>
                <a:lnTo>
                  <a:pt x="11024" y="53599"/>
                </a:lnTo>
                <a:lnTo>
                  <a:pt x="13303" y="56568"/>
                </a:lnTo>
                <a:lnTo>
                  <a:pt x="14821" y="60532"/>
                </a:lnTo>
                <a:lnTo>
                  <a:pt x="15835" y="65160"/>
                </a:lnTo>
                <a:lnTo>
                  <a:pt x="16510" y="70229"/>
                </a:lnTo>
                <a:lnTo>
                  <a:pt x="17951" y="75593"/>
                </a:lnTo>
                <a:lnTo>
                  <a:pt x="19906" y="81153"/>
                </a:lnTo>
                <a:lnTo>
                  <a:pt x="22200" y="86844"/>
                </a:lnTo>
                <a:lnTo>
                  <a:pt x="23730" y="91631"/>
                </a:lnTo>
                <a:lnTo>
                  <a:pt x="25428" y="99595"/>
                </a:lnTo>
                <a:lnTo>
                  <a:pt x="26874" y="104100"/>
                </a:lnTo>
                <a:lnTo>
                  <a:pt x="28831" y="109087"/>
                </a:lnTo>
                <a:lnTo>
                  <a:pt x="31127" y="114397"/>
                </a:lnTo>
                <a:lnTo>
                  <a:pt x="32658" y="119920"/>
                </a:lnTo>
                <a:lnTo>
                  <a:pt x="33678" y="125588"/>
                </a:lnTo>
                <a:lnTo>
                  <a:pt x="34357" y="131350"/>
                </a:lnTo>
                <a:lnTo>
                  <a:pt x="35804" y="137176"/>
                </a:lnTo>
                <a:lnTo>
                  <a:pt x="37760" y="143045"/>
                </a:lnTo>
                <a:lnTo>
                  <a:pt x="40056" y="148941"/>
                </a:lnTo>
                <a:lnTo>
                  <a:pt x="42579" y="153864"/>
                </a:lnTo>
                <a:lnTo>
                  <a:pt x="50871" y="166526"/>
                </a:lnTo>
                <a:lnTo>
                  <a:pt x="53758" y="171541"/>
                </a:lnTo>
                <a:lnTo>
                  <a:pt x="56674" y="176869"/>
                </a:lnTo>
                <a:lnTo>
                  <a:pt x="58618" y="182405"/>
                </a:lnTo>
                <a:lnTo>
                  <a:pt x="59915" y="188079"/>
                </a:lnTo>
                <a:lnTo>
                  <a:pt x="60778" y="193847"/>
                </a:lnTo>
                <a:lnTo>
                  <a:pt x="62348" y="199677"/>
                </a:lnTo>
                <a:lnTo>
                  <a:pt x="64386" y="205547"/>
                </a:lnTo>
                <a:lnTo>
                  <a:pt x="66736" y="211446"/>
                </a:lnTo>
                <a:lnTo>
                  <a:pt x="68303" y="216370"/>
                </a:lnTo>
                <a:lnTo>
                  <a:pt x="70044" y="224487"/>
                </a:lnTo>
                <a:lnTo>
                  <a:pt x="73464" y="231402"/>
                </a:lnTo>
                <a:lnTo>
                  <a:pt x="78291" y="237783"/>
                </a:lnTo>
                <a:lnTo>
                  <a:pt x="83744" y="243926"/>
                </a:lnTo>
                <a:lnTo>
                  <a:pt x="89475" y="249963"/>
                </a:lnTo>
                <a:lnTo>
                  <a:pt x="101239" y="261924"/>
                </a:lnTo>
                <a:lnTo>
                  <a:pt x="104203" y="263913"/>
                </a:lnTo>
                <a:lnTo>
                  <a:pt x="110143" y="266123"/>
                </a:lnTo>
                <a:lnTo>
                  <a:pt x="116090" y="267105"/>
                </a:lnTo>
                <a:lnTo>
                  <a:pt x="122040" y="267541"/>
                </a:lnTo>
                <a:lnTo>
                  <a:pt x="127994" y="267735"/>
                </a:lnTo>
                <a:lnTo>
                  <a:pt x="130969" y="266794"/>
                </a:lnTo>
                <a:lnTo>
                  <a:pt x="136922" y="263104"/>
                </a:lnTo>
                <a:lnTo>
                  <a:pt x="142875" y="258157"/>
                </a:lnTo>
                <a:lnTo>
                  <a:pt x="145851" y="255448"/>
                </a:lnTo>
                <a:lnTo>
                  <a:pt x="147836" y="252650"/>
                </a:lnTo>
                <a:lnTo>
                  <a:pt x="150042" y="246896"/>
                </a:lnTo>
                <a:lnTo>
                  <a:pt x="151622" y="242980"/>
                </a:lnTo>
                <a:lnTo>
                  <a:pt x="153666" y="238385"/>
                </a:lnTo>
                <a:lnTo>
                  <a:pt x="156023" y="233338"/>
                </a:lnTo>
                <a:lnTo>
                  <a:pt x="157593" y="227988"/>
                </a:lnTo>
                <a:lnTo>
                  <a:pt x="158640" y="222437"/>
                </a:lnTo>
                <a:lnTo>
                  <a:pt x="159338" y="216753"/>
                </a:lnTo>
                <a:lnTo>
                  <a:pt x="160796" y="210978"/>
                </a:lnTo>
                <a:lnTo>
                  <a:pt x="162760" y="205144"/>
                </a:lnTo>
                <a:lnTo>
                  <a:pt x="165061" y="199271"/>
                </a:lnTo>
                <a:lnTo>
                  <a:pt x="166596" y="193371"/>
                </a:lnTo>
                <a:lnTo>
                  <a:pt x="167618" y="187452"/>
                </a:lnTo>
                <a:lnTo>
                  <a:pt x="168300" y="181523"/>
                </a:lnTo>
                <a:lnTo>
                  <a:pt x="169748" y="175586"/>
                </a:lnTo>
                <a:lnTo>
                  <a:pt x="171703" y="169643"/>
                </a:lnTo>
                <a:lnTo>
                  <a:pt x="174000" y="163697"/>
                </a:lnTo>
                <a:lnTo>
                  <a:pt x="175531" y="157748"/>
                </a:lnTo>
                <a:lnTo>
                  <a:pt x="176553" y="151798"/>
                </a:lnTo>
                <a:lnTo>
                  <a:pt x="177232" y="145848"/>
                </a:lnTo>
                <a:lnTo>
                  <a:pt x="177687" y="139896"/>
                </a:lnTo>
                <a:lnTo>
                  <a:pt x="177988" y="133943"/>
                </a:lnTo>
                <a:lnTo>
                  <a:pt x="178190" y="127991"/>
                </a:lnTo>
                <a:lnTo>
                  <a:pt x="178514" y="98042"/>
                </a:lnTo>
                <a:lnTo>
                  <a:pt x="178559" y="84585"/>
                </a:lnTo>
                <a:lnTo>
                  <a:pt x="179562" y="79210"/>
                </a:lnTo>
                <a:lnTo>
                  <a:pt x="181224" y="74634"/>
                </a:lnTo>
                <a:lnTo>
                  <a:pt x="183324" y="70592"/>
                </a:lnTo>
                <a:lnTo>
                  <a:pt x="184723" y="65913"/>
                </a:lnTo>
                <a:lnTo>
                  <a:pt x="185657" y="60809"/>
                </a:lnTo>
                <a:lnTo>
                  <a:pt x="186280" y="55422"/>
                </a:lnTo>
                <a:lnTo>
                  <a:pt x="186694" y="50839"/>
                </a:lnTo>
                <a:lnTo>
                  <a:pt x="187154" y="43100"/>
                </a:lnTo>
                <a:lnTo>
                  <a:pt x="187360" y="36353"/>
                </a:lnTo>
                <a:lnTo>
                  <a:pt x="187491" y="23938"/>
                </a:lnTo>
                <a:lnTo>
                  <a:pt x="188494" y="20920"/>
                </a:lnTo>
                <a:lnTo>
                  <a:pt x="193654" y="12923"/>
                </a:lnTo>
                <a:lnTo>
                  <a:pt x="195210" y="10705"/>
                </a:lnTo>
                <a:lnTo>
                  <a:pt x="195901" y="7073"/>
                </a:lnTo>
                <a:lnTo>
                  <a:pt x="19645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SMARTInkAnnotation93"/>
          <p:cNvSpPr/>
          <p:nvPr/>
        </p:nvSpPr>
        <p:spPr>
          <a:xfrm>
            <a:off x="6786720" y="4062240"/>
            <a:ext cx="36360" cy="142920"/>
          </a:xfrm>
          <a:custGeom>
            <a:avLst/>
            <a:gdLst>
              <a:gd name="textAreaLeft" fmla="*/ 0 w 36360"/>
              <a:gd name="textAreaRight" fmla="*/ 36720 w 36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5611" h="142876">
                <a:moveTo>
                  <a:pt x="17750" y="0"/>
                </a:moveTo>
                <a:lnTo>
                  <a:pt x="9189" y="0"/>
                </a:lnTo>
                <a:lnTo>
                  <a:pt x="8984" y="2646"/>
                </a:lnTo>
                <a:lnTo>
                  <a:pt x="8893" y="7129"/>
                </a:lnTo>
                <a:lnTo>
                  <a:pt x="8824" y="29812"/>
                </a:lnTo>
                <a:lnTo>
                  <a:pt x="7831" y="32774"/>
                </a:lnTo>
                <a:lnTo>
                  <a:pt x="6176" y="35740"/>
                </a:lnTo>
                <a:lnTo>
                  <a:pt x="4081" y="38709"/>
                </a:lnTo>
                <a:lnTo>
                  <a:pt x="2685" y="42673"/>
                </a:lnTo>
                <a:lnTo>
                  <a:pt x="1754" y="47301"/>
                </a:lnTo>
                <a:lnTo>
                  <a:pt x="1132" y="52370"/>
                </a:lnTo>
                <a:lnTo>
                  <a:pt x="719" y="56741"/>
                </a:lnTo>
                <a:lnTo>
                  <a:pt x="443" y="60648"/>
                </a:lnTo>
                <a:lnTo>
                  <a:pt x="259" y="64245"/>
                </a:lnTo>
                <a:lnTo>
                  <a:pt x="55" y="73533"/>
                </a:lnTo>
                <a:lnTo>
                  <a:pt x="0" y="78787"/>
                </a:lnTo>
                <a:lnTo>
                  <a:pt x="956" y="83283"/>
                </a:lnTo>
                <a:lnTo>
                  <a:pt x="2585" y="87272"/>
                </a:lnTo>
                <a:lnTo>
                  <a:pt x="4664" y="90924"/>
                </a:lnTo>
                <a:lnTo>
                  <a:pt x="6050" y="94350"/>
                </a:lnTo>
                <a:lnTo>
                  <a:pt x="6974" y="97627"/>
                </a:lnTo>
                <a:lnTo>
                  <a:pt x="7589" y="100803"/>
                </a:lnTo>
                <a:lnTo>
                  <a:pt x="8000" y="103913"/>
                </a:lnTo>
                <a:lnTo>
                  <a:pt x="8273" y="106979"/>
                </a:lnTo>
                <a:lnTo>
                  <a:pt x="8456" y="110015"/>
                </a:lnTo>
                <a:lnTo>
                  <a:pt x="9569" y="113031"/>
                </a:lnTo>
                <a:lnTo>
                  <a:pt x="11304" y="116033"/>
                </a:lnTo>
                <a:lnTo>
                  <a:pt x="13453" y="119028"/>
                </a:lnTo>
                <a:lnTo>
                  <a:pt x="15878" y="122016"/>
                </a:lnTo>
                <a:lnTo>
                  <a:pt x="18487" y="125000"/>
                </a:lnTo>
                <a:lnTo>
                  <a:pt x="21218" y="127982"/>
                </a:lnTo>
                <a:lnTo>
                  <a:pt x="26898" y="133941"/>
                </a:lnTo>
                <a:lnTo>
                  <a:pt x="35610" y="14287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SMARTInkAnnotation94"/>
          <p:cNvSpPr/>
          <p:nvPr/>
        </p:nvSpPr>
        <p:spPr>
          <a:xfrm>
            <a:off x="6821640" y="3983040"/>
            <a:ext cx="18720" cy="7920"/>
          </a:xfrm>
          <a:custGeom>
            <a:avLst/>
            <a:gdLst>
              <a:gd name="textAreaLeft" fmla="*/ 0 w 18720"/>
              <a:gd name="textAreaRight" fmla="*/ 19080 w 18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860" h="8931">
                <a:moveTo>
                  <a:pt x="0" y="8930"/>
                </a:moveTo>
                <a:lnTo>
                  <a:pt x="7688" y="1242"/>
                </a:lnTo>
                <a:lnTo>
                  <a:pt x="9095" y="828"/>
                </a:lnTo>
                <a:lnTo>
                  <a:pt x="11024" y="552"/>
                </a:lnTo>
                <a:lnTo>
                  <a:pt x="17859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SMARTInkAnnotation95"/>
          <p:cNvSpPr/>
          <p:nvPr/>
        </p:nvSpPr>
        <p:spPr>
          <a:xfrm>
            <a:off x="6973920" y="3973680"/>
            <a:ext cx="169920" cy="17280"/>
          </a:xfrm>
          <a:custGeom>
            <a:avLst/>
            <a:gdLst>
              <a:gd name="textAreaLeft" fmla="*/ 0 w 169920"/>
              <a:gd name="textAreaRight" fmla="*/ 170280 w 169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69666" h="17860">
                <a:moveTo>
                  <a:pt x="0" y="0"/>
                </a:moveTo>
                <a:lnTo>
                  <a:pt x="59959" y="0"/>
                </a:lnTo>
                <a:lnTo>
                  <a:pt x="65770" y="992"/>
                </a:lnTo>
                <a:lnTo>
                  <a:pt x="71629" y="2645"/>
                </a:lnTo>
                <a:lnTo>
                  <a:pt x="77517" y="4740"/>
                </a:lnTo>
                <a:lnTo>
                  <a:pt x="83429" y="6137"/>
                </a:lnTo>
                <a:lnTo>
                  <a:pt x="89353" y="7067"/>
                </a:lnTo>
                <a:lnTo>
                  <a:pt x="95288" y="7688"/>
                </a:lnTo>
                <a:lnTo>
                  <a:pt x="101228" y="8102"/>
                </a:lnTo>
                <a:lnTo>
                  <a:pt x="107173" y="8378"/>
                </a:lnTo>
                <a:lnTo>
                  <a:pt x="113121" y="8562"/>
                </a:lnTo>
                <a:lnTo>
                  <a:pt x="119071" y="9676"/>
                </a:lnTo>
                <a:lnTo>
                  <a:pt x="125021" y="11412"/>
                </a:lnTo>
                <a:lnTo>
                  <a:pt x="130973" y="13561"/>
                </a:lnTo>
                <a:lnTo>
                  <a:pt x="135932" y="14993"/>
                </a:lnTo>
                <a:lnTo>
                  <a:pt x="140231" y="15949"/>
                </a:lnTo>
                <a:lnTo>
                  <a:pt x="144089" y="16586"/>
                </a:lnTo>
                <a:lnTo>
                  <a:pt x="148646" y="17010"/>
                </a:lnTo>
                <a:lnTo>
                  <a:pt x="153668" y="17293"/>
                </a:lnTo>
                <a:lnTo>
                  <a:pt x="169665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SMARTInkAnnotation96"/>
          <p:cNvSpPr/>
          <p:nvPr/>
        </p:nvSpPr>
        <p:spPr>
          <a:xfrm>
            <a:off x="6946920" y="4054320"/>
            <a:ext cx="214200" cy="17640"/>
          </a:xfrm>
          <a:custGeom>
            <a:avLst/>
            <a:gdLst>
              <a:gd name="textAreaLeft" fmla="*/ 0 w 214200"/>
              <a:gd name="textAreaRight" fmla="*/ 214560 w 214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14314" h="17860">
                <a:moveTo>
                  <a:pt x="0" y="0"/>
                </a:moveTo>
                <a:lnTo>
                  <a:pt x="12429" y="0"/>
                </a:lnTo>
                <a:lnTo>
                  <a:pt x="16223" y="992"/>
                </a:lnTo>
                <a:lnTo>
                  <a:pt x="20739" y="2646"/>
                </a:lnTo>
                <a:lnTo>
                  <a:pt x="25732" y="4740"/>
                </a:lnTo>
                <a:lnTo>
                  <a:pt x="31046" y="6137"/>
                </a:lnTo>
                <a:lnTo>
                  <a:pt x="36572" y="7067"/>
                </a:lnTo>
                <a:lnTo>
                  <a:pt x="42240" y="7688"/>
                </a:lnTo>
                <a:lnTo>
                  <a:pt x="48004" y="8102"/>
                </a:lnTo>
                <a:lnTo>
                  <a:pt x="53831" y="8378"/>
                </a:lnTo>
                <a:lnTo>
                  <a:pt x="59700" y="8562"/>
                </a:lnTo>
                <a:lnTo>
                  <a:pt x="69566" y="9677"/>
                </a:lnTo>
                <a:lnTo>
                  <a:pt x="107925" y="14994"/>
                </a:lnTo>
                <a:lnTo>
                  <a:pt x="117591" y="15949"/>
                </a:lnTo>
                <a:lnTo>
                  <a:pt x="126019" y="16586"/>
                </a:lnTo>
                <a:lnTo>
                  <a:pt x="133622" y="17010"/>
                </a:lnTo>
                <a:lnTo>
                  <a:pt x="147362" y="17482"/>
                </a:lnTo>
                <a:lnTo>
                  <a:pt x="172352" y="17785"/>
                </a:lnTo>
                <a:lnTo>
                  <a:pt x="214313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SMARTInkAnnotation97"/>
          <p:cNvSpPr/>
          <p:nvPr/>
        </p:nvSpPr>
        <p:spPr>
          <a:xfrm>
            <a:off x="7242120" y="3956040"/>
            <a:ext cx="249120" cy="239760"/>
          </a:xfrm>
          <a:custGeom>
            <a:avLst/>
            <a:gdLst>
              <a:gd name="textAreaLeft" fmla="*/ 0 w 249120"/>
              <a:gd name="textAreaRight" fmla="*/ 249480 w 2491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49181" h="238921">
                <a:moveTo>
                  <a:pt x="151381" y="26386"/>
                </a:moveTo>
                <a:lnTo>
                  <a:pt x="151381" y="21646"/>
                </a:lnTo>
                <a:lnTo>
                  <a:pt x="150389" y="20249"/>
                </a:lnTo>
                <a:lnTo>
                  <a:pt x="148736" y="19318"/>
                </a:lnTo>
                <a:lnTo>
                  <a:pt x="146641" y="18698"/>
                </a:lnTo>
                <a:lnTo>
                  <a:pt x="145245" y="17292"/>
                </a:lnTo>
                <a:lnTo>
                  <a:pt x="144313" y="15362"/>
                </a:lnTo>
                <a:lnTo>
                  <a:pt x="143692" y="13084"/>
                </a:lnTo>
                <a:lnTo>
                  <a:pt x="142287" y="11565"/>
                </a:lnTo>
                <a:lnTo>
                  <a:pt x="140357" y="10552"/>
                </a:lnTo>
                <a:lnTo>
                  <a:pt x="138079" y="9877"/>
                </a:lnTo>
                <a:lnTo>
                  <a:pt x="132901" y="6481"/>
                </a:lnTo>
                <a:lnTo>
                  <a:pt x="130132" y="4186"/>
                </a:lnTo>
                <a:lnTo>
                  <a:pt x="127292" y="2657"/>
                </a:lnTo>
                <a:lnTo>
                  <a:pt x="121493" y="957"/>
                </a:lnTo>
                <a:lnTo>
                  <a:pt x="115609" y="201"/>
                </a:lnTo>
                <a:lnTo>
                  <a:pt x="112650" y="0"/>
                </a:lnTo>
                <a:lnTo>
                  <a:pt x="109685" y="858"/>
                </a:lnTo>
                <a:lnTo>
                  <a:pt x="103745" y="4457"/>
                </a:lnTo>
                <a:lnTo>
                  <a:pt x="99781" y="5813"/>
                </a:lnTo>
                <a:lnTo>
                  <a:pt x="95152" y="6718"/>
                </a:lnTo>
                <a:lnTo>
                  <a:pt x="90083" y="7321"/>
                </a:lnTo>
                <a:lnTo>
                  <a:pt x="85711" y="9707"/>
                </a:lnTo>
                <a:lnTo>
                  <a:pt x="81804" y="13283"/>
                </a:lnTo>
                <a:lnTo>
                  <a:pt x="78208" y="17651"/>
                </a:lnTo>
                <a:lnTo>
                  <a:pt x="73825" y="21555"/>
                </a:lnTo>
                <a:lnTo>
                  <a:pt x="68919" y="25149"/>
                </a:lnTo>
                <a:lnTo>
                  <a:pt x="63664" y="28538"/>
                </a:lnTo>
                <a:lnTo>
                  <a:pt x="59169" y="32781"/>
                </a:lnTo>
                <a:lnTo>
                  <a:pt x="55180" y="37595"/>
                </a:lnTo>
                <a:lnTo>
                  <a:pt x="51529" y="42789"/>
                </a:lnTo>
                <a:lnTo>
                  <a:pt x="48102" y="47243"/>
                </a:lnTo>
                <a:lnTo>
                  <a:pt x="44825" y="51205"/>
                </a:lnTo>
                <a:lnTo>
                  <a:pt x="41649" y="54838"/>
                </a:lnTo>
                <a:lnTo>
                  <a:pt x="37547" y="60237"/>
                </a:lnTo>
                <a:lnTo>
                  <a:pt x="27698" y="74173"/>
                </a:lnTo>
                <a:lnTo>
                  <a:pt x="23285" y="81065"/>
                </a:lnTo>
                <a:lnTo>
                  <a:pt x="19350" y="87643"/>
                </a:lnTo>
                <a:lnTo>
                  <a:pt x="15736" y="94013"/>
                </a:lnTo>
                <a:lnTo>
                  <a:pt x="13326" y="100245"/>
                </a:lnTo>
                <a:lnTo>
                  <a:pt x="11720" y="106383"/>
                </a:lnTo>
                <a:lnTo>
                  <a:pt x="10648" y="112460"/>
                </a:lnTo>
                <a:lnTo>
                  <a:pt x="8942" y="118495"/>
                </a:lnTo>
                <a:lnTo>
                  <a:pt x="6813" y="124503"/>
                </a:lnTo>
                <a:lnTo>
                  <a:pt x="4401" y="130493"/>
                </a:lnTo>
                <a:lnTo>
                  <a:pt x="2792" y="137462"/>
                </a:lnTo>
                <a:lnTo>
                  <a:pt x="1720" y="145085"/>
                </a:lnTo>
                <a:lnTo>
                  <a:pt x="1005" y="153144"/>
                </a:lnTo>
                <a:lnTo>
                  <a:pt x="529" y="160501"/>
                </a:lnTo>
                <a:lnTo>
                  <a:pt x="0" y="173967"/>
                </a:lnTo>
                <a:lnTo>
                  <a:pt x="850" y="180336"/>
                </a:lnTo>
                <a:lnTo>
                  <a:pt x="2410" y="186566"/>
                </a:lnTo>
                <a:lnTo>
                  <a:pt x="4442" y="192704"/>
                </a:lnTo>
                <a:lnTo>
                  <a:pt x="6789" y="197788"/>
                </a:lnTo>
                <a:lnTo>
                  <a:pt x="9346" y="202170"/>
                </a:lnTo>
                <a:lnTo>
                  <a:pt x="12043" y="206083"/>
                </a:lnTo>
                <a:lnTo>
                  <a:pt x="15825" y="209684"/>
                </a:lnTo>
                <a:lnTo>
                  <a:pt x="20331" y="213077"/>
                </a:lnTo>
                <a:lnTo>
                  <a:pt x="25318" y="216331"/>
                </a:lnTo>
                <a:lnTo>
                  <a:pt x="30628" y="219493"/>
                </a:lnTo>
                <a:lnTo>
                  <a:pt x="36153" y="222593"/>
                </a:lnTo>
                <a:lnTo>
                  <a:pt x="47583" y="228683"/>
                </a:lnTo>
                <a:lnTo>
                  <a:pt x="59276" y="234697"/>
                </a:lnTo>
                <a:lnTo>
                  <a:pt x="65174" y="236698"/>
                </a:lnTo>
                <a:lnTo>
                  <a:pt x="71090" y="238031"/>
                </a:lnTo>
                <a:lnTo>
                  <a:pt x="77018" y="238920"/>
                </a:lnTo>
                <a:lnTo>
                  <a:pt x="82955" y="238521"/>
                </a:lnTo>
                <a:lnTo>
                  <a:pt x="88896" y="237263"/>
                </a:lnTo>
                <a:lnTo>
                  <a:pt x="101781" y="233219"/>
                </a:lnTo>
                <a:lnTo>
                  <a:pt x="117430" y="228113"/>
                </a:lnTo>
                <a:lnTo>
                  <a:pt x="124779" y="224371"/>
                </a:lnTo>
                <a:lnTo>
                  <a:pt x="131662" y="219892"/>
                </a:lnTo>
                <a:lnTo>
                  <a:pt x="138235" y="214921"/>
                </a:lnTo>
                <a:lnTo>
                  <a:pt x="153476" y="204107"/>
                </a:lnTo>
                <a:lnTo>
                  <a:pt x="161707" y="198445"/>
                </a:lnTo>
                <a:lnTo>
                  <a:pt x="169180" y="192686"/>
                </a:lnTo>
                <a:lnTo>
                  <a:pt x="176145" y="186862"/>
                </a:lnTo>
                <a:lnTo>
                  <a:pt x="182774" y="180995"/>
                </a:lnTo>
                <a:lnTo>
                  <a:pt x="195430" y="169184"/>
                </a:lnTo>
                <a:lnTo>
                  <a:pt x="219723" y="145434"/>
                </a:lnTo>
                <a:lnTo>
                  <a:pt x="224724" y="139485"/>
                </a:lnTo>
                <a:lnTo>
                  <a:pt x="229050" y="133536"/>
                </a:lnTo>
                <a:lnTo>
                  <a:pt x="232926" y="127585"/>
                </a:lnTo>
                <a:lnTo>
                  <a:pt x="235510" y="120641"/>
                </a:lnTo>
                <a:lnTo>
                  <a:pt x="237233" y="113035"/>
                </a:lnTo>
                <a:lnTo>
                  <a:pt x="238381" y="104988"/>
                </a:lnTo>
                <a:lnTo>
                  <a:pt x="240139" y="97639"/>
                </a:lnTo>
                <a:lnTo>
                  <a:pt x="242303" y="90755"/>
                </a:lnTo>
                <a:lnTo>
                  <a:pt x="244738" y="84182"/>
                </a:lnTo>
                <a:lnTo>
                  <a:pt x="246361" y="78807"/>
                </a:lnTo>
                <a:lnTo>
                  <a:pt x="247443" y="74232"/>
                </a:lnTo>
                <a:lnTo>
                  <a:pt x="248165" y="70190"/>
                </a:lnTo>
                <a:lnTo>
                  <a:pt x="248645" y="65510"/>
                </a:lnTo>
                <a:lnTo>
                  <a:pt x="248966" y="60407"/>
                </a:lnTo>
                <a:lnTo>
                  <a:pt x="249180" y="55019"/>
                </a:lnTo>
                <a:lnTo>
                  <a:pt x="248331" y="49444"/>
                </a:lnTo>
                <a:lnTo>
                  <a:pt x="246772" y="43742"/>
                </a:lnTo>
                <a:lnTo>
                  <a:pt x="244741" y="37957"/>
                </a:lnTo>
                <a:lnTo>
                  <a:pt x="243386" y="33108"/>
                </a:lnTo>
                <a:lnTo>
                  <a:pt x="242484" y="28883"/>
                </a:lnTo>
                <a:lnTo>
                  <a:pt x="241882" y="25074"/>
                </a:lnTo>
                <a:lnTo>
                  <a:pt x="240488" y="22535"/>
                </a:lnTo>
                <a:lnTo>
                  <a:pt x="238568" y="20842"/>
                </a:lnTo>
                <a:lnTo>
                  <a:pt x="233787" y="17969"/>
                </a:lnTo>
                <a:lnTo>
                  <a:pt x="228355" y="13385"/>
                </a:lnTo>
                <a:lnTo>
                  <a:pt x="225517" y="11766"/>
                </a:lnTo>
                <a:lnTo>
                  <a:pt x="219718" y="9966"/>
                </a:lnTo>
                <a:lnTo>
                  <a:pt x="217774" y="10478"/>
                </a:lnTo>
                <a:lnTo>
                  <a:pt x="216480" y="11813"/>
                </a:lnTo>
                <a:lnTo>
                  <a:pt x="215616" y="13694"/>
                </a:lnTo>
                <a:lnTo>
                  <a:pt x="214049" y="14948"/>
                </a:lnTo>
                <a:lnTo>
                  <a:pt x="212011" y="15784"/>
                </a:lnTo>
                <a:lnTo>
                  <a:pt x="204959" y="174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SMARTInkAnnotation98"/>
          <p:cNvSpPr/>
          <p:nvPr/>
        </p:nvSpPr>
        <p:spPr>
          <a:xfrm>
            <a:off x="7439040" y="4091040"/>
            <a:ext cx="239760" cy="168120"/>
          </a:xfrm>
          <a:custGeom>
            <a:avLst/>
            <a:gdLst>
              <a:gd name="textAreaLeft" fmla="*/ 0 w 239760"/>
              <a:gd name="textAreaRight" fmla="*/ 240120 w 2397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41058" h="169251">
                <a:moveTo>
                  <a:pt x="17860" y="79954"/>
                </a:moveTo>
                <a:lnTo>
                  <a:pt x="26789" y="79954"/>
                </a:lnTo>
                <a:lnTo>
                  <a:pt x="26789" y="88515"/>
                </a:lnTo>
                <a:lnTo>
                  <a:pt x="22049" y="88775"/>
                </a:lnTo>
                <a:lnTo>
                  <a:pt x="20652" y="89803"/>
                </a:lnTo>
                <a:lnTo>
                  <a:pt x="19721" y="91481"/>
                </a:lnTo>
                <a:lnTo>
                  <a:pt x="19101" y="93591"/>
                </a:lnTo>
                <a:lnTo>
                  <a:pt x="17695" y="94998"/>
                </a:lnTo>
                <a:lnTo>
                  <a:pt x="15765" y="95937"/>
                </a:lnTo>
                <a:lnTo>
                  <a:pt x="13487" y="96562"/>
                </a:lnTo>
                <a:lnTo>
                  <a:pt x="11968" y="97971"/>
                </a:lnTo>
                <a:lnTo>
                  <a:pt x="10955" y="99903"/>
                </a:lnTo>
                <a:lnTo>
                  <a:pt x="9048" y="106343"/>
                </a:lnTo>
                <a:lnTo>
                  <a:pt x="4225" y="111364"/>
                </a:lnTo>
                <a:lnTo>
                  <a:pt x="3" y="115670"/>
                </a:lnTo>
                <a:lnTo>
                  <a:pt x="0" y="115672"/>
                </a:lnTo>
                <a:lnTo>
                  <a:pt x="4740" y="110932"/>
                </a:lnTo>
                <a:lnTo>
                  <a:pt x="6138" y="108543"/>
                </a:lnTo>
                <a:lnTo>
                  <a:pt x="7069" y="105959"/>
                </a:lnTo>
                <a:lnTo>
                  <a:pt x="7689" y="103243"/>
                </a:lnTo>
                <a:lnTo>
                  <a:pt x="9095" y="100441"/>
                </a:lnTo>
                <a:lnTo>
                  <a:pt x="11024" y="97581"/>
                </a:lnTo>
                <a:lnTo>
                  <a:pt x="13303" y="94682"/>
                </a:lnTo>
                <a:lnTo>
                  <a:pt x="15815" y="92749"/>
                </a:lnTo>
                <a:lnTo>
                  <a:pt x="18480" y="91460"/>
                </a:lnTo>
                <a:lnTo>
                  <a:pt x="21250" y="90601"/>
                </a:lnTo>
                <a:lnTo>
                  <a:pt x="26974" y="87001"/>
                </a:lnTo>
                <a:lnTo>
                  <a:pt x="32825" y="82094"/>
                </a:lnTo>
                <a:lnTo>
                  <a:pt x="35774" y="79396"/>
                </a:lnTo>
                <a:lnTo>
                  <a:pt x="41697" y="73752"/>
                </a:lnTo>
                <a:lnTo>
                  <a:pt x="65486" y="50178"/>
                </a:lnTo>
                <a:lnTo>
                  <a:pt x="68462" y="48197"/>
                </a:lnTo>
                <a:lnTo>
                  <a:pt x="74415" y="45996"/>
                </a:lnTo>
                <a:lnTo>
                  <a:pt x="80367" y="42372"/>
                </a:lnTo>
                <a:lnTo>
                  <a:pt x="83345" y="40016"/>
                </a:lnTo>
                <a:lnTo>
                  <a:pt x="89297" y="37399"/>
                </a:lnTo>
                <a:lnTo>
                  <a:pt x="95251" y="36236"/>
                </a:lnTo>
                <a:lnTo>
                  <a:pt x="101204" y="35719"/>
                </a:lnTo>
                <a:lnTo>
                  <a:pt x="107156" y="35489"/>
                </a:lnTo>
                <a:lnTo>
                  <a:pt x="116086" y="35360"/>
                </a:lnTo>
                <a:lnTo>
                  <a:pt x="127993" y="35316"/>
                </a:lnTo>
                <a:lnTo>
                  <a:pt x="129978" y="36304"/>
                </a:lnTo>
                <a:lnTo>
                  <a:pt x="131300" y="37955"/>
                </a:lnTo>
                <a:lnTo>
                  <a:pt x="132183" y="40049"/>
                </a:lnTo>
                <a:lnTo>
                  <a:pt x="133163" y="45020"/>
                </a:lnTo>
                <a:lnTo>
                  <a:pt x="133424" y="47735"/>
                </a:lnTo>
                <a:lnTo>
                  <a:pt x="133597" y="50537"/>
                </a:lnTo>
                <a:lnTo>
                  <a:pt x="133791" y="56296"/>
                </a:lnTo>
                <a:lnTo>
                  <a:pt x="133915" y="68078"/>
                </a:lnTo>
                <a:lnTo>
                  <a:pt x="133932" y="74014"/>
                </a:lnTo>
                <a:lnTo>
                  <a:pt x="132945" y="77978"/>
                </a:lnTo>
                <a:lnTo>
                  <a:pt x="131294" y="82605"/>
                </a:lnTo>
                <a:lnTo>
                  <a:pt x="129202" y="87675"/>
                </a:lnTo>
                <a:lnTo>
                  <a:pt x="126814" y="92046"/>
                </a:lnTo>
                <a:lnTo>
                  <a:pt x="124230" y="95953"/>
                </a:lnTo>
                <a:lnTo>
                  <a:pt x="121515" y="99549"/>
                </a:lnTo>
                <a:lnTo>
                  <a:pt x="118714" y="102940"/>
                </a:lnTo>
                <a:lnTo>
                  <a:pt x="115854" y="106192"/>
                </a:lnTo>
                <a:lnTo>
                  <a:pt x="112955" y="109352"/>
                </a:lnTo>
                <a:lnTo>
                  <a:pt x="107087" y="115509"/>
                </a:lnTo>
                <a:lnTo>
                  <a:pt x="80890" y="141938"/>
                </a:lnTo>
                <a:lnTo>
                  <a:pt x="73369" y="142393"/>
                </a:lnTo>
                <a:lnTo>
                  <a:pt x="72724" y="142416"/>
                </a:lnTo>
                <a:lnTo>
                  <a:pt x="76559" y="142448"/>
                </a:lnTo>
                <a:lnTo>
                  <a:pt x="77829" y="141460"/>
                </a:lnTo>
                <a:lnTo>
                  <a:pt x="78675" y="139809"/>
                </a:lnTo>
                <a:lnTo>
                  <a:pt x="79239" y="137717"/>
                </a:lnTo>
                <a:lnTo>
                  <a:pt x="80608" y="134337"/>
                </a:lnTo>
                <a:lnTo>
                  <a:pt x="82512" y="130100"/>
                </a:lnTo>
                <a:lnTo>
                  <a:pt x="84774" y="125291"/>
                </a:lnTo>
                <a:lnTo>
                  <a:pt x="87274" y="121093"/>
                </a:lnTo>
                <a:lnTo>
                  <a:pt x="89932" y="117302"/>
                </a:lnTo>
                <a:lnTo>
                  <a:pt x="92697" y="113782"/>
                </a:lnTo>
                <a:lnTo>
                  <a:pt x="96525" y="109451"/>
                </a:lnTo>
                <a:lnTo>
                  <a:pt x="106070" y="99347"/>
                </a:lnTo>
                <a:lnTo>
                  <a:pt x="127127" y="77902"/>
                </a:lnTo>
                <a:lnTo>
                  <a:pt x="162072" y="42902"/>
                </a:lnTo>
                <a:lnTo>
                  <a:pt x="166588" y="39377"/>
                </a:lnTo>
                <a:lnTo>
                  <a:pt x="171581" y="36036"/>
                </a:lnTo>
                <a:lnTo>
                  <a:pt x="176896" y="32816"/>
                </a:lnTo>
                <a:lnTo>
                  <a:pt x="181431" y="29676"/>
                </a:lnTo>
                <a:lnTo>
                  <a:pt x="185446" y="26592"/>
                </a:lnTo>
                <a:lnTo>
                  <a:pt x="189116" y="23543"/>
                </a:lnTo>
                <a:lnTo>
                  <a:pt x="192554" y="20519"/>
                </a:lnTo>
                <a:lnTo>
                  <a:pt x="199020" y="14512"/>
                </a:lnTo>
                <a:lnTo>
                  <a:pt x="202134" y="12513"/>
                </a:lnTo>
                <a:lnTo>
                  <a:pt x="208238" y="10292"/>
                </a:lnTo>
                <a:lnTo>
                  <a:pt x="214259" y="6660"/>
                </a:lnTo>
                <a:lnTo>
                  <a:pt x="217254" y="4302"/>
                </a:lnTo>
                <a:lnTo>
                  <a:pt x="223228" y="1682"/>
                </a:lnTo>
                <a:lnTo>
                  <a:pt x="229189" y="518"/>
                </a:lnTo>
                <a:lnTo>
                  <a:pt x="235146" y="0"/>
                </a:lnTo>
                <a:lnTo>
                  <a:pt x="237131" y="855"/>
                </a:lnTo>
                <a:lnTo>
                  <a:pt x="238455" y="2416"/>
                </a:lnTo>
                <a:lnTo>
                  <a:pt x="240580" y="7311"/>
                </a:lnTo>
                <a:lnTo>
                  <a:pt x="240754" y="9697"/>
                </a:lnTo>
                <a:lnTo>
                  <a:pt x="240869" y="13272"/>
                </a:lnTo>
                <a:lnTo>
                  <a:pt x="241057" y="28528"/>
                </a:lnTo>
                <a:lnTo>
                  <a:pt x="240079" y="31779"/>
                </a:lnTo>
                <a:lnTo>
                  <a:pt x="238436" y="34939"/>
                </a:lnTo>
                <a:lnTo>
                  <a:pt x="236349" y="38038"/>
                </a:lnTo>
                <a:lnTo>
                  <a:pt x="234956" y="42088"/>
                </a:lnTo>
                <a:lnTo>
                  <a:pt x="234029" y="46772"/>
                </a:lnTo>
                <a:lnTo>
                  <a:pt x="233410" y="51879"/>
                </a:lnTo>
                <a:lnTo>
                  <a:pt x="232006" y="57269"/>
                </a:lnTo>
                <a:lnTo>
                  <a:pt x="230077" y="62846"/>
                </a:lnTo>
                <a:lnTo>
                  <a:pt x="227799" y="68548"/>
                </a:lnTo>
                <a:lnTo>
                  <a:pt x="226280" y="73342"/>
                </a:lnTo>
                <a:lnTo>
                  <a:pt x="225268" y="77530"/>
                </a:lnTo>
                <a:lnTo>
                  <a:pt x="224593" y="81315"/>
                </a:lnTo>
                <a:lnTo>
                  <a:pt x="223151" y="85822"/>
                </a:lnTo>
                <a:lnTo>
                  <a:pt x="221197" y="90812"/>
                </a:lnTo>
                <a:lnTo>
                  <a:pt x="218902" y="96122"/>
                </a:lnTo>
                <a:lnTo>
                  <a:pt x="216381" y="100654"/>
                </a:lnTo>
                <a:lnTo>
                  <a:pt x="213707" y="104668"/>
                </a:lnTo>
                <a:lnTo>
                  <a:pt x="210932" y="108336"/>
                </a:lnTo>
                <a:lnTo>
                  <a:pt x="208091" y="111774"/>
                </a:lnTo>
                <a:lnTo>
                  <a:pt x="205203" y="115058"/>
                </a:lnTo>
                <a:lnTo>
                  <a:pt x="202287" y="118239"/>
                </a:lnTo>
                <a:lnTo>
                  <a:pt x="196401" y="124420"/>
                </a:lnTo>
                <a:lnTo>
                  <a:pt x="193442" y="127457"/>
                </a:lnTo>
                <a:lnTo>
                  <a:pt x="191469" y="130474"/>
                </a:lnTo>
                <a:lnTo>
                  <a:pt x="190154" y="133478"/>
                </a:lnTo>
                <a:lnTo>
                  <a:pt x="189278" y="136472"/>
                </a:lnTo>
                <a:lnTo>
                  <a:pt x="187701" y="139461"/>
                </a:lnTo>
                <a:lnTo>
                  <a:pt x="185658" y="142445"/>
                </a:lnTo>
                <a:lnTo>
                  <a:pt x="183303" y="145427"/>
                </a:lnTo>
                <a:lnTo>
                  <a:pt x="181734" y="148408"/>
                </a:lnTo>
                <a:lnTo>
                  <a:pt x="180688" y="151386"/>
                </a:lnTo>
                <a:lnTo>
                  <a:pt x="179989" y="154365"/>
                </a:lnTo>
                <a:lnTo>
                  <a:pt x="179525" y="157342"/>
                </a:lnTo>
                <a:lnTo>
                  <a:pt x="179215" y="160320"/>
                </a:lnTo>
                <a:lnTo>
                  <a:pt x="178594" y="1692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SMARTInkAnnotation99"/>
          <p:cNvSpPr/>
          <p:nvPr/>
        </p:nvSpPr>
        <p:spPr>
          <a:xfrm>
            <a:off x="7607160" y="3946680"/>
            <a:ext cx="268560" cy="393480"/>
          </a:xfrm>
          <a:custGeom>
            <a:avLst/>
            <a:gdLst>
              <a:gd name="textAreaLeft" fmla="*/ 0 w 268560"/>
              <a:gd name="textAreaRight" fmla="*/ 268920 w 26856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67892" h="392907">
                <a:moveTo>
                  <a:pt x="267891" y="0"/>
                </a:moveTo>
                <a:lnTo>
                  <a:pt x="267891" y="12428"/>
                </a:lnTo>
                <a:lnTo>
                  <a:pt x="265245" y="20737"/>
                </a:lnTo>
                <a:lnTo>
                  <a:pt x="260763" y="30052"/>
                </a:lnTo>
                <a:lnTo>
                  <a:pt x="255462" y="37499"/>
                </a:lnTo>
                <a:lnTo>
                  <a:pt x="247153" y="46762"/>
                </a:lnTo>
                <a:lnTo>
                  <a:pt x="242160" y="52011"/>
                </a:lnTo>
                <a:lnTo>
                  <a:pt x="233966" y="63134"/>
                </a:lnTo>
                <a:lnTo>
                  <a:pt x="226024" y="74692"/>
                </a:lnTo>
                <a:lnTo>
                  <a:pt x="221128" y="80553"/>
                </a:lnTo>
                <a:lnTo>
                  <a:pt x="215879" y="86443"/>
                </a:lnTo>
                <a:lnTo>
                  <a:pt x="211389" y="93348"/>
                </a:lnTo>
                <a:lnTo>
                  <a:pt x="207403" y="100927"/>
                </a:lnTo>
                <a:lnTo>
                  <a:pt x="203754" y="108956"/>
                </a:lnTo>
                <a:lnTo>
                  <a:pt x="199336" y="116294"/>
                </a:lnTo>
                <a:lnTo>
                  <a:pt x="194407" y="123170"/>
                </a:lnTo>
                <a:lnTo>
                  <a:pt x="189136" y="129738"/>
                </a:lnTo>
                <a:lnTo>
                  <a:pt x="183637" y="137093"/>
                </a:lnTo>
                <a:lnTo>
                  <a:pt x="172236" y="153203"/>
                </a:lnTo>
                <a:lnTo>
                  <a:pt x="136886" y="205505"/>
                </a:lnTo>
                <a:lnTo>
                  <a:pt x="131938" y="213401"/>
                </a:lnTo>
                <a:lnTo>
                  <a:pt x="127647" y="220650"/>
                </a:lnTo>
                <a:lnTo>
                  <a:pt x="123793" y="227467"/>
                </a:lnTo>
                <a:lnTo>
                  <a:pt x="119240" y="234989"/>
                </a:lnTo>
                <a:lnTo>
                  <a:pt x="108889" y="251283"/>
                </a:lnTo>
                <a:lnTo>
                  <a:pt x="103351" y="258803"/>
                </a:lnTo>
                <a:lnTo>
                  <a:pt x="97673" y="265800"/>
                </a:lnTo>
                <a:lnTo>
                  <a:pt x="91905" y="272450"/>
                </a:lnTo>
                <a:lnTo>
                  <a:pt x="86076" y="279860"/>
                </a:lnTo>
                <a:lnTo>
                  <a:pt x="80204" y="287776"/>
                </a:lnTo>
                <a:lnTo>
                  <a:pt x="74305" y="296030"/>
                </a:lnTo>
                <a:lnTo>
                  <a:pt x="69381" y="303517"/>
                </a:lnTo>
                <a:lnTo>
                  <a:pt x="65105" y="310493"/>
                </a:lnTo>
                <a:lnTo>
                  <a:pt x="61263" y="317128"/>
                </a:lnTo>
                <a:lnTo>
                  <a:pt x="56717" y="323536"/>
                </a:lnTo>
                <a:lnTo>
                  <a:pt x="51702" y="329792"/>
                </a:lnTo>
                <a:lnTo>
                  <a:pt x="46374" y="335947"/>
                </a:lnTo>
                <a:lnTo>
                  <a:pt x="37810" y="345432"/>
                </a:lnTo>
                <a:lnTo>
                  <a:pt x="30695" y="352955"/>
                </a:lnTo>
                <a:lnTo>
                  <a:pt x="15006" y="368928"/>
                </a:lnTo>
                <a:lnTo>
                  <a:pt x="12981" y="371960"/>
                </a:lnTo>
                <a:lnTo>
                  <a:pt x="10731" y="377974"/>
                </a:lnTo>
                <a:lnTo>
                  <a:pt x="9138" y="379975"/>
                </a:lnTo>
                <a:lnTo>
                  <a:pt x="7084" y="381309"/>
                </a:lnTo>
                <a:lnTo>
                  <a:pt x="4723" y="382197"/>
                </a:lnTo>
                <a:lnTo>
                  <a:pt x="3150" y="383783"/>
                </a:lnTo>
                <a:lnTo>
                  <a:pt x="2099" y="385831"/>
                </a:lnTo>
                <a:lnTo>
                  <a:pt x="0" y="3929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SMARTInkAnnotation100"/>
          <p:cNvSpPr/>
          <p:nvPr/>
        </p:nvSpPr>
        <p:spPr>
          <a:xfrm>
            <a:off x="7786800" y="4084560"/>
            <a:ext cx="133200" cy="192240"/>
          </a:xfrm>
          <a:custGeom>
            <a:avLst/>
            <a:gdLst>
              <a:gd name="textAreaLeft" fmla="*/ 0 w 133200"/>
              <a:gd name="textAreaRight" fmla="*/ 133560 w 1332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133836" h="192588">
                <a:moveTo>
                  <a:pt x="125014" y="49712"/>
                </a:moveTo>
                <a:lnTo>
                  <a:pt x="125014" y="44972"/>
                </a:lnTo>
                <a:lnTo>
                  <a:pt x="126006" y="43575"/>
                </a:lnTo>
                <a:lnTo>
                  <a:pt x="127660" y="42644"/>
                </a:lnTo>
                <a:lnTo>
                  <a:pt x="129754" y="42024"/>
                </a:lnTo>
                <a:lnTo>
                  <a:pt x="131151" y="40618"/>
                </a:lnTo>
                <a:lnTo>
                  <a:pt x="132082" y="38688"/>
                </a:lnTo>
                <a:lnTo>
                  <a:pt x="133576" y="33203"/>
                </a:lnTo>
                <a:lnTo>
                  <a:pt x="133835" y="27512"/>
                </a:lnTo>
                <a:lnTo>
                  <a:pt x="132878" y="24990"/>
                </a:lnTo>
                <a:lnTo>
                  <a:pt x="129170" y="19542"/>
                </a:lnTo>
                <a:lnTo>
                  <a:pt x="126245" y="15638"/>
                </a:lnTo>
                <a:lnTo>
                  <a:pt x="125561" y="12078"/>
                </a:lnTo>
                <a:lnTo>
                  <a:pt x="125379" y="9740"/>
                </a:lnTo>
                <a:lnTo>
                  <a:pt x="124265" y="8181"/>
                </a:lnTo>
                <a:lnTo>
                  <a:pt x="122530" y="7142"/>
                </a:lnTo>
                <a:lnTo>
                  <a:pt x="120381" y="6449"/>
                </a:lnTo>
                <a:lnTo>
                  <a:pt x="117957" y="5987"/>
                </a:lnTo>
                <a:lnTo>
                  <a:pt x="115348" y="5680"/>
                </a:lnTo>
                <a:lnTo>
                  <a:pt x="112617" y="5474"/>
                </a:lnTo>
                <a:lnTo>
                  <a:pt x="109804" y="4345"/>
                </a:lnTo>
                <a:lnTo>
                  <a:pt x="106937" y="2600"/>
                </a:lnTo>
                <a:lnTo>
                  <a:pt x="104033" y="445"/>
                </a:lnTo>
                <a:lnTo>
                  <a:pt x="101104" y="0"/>
                </a:lnTo>
                <a:lnTo>
                  <a:pt x="98160" y="696"/>
                </a:lnTo>
                <a:lnTo>
                  <a:pt x="95205" y="2152"/>
                </a:lnTo>
                <a:lnTo>
                  <a:pt x="92243" y="3122"/>
                </a:lnTo>
                <a:lnTo>
                  <a:pt x="89276" y="3770"/>
                </a:lnTo>
                <a:lnTo>
                  <a:pt x="86306" y="4201"/>
                </a:lnTo>
                <a:lnTo>
                  <a:pt x="83334" y="5480"/>
                </a:lnTo>
                <a:lnTo>
                  <a:pt x="80360" y="7326"/>
                </a:lnTo>
                <a:lnTo>
                  <a:pt x="73198" y="12676"/>
                </a:lnTo>
                <a:lnTo>
                  <a:pt x="69573" y="16054"/>
                </a:lnTo>
                <a:lnTo>
                  <a:pt x="59162" y="26306"/>
                </a:lnTo>
                <a:lnTo>
                  <a:pt x="57300" y="29148"/>
                </a:lnTo>
                <a:lnTo>
                  <a:pt x="55231" y="34950"/>
                </a:lnTo>
                <a:lnTo>
                  <a:pt x="53687" y="36894"/>
                </a:lnTo>
                <a:lnTo>
                  <a:pt x="51665" y="38190"/>
                </a:lnTo>
                <a:lnTo>
                  <a:pt x="49326" y="39054"/>
                </a:lnTo>
                <a:lnTo>
                  <a:pt x="47766" y="40622"/>
                </a:lnTo>
                <a:lnTo>
                  <a:pt x="46727" y="42660"/>
                </a:lnTo>
                <a:lnTo>
                  <a:pt x="45571" y="47570"/>
                </a:lnTo>
                <a:lnTo>
                  <a:pt x="45057" y="53059"/>
                </a:lnTo>
                <a:lnTo>
                  <a:pt x="44829" y="58806"/>
                </a:lnTo>
                <a:lnTo>
                  <a:pt x="44701" y="67620"/>
                </a:lnTo>
                <a:lnTo>
                  <a:pt x="44657" y="84228"/>
                </a:lnTo>
                <a:lnTo>
                  <a:pt x="45646" y="88597"/>
                </a:lnTo>
                <a:lnTo>
                  <a:pt x="47297" y="92503"/>
                </a:lnTo>
                <a:lnTo>
                  <a:pt x="49390" y="96099"/>
                </a:lnTo>
                <a:lnTo>
                  <a:pt x="50786" y="99488"/>
                </a:lnTo>
                <a:lnTo>
                  <a:pt x="51716" y="102739"/>
                </a:lnTo>
                <a:lnTo>
                  <a:pt x="52336" y="105899"/>
                </a:lnTo>
                <a:lnTo>
                  <a:pt x="53741" y="108999"/>
                </a:lnTo>
                <a:lnTo>
                  <a:pt x="55671" y="112056"/>
                </a:lnTo>
                <a:lnTo>
                  <a:pt x="57950" y="115087"/>
                </a:lnTo>
                <a:lnTo>
                  <a:pt x="60461" y="118100"/>
                </a:lnTo>
                <a:lnTo>
                  <a:pt x="63127" y="121101"/>
                </a:lnTo>
                <a:lnTo>
                  <a:pt x="65896" y="124093"/>
                </a:lnTo>
                <a:lnTo>
                  <a:pt x="67743" y="127081"/>
                </a:lnTo>
                <a:lnTo>
                  <a:pt x="69794" y="133046"/>
                </a:lnTo>
                <a:lnTo>
                  <a:pt x="73352" y="139004"/>
                </a:lnTo>
                <a:lnTo>
                  <a:pt x="75690" y="141982"/>
                </a:lnTo>
                <a:lnTo>
                  <a:pt x="78288" y="147937"/>
                </a:lnTo>
                <a:lnTo>
                  <a:pt x="78980" y="150914"/>
                </a:lnTo>
                <a:lnTo>
                  <a:pt x="82395" y="156867"/>
                </a:lnTo>
                <a:lnTo>
                  <a:pt x="87932" y="164034"/>
                </a:lnTo>
                <a:lnTo>
                  <a:pt x="88689" y="167660"/>
                </a:lnTo>
                <a:lnTo>
                  <a:pt x="89259" y="174314"/>
                </a:lnTo>
                <a:lnTo>
                  <a:pt x="86633" y="174543"/>
                </a:lnTo>
                <a:lnTo>
                  <a:pt x="84544" y="174605"/>
                </a:lnTo>
                <a:lnTo>
                  <a:pt x="83151" y="175638"/>
                </a:lnTo>
                <a:lnTo>
                  <a:pt x="82222" y="177319"/>
                </a:lnTo>
                <a:lnTo>
                  <a:pt x="81603" y="179431"/>
                </a:lnTo>
                <a:lnTo>
                  <a:pt x="80199" y="180840"/>
                </a:lnTo>
                <a:lnTo>
                  <a:pt x="78270" y="181779"/>
                </a:lnTo>
                <a:lnTo>
                  <a:pt x="75991" y="182405"/>
                </a:lnTo>
                <a:lnTo>
                  <a:pt x="73481" y="182823"/>
                </a:lnTo>
                <a:lnTo>
                  <a:pt x="70815" y="183101"/>
                </a:lnTo>
                <a:lnTo>
                  <a:pt x="68046" y="183287"/>
                </a:lnTo>
                <a:lnTo>
                  <a:pt x="65206" y="182418"/>
                </a:lnTo>
                <a:lnTo>
                  <a:pt x="62321" y="180847"/>
                </a:lnTo>
                <a:lnTo>
                  <a:pt x="59406" y="178807"/>
                </a:lnTo>
                <a:lnTo>
                  <a:pt x="56471" y="177447"/>
                </a:lnTo>
                <a:lnTo>
                  <a:pt x="53522" y="176541"/>
                </a:lnTo>
                <a:lnTo>
                  <a:pt x="50564" y="175936"/>
                </a:lnTo>
                <a:lnTo>
                  <a:pt x="47599" y="175533"/>
                </a:lnTo>
                <a:lnTo>
                  <a:pt x="44631" y="175265"/>
                </a:lnTo>
                <a:lnTo>
                  <a:pt x="41659" y="175086"/>
                </a:lnTo>
                <a:lnTo>
                  <a:pt x="35712" y="174887"/>
                </a:lnTo>
                <a:lnTo>
                  <a:pt x="23810" y="174759"/>
                </a:lnTo>
                <a:lnTo>
                  <a:pt x="14881" y="174737"/>
                </a:lnTo>
                <a:lnTo>
                  <a:pt x="12896" y="173741"/>
                </a:lnTo>
                <a:lnTo>
                  <a:pt x="11574" y="172086"/>
                </a:lnTo>
                <a:lnTo>
                  <a:pt x="10691" y="169990"/>
                </a:lnTo>
                <a:lnTo>
                  <a:pt x="9111" y="168592"/>
                </a:lnTo>
                <a:lnTo>
                  <a:pt x="7067" y="167661"/>
                </a:lnTo>
                <a:lnTo>
                  <a:pt x="412" y="165907"/>
                </a:lnTo>
                <a:lnTo>
                  <a:pt x="120" y="170570"/>
                </a:lnTo>
                <a:lnTo>
                  <a:pt x="0" y="175648"/>
                </a:lnTo>
                <a:lnTo>
                  <a:pt x="0" y="179436"/>
                </a:lnTo>
                <a:lnTo>
                  <a:pt x="992" y="180843"/>
                </a:lnTo>
                <a:lnTo>
                  <a:pt x="2644" y="181781"/>
                </a:lnTo>
                <a:lnTo>
                  <a:pt x="7687" y="183287"/>
                </a:lnTo>
                <a:lnTo>
                  <a:pt x="8101" y="184402"/>
                </a:lnTo>
                <a:lnTo>
                  <a:pt x="8683" y="189721"/>
                </a:lnTo>
                <a:lnTo>
                  <a:pt x="8928" y="19258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SMARTInkAnnotation101"/>
          <p:cNvSpPr/>
          <p:nvPr/>
        </p:nvSpPr>
        <p:spPr>
          <a:xfrm>
            <a:off x="3973680" y="4500720"/>
            <a:ext cx="250560" cy="53640"/>
          </a:xfrm>
          <a:custGeom>
            <a:avLst/>
            <a:gdLst>
              <a:gd name="textAreaLeft" fmla="*/ 0 w 250560"/>
              <a:gd name="textAreaRight" fmla="*/ 250920 w 25056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50033" h="53579">
                <a:moveTo>
                  <a:pt x="0" y="0"/>
                </a:moveTo>
                <a:lnTo>
                  <a:pt x="13304" y="0"/>
                </a:lnTo>
                <a:lnTo>
                  <a:pt x="15814" y="992"/>
                </a:lnTo>
                <a:lnTo>
                  <a:pt x="18480" y="2646"/>
                </a:lnTo>
                <a:lnTo>
                  <a:pt x="21250" y="4740"/>
                </a:lnTo>
                <a:lnTo>
                  <a:pt x="24089" y="6136"/>
                </a:lnTo>
                <a:lnTo>
                  <a:pt x="29889" y="7688"/>
                </a:lnTo>
                <a:lnTo>
                  <a:pt x="35774" y="8378"/>
                </a:lnTo>
                <a:lnTo>
                  <a:pt x="41697" y="8684"/>
                </a:lnTo>
                <a:lnTo>
                  <a:pt x="47636" y="8821"/>
                </a:lnTo>
                <a:lnTo>
                  <a:pt x="51602" y="9849"/>
                </a:lnTo>
                <a:lnTo>
                  <a:pt x="56229" y="11527"/>
                </a:lnTo>
                <a:lnTo>
                  <a:pt x="61299" y="13638"/>
                </a:lnTo>
                <a:lnTo>
                  <a:pt x="66663" y="15045"/>
                </a:lnTo>
                <a:lnTo>
                  <a:pt x="72223" y="15983"/>
                </a:lnTo>
                <a:lnTo>
                  <a:pt x="77915" y="16609"/>
                </a:lnTo>
                <a:lnTo>
                  <a:pt x="82701" y="17026"/>
                </a:lnTo>
                <a:lnTo>
                  <a:pt x="86884" y="17303"/>
                </a:lnTo>
                <a:lnTo>
                  <a:pt x="90665" y="17488"/>
                </a:lnTo>
                <a:lnTo>
                  <a:pt x="95171" y="18605"/>
                </a:lnTo>
                <a:lnTo>
                  <a:pt x="100158" y="20340"/>
                </a:lnTo>
                <a:lnTo>
                  <a:pt x="105467" y="22490"/>
                </a:lnTo>
                <a:lnTo>
                  <a:pt x="110992" y="23923"/>
                </a:lnTo>
                <a:lnTo>
                  <a:pt x="116659" y="24878"/>
                </a:lnTo>
                <a:lnTo>
                  <a:pt x="122422" y="25515"/>
                </a:lnTo>
                <a:lnTo>
                  <a:pt x="128248" y="26932"/>
                </a:lnTo>
                <a:lnTo>
                  <a:pt x="134115" y="28869"/>
                </a:lnTo>
                <a:lnTo>
                  <a:pt x="140012" y="31152"/>
                </a:lnTo>
                <a:lnTo>
                  <a:pt x="144935" y="32674"/>
                </a:lnTo>
                <a:lnTo>
                  <a:pt x="149210" y="33689"/>
                </a:lnTo>
                <a:lnTo>
                  <a:pt x="153051" y="34365"/>
                </a:lnTo>
                <a:lnTo>
                  <a:pt x="157597" y="35809"/>
                </a:lnTo>
                <a:lnTo>
                  <a:pt x="162612" y="37763"/>
                </a:lnTo>
                <a:lnTo>
                  <a:pt x="167939" y="40058"/>
                </a:lnTo>
                <a:lnTo>
                  <a:pt x="173476" y="41589"/>
                </a:lnTo>
                <a:lnTo>
                  <a:pt x="179150" y="42609"/>
                </a:lnTo>
                <a:lnTo>
                  <a:pt x="184918" y="43288"/>
                </a:lnTo>
                <a:lnTo>
                  <a:pt x="190748" y="43742"/>
                </a:lnTo>
                <a:lnTo>
                  <a:pt x="196618" y="44044"/>
                </a:lnTo>
                <a:lnTo>
                  <a:pt x="202516" y="44246"/>
                </a:lnTo>
                <a:lnTo>
                  <a:pt x="207441" y="45372"/>
                </a:lnTo>
                <a:lnTo>
                  <a:pt x="211715" y="47115"/>
                </a:lnTo>
                <a:lnTo>
                  <a:pt x="215558" y="49269"/>
                </a:lnTo>
                <a:lnTo>
                  <a:pt x="219112" y="50706"/>
                </a:lnTo>
                <a:lnTo>
                  <a:pt x="225707" y="52301"/>
                </a:lnTo>
                <a:lnTo>
                  <a:pt x="231944" y="53011"/>
                </a:lnTo>
                <a:lnTo>
                  <a:pt x="239294" y="53466"/>
                </a:lnTo>
                <a:lnTo>
                  <a:pt x="242944" y="53528"/>
                </a:lnTo>
                <a:lnTo>
                  <a:pt x="250032" y="535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SMARTInkAnnotation102"/>
          <p:cNvSpPr/>
          <p:nvPr/>
        </p:nvSpPr>
        <p:spPr>
          <a:xfrm>
            <a:off x="3946680" y="4562640"/>
            <a:ext cx="179280" cy="36360"/>
          </a:xfrm>
          <a:custGeom>
            <a:avLst/>
            <a:gdLst>
              <a:gd name="textAreaLeft" fmla="*/ 0 w 179280"/>
              <a:gd name="textAreaRight" fmla="*/ 179280 w 1792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78595" h="35720">
                <a:moveTo>
                  <a:pt x="0" y="0"/>
                </a:moveTo>
                <a:lnTo>
                  <a:pt x="13303" y="0"/>
                </a:lnTo>
                <a:lnTo>
                  <a:pt x="15814" y="992"/>
                </a:lnTo>
                <a:lnTo>
                  <a:pt x="18480" y="2646"/>
                </a:lnTo>
                <a:lnTo>
                  <a:pt x="21250" y="4741"/>
                </a:lnTo>
                <a:lnTo>
                  <a:pt x="24089" y="6137"/>
                </a:lnTo>
                <a:lnTo>
                  <a:pt x="26973" y="7068"/>
                </a:lnTo>
                <a:lnTo>
                  <a:pt x="29888" y="7688"/>
                </a:lnTo>
                <a:lnTo>
                  <a:pt x="32825" y="8102"/>
                </a:lnTo>
                <a:lnTo>
                  <a:pt x="35774" y="8378"/>
                </a:lnTo>
                <a:lnTo>
                  <a:pt x="38732" y="8562"/>
                </a:lnTo>
                <a:lnTo>
                  <a:pt x="42689" y="9677"/>
                </a:lnTo>
                <a:lnTo>
                  <a:pt x="47311" y="11412"/>
                </a:lnTo>
                <a:lnTo>
                  <a:pt x="52376" y="13561"/>
                </a:lnTo>
                <a:lnTo>
                  <a:pt x="57738" y="14994"/>
                </a:lnTo>
                <a:lnTo>
                  <a:pt x="63297" y="15949"/>
                </a:lnTo>
                <a:lnTo>
                  <a:pt x="68987" y="16586"/>
                </a:lnTo>
                <a:lnTo>
                  <a:pt x="73773" y="17010"/>
                </a:lnTo>
                <a:lnTo>
                  <a:pt x="77956" y="17294"/>
                </a:lnTo>
                <a:lnTo>
                  <a:pt x="81736" y="17482"/>
                </a:lnTo>
                <a:lnTo>
                  <a:pt x="91228" y="17691"/>
                </a:lnTo>
                <a:lnTo>
                  <a:pt x="96538" y="17748"/>
                </a:lnTo>
                <a:lnTo>
                  <a:pt x="102062" y="18777"/>
                </a:lnTo>
                <a:lnTo>
                  <a:pt x="107729" y="20456"/>
                </a:lnTo>
                <a:lnTo>
                  <a:pt x="113492" y="22567"/>
                </a:lnTo>
                <a:lnTo>
                  <a:pt x="118325" y="23974"/>
                </a:lnTo>
                <a:lnTo>
                  <a:pt x="122540" y="24913"/>
                </a:lnTo>
                <a:lnTo>
                  <a:pt x="126342" y="25538"/>
                </a:lnTo>
                <a:lnTo>
                  <a:pt x="130861" y="25955"/>
                </a:lnTo>
                <a:lnTo>
                  <a:pt x="135858" y="26233"/>
                </a:lnTo>
                <a:lnTo>
                  <a:pt x="141174" y="26418"/>
                </a:lnTo>
                <a:lnTo>
                  <a:pt x="146702" y="27534"/>
                </a:lnTo>
                <a:lnTo>
                  <a:pt x="152372" y="29270"/>
                </a:lnTo>
                <a:lnTo>
                  <a:pt x="158136" y="31420"/>
                </a:lnTo>
                <a:lnTo>
                  <a:pt x="162971" y="32852"/>
                </a:lnTo>
                <a:lnTo>
                  <a:pt x="167186" y="33808"/>
                </a:lnTo>
                <a:lnTo>
                  <a:pt x="178594" y="3571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SMARTInkAnnotation103"/>
          <p:cNvSpPr/>
          <p:nvPr/>
        </p:nvSpPr>
        <p:spPr>
          <a:xfrm>
            <a:off x="4464000" y="4187880"/>
            <a:ext cx="9720" cy="349200"/>
          </a:xfrm>
          <a:custGeom>
            <a:avLst/>
            <a:gdLst>
              <a:gd name="textAreaLeft" fmla="*/ 0 w 9720"/>
              <a:gd name="textAreaRight" fmla="*/ 10080 w 9720"/>
              <a:gd name="textAreaTop" fmla="*/ 0 h 349200"/>
              <a:gd name="textAreaBottom" fmla="*/ 349200 h 349200"/>
            </a:gdLst>
            <a:ahLst/>
            <a:rect l="textAreaLeft" t="textAreaTop" r="textAreaRight" b="textAreaBottom"/>
            <a:pathLst>
              <a:path w="8930" h="348259">
                <a:moveTo>
                  <a:pt x="0" y="0"/>
                </a:moveTo>
                <a:lnTo>
                  <a:pt x="8821" y="0"/>
                </a:lnTo>
                <a:lnTo>
                  <a:pt x="8908" y="8122"/>
                </a:lnTo>
                <a:lnTo>
                  <a:pt x="8929" y="43114"/>
                </a:lnTo>
                <a:lnTo>
                  <a:pt x="7938" y="49579"/>
                </a:lnTo>
                <a:lnTo>
                  <a:pt x="6284" y="56865"/>
                </a:lnTo>
                <a:lnTo>
                  <a:pt x="4189" y="64699"/>
                </a:lnTo>
                <a:lnTo>
                  <a:pt x="2793" y="71906"/>
                </a:lnTo>
                <a:lnTo>
                  <a:pt x="1862" y="78696"/>
                </a:lnTo>
                <a:lnTo>
                  <a:pt x="1242" y="85206"/>
                </a:lnTo>
                <a:lnTo>
                  <a:pt x="828" y="92523"/>
                </a:lnTo>
                <a:lnTo>
                  <a:pt x="368" y="108590"/>
                </a:lnTo>
                <a:lnTo>
                  <a:pt x="1238" y="117042"/>
                </a:lnTo>
                <a:lnTo>
                  <a:pt x="2810" y="125653"/>
                </a:lnTo>
                <a:lnTo>
                  <a:pt x="4850" y="134370"/>
                </a:lnTo>
                <a:lnTo>
                  <a:pt x="6210" y="143159"/>
                </a:lnTo>
                <a:lnTo>
                  <a:pt x="7117" y="151994"/>
                </a:lnTo>
                <a:lnTo>
                  <a:pt x="7721" y="160860"/>
                </a:lnTo>
                <a:lnTo>
                  <a:pt x="8124" y="169748"/>
                </a:lnTo>
                <a:lnTo>
                  <a:pt x="8571" y="187561"/>
                </a:lnTo>
                <a:lnTo>
                  <a:pt x="8909" y="241931"/>
                </a:lnTo>
                <a:lnTo>
                  <a:pt x="8927" y="281119"/>
                </a:lnTo>
                <a:lnTo>
                  <a:pt x="7936" y="287623"/>
                </a:lnTo>
                <a:lnTo>
                  <a:pt x="6283" y="293944"/>
                </a:lnTo>
                <a:lnTo>
                  <a:pt x="4189" y="300143"/>
                </a:lnTo>
                <a:lnTo>
                  <a:pt x="2793" y="306259"/>
                </a:lnTo>
                <a:lnTo>
                  <a:pt x="1862" y="312321"/>
                </a:lnTo>
                <a:lnTo>
                  <a:pt x="1242" y="318347"/>
                </a:lnTo>
                <a:lnTo>
                  <a:pt x="828" y="323356"/>
                </a:lnTo>
                <a:lnTo>
                  <a:pt x="552" y="327688"/>
                </a:lnTo>
                <a:lnTo>
                  <a:pt x="246" y="335147"/>
                </a:lnTo>
                <a:lnTo>
                  <a:pt x="0" y="3482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SMARTInkAnnotation104"/>
          <p:cNvSpPr/>
          <p:nvPr/>
        </p:nvSpPr>
        <p:spPr>
          <a:xfrm>
            <a:off x="4357800" y="4429080"/>
            <a:ext cx="214200" cy="88920"/>
          </a:xfrm>
          <a:custGeom>
            <a:avLst/>
            <a:gdLst>
              <a:gd name="textAreaLeft" fmla="*/ 0 w 214200"/>
              <a:gd name="textAreaRight" fmla="*/ 214560 w 214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14314" h="89297">
                <a:moveTo>
                  <a:pt x="0" y="89296"/>
                </a:moveTo>
                <a:lnTo>
                  <a:pt x="0" y="81608"/>
                </a:lnTo>
                <a:lnTo>
                  <a:pt x="993" y="81194"/>
                </a:lnTo>
                <a:lnTo>
                  <a:pt x="7129" y="80612"/>
                </a:lnTo>
                <a:lnTo>
                  <a:pt x="12429" y="80476"/>
                </a:lnTo>
                <a:lnTo>
                  <a:pt x="14239" y="79447"/>
                </a:lnTo>
                <a:lnTo>
                  <a:pt x="15446" y="77770"/>
                </a:lnTo>
                <a:lnTo>
                  <a:pt x="16251" y="75659"/>
                </a:lnTo>
                <a:lnTo>
                  <a:pt x="17779" y="74252"/>
                </a:lnTo>
                <a:lnTo>
                  <a:pt x="19790" y="73314"/>
                </a:lnTo>
                <a:lnTo>
                  <a:pt x="24670" y="72271"/>
                </a:lnTo>
                <a:lnTo>
                  <a:pt x="30147" y="71808"/>
                </a:lnTo>
                <a:lnTo>
                  <a:pt x="32996" y="70692"/>
                </a:lnTo>
                <a:lnTo>
                  <a:pt x="35888" y="68956"/>
                </a:lnTo>
                <a:lnTo>
                  <a:pt x="38808" y="66807"/>
                </a:lnTo>
                <a:lnTo>
                  <a:pt x="42740" y="65373"/>
                </a:lnTo>
                <a:lnTo>
                  <a:pt x="47344" y="64418"/>
                </a:lnTo>
                <a:lnTo>
                  <a:pt x="52399" y="63781"/>
                </a:lnTo>
                <a:lnTo>
                  <a:pt x="56761" y="62364"/>
                </a:lnTo>
                <a:lnTo>
                  <a:pt x="60661" y="60428"/>
                </a:lnTo>
                <a:lnTo>
                  <a:pt x="64253" y="58144"/>
                </a:lnTo>
                <a:lnTo>
                  <a:pt x="67640" y="55630"/>
                </a:lnTo>
                <a:lnTo>
                  <a:pt x="70891" y="52961"/>
                </a:lnTo>
                <a:lnTo>
                  <a:pt x="74049" y="50191"/>
                </a:lnTo>
                <a:lnTo>
                  <a:pt x="77147" y="48343"/>
                </a:lnTo>
                <a:lnTo>
                  <a:pt x="83236" y="46290"/>
                </a:lnTo>
                <a:lnTo>
                  <a:pt x="87240" y="44750"/>
                </a:lnTo>
                <a:lnTo>
                  <a:pt x="91894" y="42732"/>
                </a:lnTo>
                <a:lnTo>
                  <a:pt x="96982" y="40394"/>
                </a:lnTo>
                <a:lnTo>
                  <a:pt x="101366" y="38836"/>
                </a:lnTo>
                <a:lnTo>
                  <a:pt x="105281" y="37796"/>
                </a:lnTo>
                <a:lnTo>
                  <a:pt x="108882" y="37103"/>
                </a:lnTo>
                <a:lnTo>
                  <a:pt x="113268" y="35650"/>
                </a:lnTo>
                <a:lnTo>
                  <a:pt x="118176" y="33688"/>
                </a:lnTo>
                <a:lnTo>
                  <a:pt x="123432" y="31388"/>
                </a:lnTo>
                <a:lnTo>
                  <a:pt x="127929" y="28863"/>
                </a:lnTo>
                <a:lnTo>
                  <a:pt x="131919" y="26187"/>
                </a:lnTo>
                <a:lnTo>
                  <a:pt x="135570" y="23411"/>
                </a:lnTo>
                <a:lnTo>
                  <a:pt x="139990" y="21560"/>
                </a:lnTo>
                <a:lnTo>
                  <a:pt x="144920" y="20327"/>
                </a:lnTo>
                <a:lnTo>
                  <a:pt x="150192" y="19504"/>
                </a:lnTo>
                <a:lnTo>
                  <a:pt x="154698" y="17963"/>
                </a:lnTo>
                <a:lnTo>
                  <a:pt x="158695" y="15945"/>
                </a:lnTo>
                <a:lnTo>
                  <a:pt x="162351" y="13606"/>
                </a:lnTo>
                <a:lnTo>
                  <a:pt x="166774" y="12047"/>
                </a:lnTo>
                <a:lnTo>
                  <a:pt x="171705" y="11008"/>
                </a:lnTo>
                <a:lnTo>
                  <a:pt x="176978" y="10315"/>
                </a:lnTo>
                <a:lnTo>
                  <a:pt x="181486" y="9854"/>
                </a:lnTo>
                <a:lnTo>
                  <a:pt x="185482" y="9545"/>
                </a:lnTo>
                <a:lnTo>
                  <a:pt x="189139" y="9340"/>
                </a:lnTo>
                <a:lnTo>
                  <a:pt x="195849" y="9112"/>
                </a:lnTo>
                <a:lnTo>
                  <a:pt x="199027" y="9051"/>
                </a:lnTo>
                <a:lnTo>
                  <a:pt x="201145" y="8018"/>
                </a:lnTo>
                <a:lnTo>
                  <a:pt x="202559" y="6337"/>
                </a:lnTo>
                <a:lnTo>
                  <a:pt x="203500" y="4225"/>
                </a:lnTo>
                <a:lnTo>
                  <a:pt x="205120" y="2816"/>
                </a:lnTo>
                <a:lnTo>
                  <a:pt x="207192" y="1878"/>
                </a:lnTo>
                <a:lnTo>
                  <a:pt x="21431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SMARTInkAnnotation105"/>
          <p:cNvSpPr/>
          <p:nvPr/>
        </p:nvSpPr>
        <p:spPr>
          <a:xfrm>
            <a:off x="4411800" y="4530600"/>
            <a:ext cx="160200" cy="184320"/>
          </a:xfrm>
          <a:custGeom>
            <a:avLst/>
            <a:gdLst>
              <a:gd name="textAreaLeft" fmla="*/ 0 w 160200"/>
              <a:gd name="textAreaRight" fmla="*/ 160560 w 1602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60696" h="183112">
                <a:moveTo>
                  <a:pt x="17820" y="31833"/>
                </a:moveTo>
                <a:lnTo>
                  <a:pt x="30248" y="19404"/>
                </a:lnTo>
                <a:lnTo>
                  <a:pt x="34043" y="16602"/>
                </a:lnTo>
                <a:lnTo>
                  <a:pt x="38557" y="13741"/>
                </a:lnTo>
                <a:lnTo>
                  <a:pt x="43551" y="10842"/>
                </a:lnTo>
                <a:lnTo>
                  <a:pt x="47872" y="8909"/>
                </a:lnTo>
                <a:lnTo>
                  <a:pt x="51746" y="7621"/>
                </a:lnTo>
                <a:lnTo>
                  <a:pt x="55320" y="6762"/>
                </a:lnTo>
                <a:lnTo>
                  <a:pt x="59687" y="6189"/>
                </a:lnTo>
                <a:lnTo>
                  <a:pt x="64583" y="5808"/>
                </a:lnTo>
                <a:lnTo>
                  <a:pt x="69831" y="5553"/>
                </a:lnTo>
                <a:lnTo>
                  <a:pt x="74323" y="4391"/>
                </a:lnTo>
                <a:lnTo>
                  <a:pt x="78308" y="2624"/>
                </a:lnTo>
                <a:lnTo>
                  <a:pt x="81958" y="454"/>
                </a:lnTo>
                <a:lnTo>
                  <a:pt x="86376" y="0"/>
                </a:lnTo>
                <a:lnTo>
                  <a:pt x="91304" y="689"/>
                </a:lnTo>
                <a:lnTo>
                  <a:pt x="96575" y="2140"/>
                </a:lnTo>
                <a:lnTo>
                  <a:pt x="101081" y="3109"/>
                </a:lnTo>
                <a:lnTo>
                  <a:pt x="105077" y="3754"/>
                </a:lnTo>
                <a:lnTo>
                  <a:pt x="108734" y="4184"/>
                </a:lnTo>
                <a:lnTo>
                  <a:pt x="114148" y="6455"/>
                </a:lnTo>
                <a:lnTo>
                  <a:pt x="120734" y="9953"/>
                </a:lnTo>
                <a:lnTo>
                  <a:pt x="128101" y="14270"/>
                </a:lnTo>
                <a:lnTo>
                  <a:pt x="134997" y="21116"/>
                </a:lnTo>
                <a:lnTo>
                  <a:pt x="141578" y="29650"/>
                </a:lnTo>
                <a:lnTo>
                  <a:pt x="147951" y="39306"/>
                </a:lnTo>
                <a:lnTo>
                  <a:pt x="152198" y="47730"/>
                </a:lnTo>
                <a:lnTo>
                  <a:pt x="155031" y="55329"/>
                </a:lnTo>
                <a:lnTo>
                  <a:pt x="156918" y="62380"/>
                </a:lnTo>
                <a:lnTo>
                  <a:pt x="157185" y="71049"/>
                </a:lnTo>
                <a:lnTo>
                  <a:pt x="156371" y="80797"/>
                </a:lnTo>
                <a:lnTo>
                  <a:pt x="154836" y="91265"/>
                </a:lnTo>
                <a:lnTo>
                  <a:pt x="152820" y="100228"/>
                </a:lnTo>
                <a:lnTo>
                  <a:pt x="150484" y="108187"/>
                </a:lnTo>
                <a:lnTo>
                  <a:pt x="147935" y="115478"/>
                </a:lnTo>
                <a:lnTo>
                  <a:pt x="145243" y="122323"/>
                </a:lnTo>
                <a:lnTo>
                  <a:pt x="142456" y="128871"/>
                </a:lnTo>
                <a:lnTo>
                  <a:pt x="139606" y="135220"/>
                </a:lnTo>
                <a:lnTo>
                  <a:pt x="135722" y="140445"/>
                </a:lnTo>
                <a:lnTo>
                  <a:pt x="131147" y="144921"/>
                </a:lnTo>
                <a:lnTo>
                  <a:pt x="126114" y="148897"/>
                </a:lnTo>
                <a:lnTo>
                  <a:pt x="120773" y="152540"/>
                </a:lnTo>
                <a:lnTo>
                  <a:pt x="115229" y="155961"/>
                </a:lnTo>
                <a:lnTo>
                  <a:pt x="109548" y="159233"/>
                </a:lnTo>
                <a:lnTo>
                  <a:pt x="97945" y="165515"/>
                </a:lnTo>
                <a:lnTo>
                  <a:pt x="74327" y="177633"/>
                </a:lnTo>
                <a:lnTo>
                  <a:pt x="69382" y="179635"/>
                </a:lnTo>
                <a:lnTo>
                  <a:pt x="65092" y="180969"/>
                </a:lnTo>
                <a:lnTo>
                  <a:pt x="61241" y="181858"/>
                </a:lnTo>
                <a:lnTo>
                  <a:pt x="56689" y="182452"/>
                </a:lnTo>
                <a:lnTo>
                  <a:pt x="51670" y="182847"/>
                </a:lnTo>
                <a:lnTo>
                  <a:pt x="46340" y="183111"/>
                </a:lnTo>
                <a:lnTo>
                  <a:pt x="41794" y="182294"/>
                </a:lnTo>
                <a:lnTo>
                  <a:pt x="37771" y="180758"/>
                </a:lnTo>
                <a:lnTo>
                  <a:pt x="34098" y="178741"/>
                </a:lnTo>
                <a:lnTo>
                  <a:pt x="29664" y="177396"/>
                </a:lnTo>
                <a:lnTo>
                  <a:pt x="24723" y="176501"/>
                </a:lnTo>
                <a:lnTo>
                  <a:pt x="19446" y="175903"/>
                </a:lnTo>
                <a:lnTo>
                  <a:pt x="15927" y="174512"/>
                </a:lnTo>
                <a:lnTo>
                  <a:pt x="13582" y="172593"/>
                </a:lnTo>
                <a:lnTo>
                  <a:pt x="9984" y="167815"/>
                </a:lnTo>
                <a:lnTo>
                  <a:pt x="5076" y="162384"/>
                </a:lnTo>
                <a:lnTo>
                  <a:pt x="3371" y="159547"/>
                </a:lnTo>
                <a:lnTo>
                  <a:pt x="2234" y="156663"/>
                </a:lnTo>
                <a:lnTo>
                  <a:pt x="1477" y="153749"/>
                </a:lnTo>
                <a:lnTo>
                  <a:pt x="971" y="150813"/>
                </a:lnTo>
                <a:lnTo>
                  <a:pt x="635" y="147864"/>
                </a:lnTo>
                <a:lnTo>
                  <a:pt x="410" y="144906"/>
                </a:lnTo>
                <a:lnTo>
                  <a:pt x="260" y="141942"/>
                </a:lnTo>
                <a:lnTo>
                  <a:pt x="94" y="136002"/>
                </a:lnTo>
                <a:lnTo>
                  <a:pt x="0" y="127080"/>
                </a:lnTo>
                <a:lnTo>
                  <a:pt x="979" y="124104"/>
                </a:lnTo>
                <a:lnTo>
                  <a:pt x="2623" y="121129"/>
                </a:lnTo>
                <a:lnTo>
                  <a:pt x="4713" y="118152"/>
                </a:lnTo>
                <a:lnTo>
                  <a:pt x="7097" y="116168"/>
                </a:lnTo>
                <a:lnTo>
                  <a:pt x="9680" y="114845"/>
                </a:lnTo>
                <a:lnTo>
                  <a:pt x="12393" y="113964"/>
                </a:lnTo>
                <a:lnTo>
                  <a:pt x="15194" y="112384"/>
                </a:lnTo>
                <a:lnTo>
                  <a:pt x="18054" y="110338"/>
                </a:lnTo>
                <a:lnTo>
                  <a:pt x="20953" y="107982"/>
                </a:lnTo>
                <a:lnTo>
                  <a:pt x="23876" y="106412"/>
                </a:lnTo>
                <a:lnTo>
                  <a:pt x="26819" y="105365"/>
                </a:lnTo>
                <a:lnTo>
                  <a:pt x="29773" y="104666"/>
                </a:lnTo>
                <a:lnTo>
                  <a:pt x="33726" y="104201"/>
                </a:lnTo>
                <a:lnTo>
                  <a:pt x="38346" y="103891"/>
                </a:lnTo>
                <a:lnTo>
                  <a:pt x="47779" y="103546"/>
                </a:lnTo>
                <a:lnTo>
                  <a:pt x="59659" y="103352"/>
                </a:lnTo>
                <a:lnTo>
                  <a:pt x="69818" y="103307"/>
                </a:lnTo>
                <a:lnTo>
                  <a:pt x="74314" y="104287"/>
                </a:lnTo>
                <a:lnTo>
                  <a:pt x="78302" y="105933"/>
                </a:lnTo>
                <a:lnTo>
                  <a:pt x="81954" y="108022"/>
                </a:lnTo>
                <a:lnTo>
                  <a:pt x="91303" y="112989"/>
                </a:lnTo>
                <a:lnTo>
                  <a:pt x="96574" y="115702"/>
                </a:lnTo>
                <a:lnTo>
                  <a:pt x="101080" y="118504"/>
                </a:lnTo>
                <a:lnTo>
                  <a:pt x="105077" y="121363"/>
                </a:lnTo>
                <a:lnTo>
                  <a:pt x="108733" y="124262"/>
                </a:lnTo>
                <a:lnTo>
                  <a:pt x="112163" y="127187"/>
                </a:lnTo>
                <a:lnTo>
                  <a:pt x="115442" y="130129"/>
                </a:lnTo>
                <a:lnTo>
                  <a:pt x="118620" y="133082"/>
                </a:lnTo>
                <a:lnTo>
                  <a:pt x="121731" y="135052"/>
                </a:lnTo>
                <a:lnTo>
                  <a:pt x="124797" y="136364"/>
                </a:lnTo>
                <a:lnTo>
                  <a:pt x="127834" y="137239"/>
                </a:lnTo>
                <a:lnTo>
                  <a:pt x="130849" y="138815"/>
                </a:lnTo>
                <a:lnTo>
                  <a:pt x="133853" y="140858"/>
                </a:lnTo>
                <a:lnTo>
                  <a:pt x="136846" y="143211"/>
                </a:lnTo>
                <a:lnTo>
                  <a:pt x="138844" y="145773"/>
                </a:lnTo>
                <a:lnTo>
                  <a:pt x="140173" y="148473"/>
                </a:lnTo>
                <a:lnTo>
                  <a:pt x="141061" y="151265"/>
                </a:lnTo>
                <a:lnTo>
                  <a:pt x="142644" y="154118"/>
                </a:lnTo>
                <a:lnTo>
                  <a:pt x="144692" y="157013"/>
                </a:lnTo>
                <a:lnTo>
                  <a:pt x="147050" y="159934"/>
                </a:lnTo>
                <a:lnTo>
                  <a:pt x="149614" y="161883"/>
                </a:lnTo>
                <a:lnTo>
                  <a:pt x="152316" y="163181"/>
                </a:lnTo>
                <a:lnTo>
                  <a:pt x="160695" y="1657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SMARTInkAnnotation106"/>
          <p:cNvSpPr/>
          <p:nvPr/>
        </p:nvSpPr>
        <p:spPr>
          <a:xfrm>
            <a:off x="4687920" y="4340160"/>
            <a:ext cx="187200" cy="239760"/>
          </a:xfrm>
          <a:custGeom>
            <a:avLst/>
            <a:gdLst>
              <a:gd name="textAreaLeft" fmla="*/ 0 w 187200"/>
              <a:gd name="textAreaRight" fmla="*/ 187560 w 187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87525" h="239534">
                <a:moveTo>
                  <a:pt x="0" y="89129"/>
                </a:moveTo>
                <a:lnTo>
                  <a:pt x="0" y="106298"/>
                </a:lnTo>
                <a:lnTo>
                  <a:pt x="993" y="111489"/>
                </a:lnTo>
                <a:lnTo>
                  <a:pt x="2646" y="116933"/>
                </a:lnTo>
                <a:lnTo>
                  <a:pt x="4741" y="122548"/>
                </a:lnTo>
                <a:lnTo>
                  <a:pt x="6138" y="128275"/>
                </a:lnTo>
                <a:lnTo>
                  <a:pt x="7069" y="134078"/>
                </a:lnTo>
                <a:lnTo>
                  <a:pt x="7689" y="139931"/>
                </a:lnTo>
                <a:lnTo>
                  <a:pt x="8103" y="145817"/>
                </a:lnTo>
                <a:lnTo>
                  <a:pt x="8379" y="151726"/>
                </a:lnTo>
                <a:lnTo>
                  <a:pt x="8685" y="163582"/>
                </a:lnTo>
                <a:lnTo>
                  <a:pt x="8929" y="225896"/>
                </a:lnTo>
                <a:lnTo>
                  <a:pt x="7937" y="227932"/>
                </a:lnTo>
                <a:lnTo>
                  <a:pt x="6285" y="229289"/>
                </a:lnTo>
                <a:lnTo>
                  <a:pt x="4189" y="230194"/>
                </a:lnTo>
                <a:lnTo>
                  <a:pt x="2793" y="231790"/>
                </a:lnTo>
                <a:lnTo>
                  <a:pt x="1862" y="233846"/>
                </a:lnTo>
                <a:lnTo>
                  <a:pt x="369" y="239533"/>
                </a:lnTo>
                <a:lnTo>
                  <a:pt x="246" y="239008"/>
                </a:lnTo>
                <a:lnTo>
                  <a:pt x="23" y="231757"/>
                </a:lnTo>
                <a:lnTo>
                  <a:pt x="0" y="123101"/>
                </a:lnTo>
                <a:lnTo>
                  <a:pt x="993" y="115746"/>
                </a:lnTo>
                <a:lnTo>
                  <a:pt x="2646" y="108857"/>
                </a:lnTo>
                <a:lnTo>
                  <a:pt x="4741" y="102281"/>
                </a:lnTo>
                <a:lnTo>
                  <a:pt x="6138" y="96905"/>
                </a:lnTo>
                <a:lnTo>
                  <a:pt x="7069" y="92329"/>
                </a:lnTo>
                <a:lnTo>
                  <a:pt x="7689" y="88285"/>
                </a:lnTo>
                <a:lnTo>
                  <a:pt x="9095" y="83606"/>
                </a:lnTo>
                <a:lnTo>
                  <a:pt x="11025" y="78501"/>
                </a:lnTo>
                <a:lnTo>
                  <a:pt x="13304" y="73114"/>
                </a:lnTo>
                <a:lnTo>
                  <a:pt x="14822" y="68531"/>
                </a:lnTo>
                <a:lnTo>
                  <a:pt x="15835" y="64482"/>
                </a:lnTo>
                <a:lnTo>
                  <a:pt x="16510" y="60791"/>
                </a:lnTo>
                <a:lnTo>
                  <a:pt x="17952" y="56346"/>
                </a:lnTo>
                <a:lnTo>
                  <a:pt x="19906" y="51399"/>
                </a:lnTo>
                <a:lnTo>
                  <a:pt x="22201" y="46116"/>
                </a:lnTo>
                <a:lnTo>
                  <a:pt x="24723" y="41602"/>
                </a:lnTo>
                <a:lnTo>
                  <a:pt x="27396" y="37600"/>
                </a:lnTo>
                <a:lnTo>
                  <a:pt x="30170" y="33941"/>
                </a:lnTo>
                <a:lnTo>
                  <a:pt x="33012" y="31501"/>
                </a:lnTo>
                <a:lnTo>
                  <a:pt x="35899" y="29874"/>
                </a:lnTo>
                <a:lnTo>
                  <a:pt x="38816" y="28790"/>
                </a:lnTo>
                <a:lnTo>
                  <a:pt x="41753" y="27074"/>
                </a:lnTo>
                <a:lnTo>
                  <a:pt x="44702" y="24939"/>
                </a:lnTo>
                <a:lnTo>
                  <a:pt x="47661" y="22523"/>
                </a:lnTo>
                <a:lnTo>
                  <a:pt x="50626" y="20912"/>
                </a:lnTo>
                <a:lnTo>
                  <a:pt x="53595" y="19839"/>
                </a:lnTo>
                <a:lnTo>
                  <a:pt x="56566" y="19123"/>
                </a:lnTo>
                <a:lnTo>
                  <a:pt x="59539" y="19638"/>
                </a:lnTo>
                <a:lnTo>
                  <a:pt x="62513" y="20973"/>
                </a:lnTo>
                <a:lnTo>
                  <a:pt x="65488" y="22856"/>
                </a:lnTo>
                <a:lnTo>
                  <a:pt x="68464" y="24111"/>
                </a:lnTo>
                <a:lnTo>
                  <a:pt x="71440" y="24947"/>
                </a:lnTo>
                <a:lnTo>
                  <a:pt x="74416" y="25505"/>
                </a:lnTo>
                <a:lnTo>
                  <a:pt x="76400" y="27861"/>
                </a:lnTo>
                <a:lnTo>
                  <a:pt x="77723" y="31417"/>
                </a:lnTo>
                <a:lnTo>
                  <a:pt x="78605" y="35771"/>
                </a:lnTo>
                <a:lnTo>
                  <a:pt x="82230" y="43256"/>
                </a:lnTo>
                <a:lnTo>
                  <a:pt x="84586" y="46640"/>
                </a:lnTo>
                <a:lnTo>
                  <a:pt x="87148" y="50881"/>
                </a:lnTo>
                <a:lnTo>
                  <a:pt x="89849" y="55693"/>
                </a:lnTo>
                <a:lnTo>
                  <a:pt x="92641" y="60884"/>
                </a:lnTo>
                <a:lnTo>
                  <a:pt x="94504" y="66331"/>
                </a:lnTo>
                <a:lnTo>
                  <a:pt x="95745" y="71946"/>
                </a:lnTo>
                <a:lnTo>
                  <a:pt x="96573" y="77673"/>
                </a:lnTo>
                <a:lnTo>
                  <a:pt x="97124" y="83476"/>
                </a:lnTo>
                <a:lnTo>
                  <a:pt x="97492" y="89329"/>
                </a:lnTo>
                <a:lnTo>
                  <a:pt x="97900" y="101124"/>
                </a:lnTo>
                <a:lnTo>
                  <a:pt x="98163" y="124865"/>
                </a:lnTo>
                <a:lnTo>
                  <a:pt x="98184" y="130812"/>
                </a:lnTo>
                <a:lnTo>
                  <a:pt x="97207" y="136761"/>
                </a:lnTo>
                <a:lnTo>
                  <a:pt x="95562" y="142712"/>
                </a:lnTo>
                <a:lnTo>
                  <a:pt x="93474" y="148663"/>
                </a:lnTo>
                <a:lnTo>
                  <a:pt x="92082" y="153623"/>
                </a:lnTo>
                <a:lnTo>
                  <a:pt x="91153" y="157922"/>
                </a:lnTo>
                <a:lnTo>
                  <a:pt x="90122" y="165344"/>
                </a:lnTo>
                <a:lnTo>
                  <a:pt x="89664" y="171950"/>
                </a:lnTo>
                <a:lnTo>
                  <a:pt x="88549" y="174109"/>
                </a:lnTo>
                <a:lnTo>
                  <a:pt x="86815" y="175548"/>
                </a:lnTo>
                <a:lnTo>
                  <a:pt x="84666" y="176507"/>
                </a:lnTo>
                <a:lnTo>
                  <a:pt x="83233" y="178139"/>
                </a:lnTo>
                <a:lnTo>
                  <a:pt x="82278" y="180219"/>
                </a:lnTo>
                <a:lnTo>
                  <a:pt x="80479" y="186938"/>
                </a:lnTo>
                <a:lnTo>
                  <a:pt x="80390" y="180144"/>
                </a:lnTo>
                <a:lnTo>
                  <a:pt x="80377" y="174890"/>
                </a:lnTo>
                <a:lnTo>
                  <a:pt x="81367" y="172099"/>
                </a:lnTo>
                <a:lnTo>
                  <a:pt x="85111" y="166353"/>
                </a:lnTo>
                <a:lnTo>
                  <a:pt x="86507" y="161448"/>
                </a:lnTo>
                <a:lnTo>
                  <a:pt x="87438" y="155200"/>
                </a:lnTo>
                <a:lnTo>
                  <a:pt x="88057" y="148060"/>
                </a:lnTo>
                <a:lnTo>
                  <a:pt x="88471" y="141314"/>
                </a:lnTo>
                <a:lnTo>
                  <a:pt x="88930" y="128528"/>
                </a:lnTo>
                <a:lnTo>
                  <a:pt x="90045" y="121348"/>
                </a:lnTo>
                <a:lnTo>
                  <a:pt x="91780" y="113585"/>
                </a:lnTo>
                <a:lnTo>
                  <a:pt x="93929" y="105433"/>
                </a:lnTo>
                <a:lnTo>
                  <a:pt x="96354" y="98014"/>
                </a:lnTo>
                <a:lnTo>
                  <a:pt x="98962" y="91083"/>
                </a:lnTo>
                <a:lnTo>
                  <a:pt x="101694" y="84478"/>
                </a:lnTo>
                <a:lnTo>
                  <a:pt x="104507" y="78091"/>
                </a:lnTo>
                <a:lnTo>
                  <a:pt x="110279" y="65702"/>
                </a:lnTo>
                <a:lnTo>
                  <a:pt x="128005" y="29631"/>
                </a:lnTo>
                <a:lnTo>
                  <a:pt x="130978" y="24659"/>
                </a:lnTo>
                <a:lnTo>
                  <a:pt x="133952" y="20352"/>
                </a:lnTo>
                <a:lnTo>
                  <a:pt x="136926" y="16488"/>
                </a:lnTo>
                <a:lnTo>
                  <a:pt x="139902" y="12920"/>
                </a:lnTo>
                <a:lnTo>
                  <a:pt x="142877" y="9549"/>
                </a:lnTo>
                <a:lnTo>
                  <a:pt x="145854" y="6310"/>
                </a:lnTo>
                <a:lnTo>
                  <a:pt x="148829" y="4151"/>
                </a:lnTo>
                <a:lnTo>
                  <a:pt x="151806" y="2711"/>
                </a:lnTo>
                <a:lnTo>
                  <a:pt x="154782" y="1751"/>
                </a:lnTo>
                <a:lnTo>
                  <a:pt x="157759" y="1111"/>
                </a:lnTo>
                <a:lnTo>
                  <a:pt x="160735" y="685"/>
                </a:lnTo>
                <a:lnTo>
                  <a:pt x="167901" y="0"/>
                </a:lnTo>
                <a:lnTo>
                  <a:pt x="171526" y="2552"/>
                </a:lnTo>
                <a:lnTo>
                  <a:pt x="176445" y="6994"/>
                </a:lnTo>
                <a:lnTo>
                  <a:pt x="181938" y="12275"/>
                </a:lnTo>
                <a:lnTo>
                  <a:pt x="183801" y="16065"/>
                </a:lnTo>
                <a:lnTo>
                  <a:pt x="185042" y="20575"/>
                </a:lnTo>
                <a:lnTo>
                  <a:pt x="185870" y="25567"/>
                </a:lnTo>
                <a:lnTo>
                  <a:pt x="186421" y="30879"/>
                </a:lnTo>
                <a:lnTo>
                  <a:pt x="186789" y="36405"/>
                </a:lnTo>
                <a:lnTo>
                  <a:pt x="187033" y="42073"/>
                </a:lnTo>
                <a:lnTo>
                  <a:pt x="187306" y="53664"/>
                </a:lnTo>
                <a:lnTo>
                  <a:pt x="187524" y="176291"/>
                </a:lnTo>
                <a:lnTo>
                  <a:pt x="186532" y="180971"/>
                </a:lnTo>
                <a:lnTo>
                  <a:pt x="184878" y="185083"/>
                </a:lnTo>
                <a:lnTo>
                  <a:pt x="181387" y="192299"/>
                </a:lnTo>
                <a:lnTo>
                  <a:pt x="180456" y="195612"/>
                </a:lnTo>
                <a:lnTo>
                  <a:pt x="178594" y="2052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SMARTInkAnnotation107"/>
          <p:cNvSpPr/>
          <p:nvPr/>
        </p:nvSpPr>
        <p:spPr>
          <a:xfrm>
            <a:off x="4946760" y="4313160"/>
            <a:ext cx="169920" cy="285840"/>
          </a:xfrm>
          <a:custGeom>
            <a:avLst/>
            <a:gdLst>
              <a:gd name="textAreaLeft" fmla="*/ 0 w 169920"/>
              <a:gd name="textAreaRight" fmla="*/ 170280 w 169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69665" h="285596">
                <a:moveTo>
                  <a:pt x="0" y="53578"/>
                </a:moveTo>
                <a:lnTo>
                  <a:pt x="4741" y="53578"/>
                </a:lnTo>
                <a:lnTo>
                  <a:pt x="6138" y="54570"/>
                </a:lnTo>
                <a:lnTo>
                  <a:pt x="7069" y="56223"/>
                </a:lnTo>
                <a:lnTo>
                  <a:pt x="8103" y="60707"/>
                </a:lnTo>
                <a:lnTo>
                  <a:pt x="8562" y="66006"/>
                </a:lnTo>
                <a:lnTo>
                  <a:pt x="9677" y="68809"/>
                </a:lnTo>
                <a:lnTo>
                  <a:pt x="13562" y="74568"/>
                </a:lnTo>
                <a:lnTo>
                  <a:pt x="15950" y="80435"/>
                </a:lnTo>
                <a:lnTo>
                  <a:pt x="18004" y="87343"/>
                </a:lnTo>
                <a:lnTo>
                  <a:pt x="19940" y="91962"/>
                </a:lnTo>
                <a:lnTo>
                  <a:pt x="22223" y="97027"/>
                </a:lnTo>
                <a:lnTo>
                  <a:pt x="24760" y="105300"/>
                </a:lnTo>
                <a:lnTo>
                  <a:pt x="26881" y="113276"/>
                </a:lnTo>
                <a:lnTo>
                  <a:pt x="28834" y="118181"/>
                </a:lnTo>
                <a:lnTo>
                  <a:pt x="31129" y="123435"/>
                </a:lnTo>
                <a:lnTo>
                  <a:pt x="32659" y="128923"/>
                </a:lnTo>
                <a:lnTo>
                  <a:pt x="33679" y="134566"/>
                </a:lnTo>
                <a:lnTo>
                  <a:pt x="34359" y="140312"/>
                </a:lnTo>
                <a:lnTo>
                  <a:pt x="34812" y="145135"/>
                </a:lnTo>
                <a:lnTo>
                  <a:pt x="35316" y="153140"/>
                </a:lnTo>
                <a:lnTo>
                  <a:pt x="36443" y="157655"/>
                </a:lnTo>
                <a:lnTo>
                  <a:pt x="38186" y="162650"/>
                </a:lnTo>
                <a:lnTo>
                  <a:pt x="40340" y="167965"/>
                </a:lnTo>
                <a:lnTo>
                  <a:pt x="41777" y="173492"/>
                </a:lnTo>
                <a:lnTo>
                  <a:pt x="42733" y="179161"/>
                </a:lnTo>
                <a:lnTo>
                  <a:pt x="43372" y="184925"/>
                </a:lnTo>
                <a:lnTo>
                  <a:pt x="44790" y="190752"/>
                </a:lnTo>
                <a:lnTo>
                  <a:pt x="46727" y="196621"/>
                </a:lnTo>
                <a:lnTo>
                  <a:pt x="49012" y="202518"/>
                </a:lnTo>
                <a:lnTo>
                  <a:pt x="50534" y="208433"/>
                </a:lnTo>
                <a:lnTo>
                  <a:pt x="51549" y="214362"/>
                </a:lnTo>
                <a:lnTo>
                  <a:pt x="52225" y="220298"/>
                </a:lnTo>
                <a:lnTo>
                  <a:pt x="53668" y="225248"/>
                </a:lnTo>
                <a:lnTo>
                  <a:pt x="57918" y="233394"/>
                </a:lnTo>
                <a:lnTo>
                  <a:pt x="60468" y="240322"/>
                </a:lnTo>
                <a:lnTo>
                  <a:pt x="61148" y="243558"/>
                </a:lnTo>
                <a:lnTo>
                  <a:pt x="64550" y="249799"/>
                </a:lnTo>
                <a:lnTo>
                  <a:pt x="69368" y="255881"/>
                </a:lnTo>
                <a:lnTo>
                  <a:pt x="72043" y="258892"/>
                </a:lnTo>
                <a:lnTo>
                  <a:pt x="74818" y="261892"/>
                </a:lnTo>
                <a:lnTo>
                  <a:pt x="76668" y="264883"/>
                </a:lnTo>
                <a:lnTo>
                  <a:pt x="78724" y="270853"/>
                </a:lnTo>
                <a:lnTo>
                  <a:pt x="82283" y="276814"/>
                </a:lnTo>
                <a:lnTo>
                  <a:pt x="84621" y="279792"/>
                </a:lnTo>
                <a:lnTo>
                  <a:pt x="87172" y="281778"/>
                </a:lnTo>
                <a:lnTo>
                  <a:pt x="89865" y="283102"/>
                </a:lnTo>
                <a:lnTo>
                  <a:pt x="96575" y="285227"/>
                </a:lnTo>
                <a:lnTo>
                  <a:pt x="100139" y="285517"/>
                </a:lnTo>
                <a:lnTo>
                  <a:pt x="102478" y="285595"/>
                </a:lnTo>
                <a:lnTo>
                  <a:pt x="104038" y="284654"/>
                </a:lnTo>
                <a:lnTo>
                  <a:pt x="105078" y="283035"/>
                </a:lnTo>
                <a:lnTo>
                  <a:pt x="105771" y="280963"/>
                </a:lnTo>
                <a:lnTo>
                  <a:pt x="109187" y="276015"/>
                </a:lnTo>
                <a:lnTo>
                  <a:pt x="111486" y="273307"/>
                </a:lnTo>
                <a:lnTo>
                  <a:pt x="113020" y="269517"/>
                </a:lnTo>
                <a:lnTo>
                  <a:pt x="114042" y="265006"/>
                </a:lnTo>
                <a:lnTo>
                  <a:pt x="114723" y="260015"/>
                </a:lnTo>
                <a:lnTo>
                  <a:pt x="116170" y="254702"/>
                </a:lnTo>
                <a:lnTo>
                  <a:pt x="118127" y="249176"/>
                </a:lnTo>
                <a:lnTo>
                  <a:pt x="120424" y="243508"/>
                </a:lnTo>
                <a:lnTo>
                  <a:pt x="121954" y="237745"/>
                </a:lnTo>
                <a:lnTo>
                  <a:pt x="122975" y="231918"/>
                </a:lnTo>
                <a:lnTo>
                  <a:pt x="123655" y="226049"/>
                </a:lnTo>
                <a:lnTo>
                  <a:pt x="124109" y="219160"/>
                </a:lnTo>
                <a:lnTo>
                  <a:pt x="124411" y="211591"/>
                </a:lnTo>
                <a:lnTo>
                  <a:pt x="124613" y="203569"/>
                </a:lnTo>
                <a:lnTo>
                  <a:pt x="125740" y="196236"/>
                </a:lnTo>
                <a:lnTo>
                  <a:pt x="127482" y="189363"/>
                </a:lnTo>
                <a:lnTo>
                  <a:pt x="129637" y="182796"/>
                </a:lnTo>
                <a:lnTo>
                  <a:pt x="131073" y="176434"/>
                </a:lnTo>
                <a:lnTo>
                  <a:pt x="132030" y="170209"/>
                </a:lnTo>
                <a:lnTo>
                  <a:pt x="132669" y="164074"/>
                </a:lnTo>
                <a:lnTo>
                  <a:pt x="133095" y="158000"/>
                </a:lnTo>
                <a:lnTo>
                  <a:pt x="133378" y="151965"/>
                </a:lnTo>
                <a:lnTo>
                  <a:pt x="133567" y="145958"/>
                </a:lnTo>
                <a:lnTo>
                  <a:pt x="134686" y="138978"/>
                </a:lnTo>
                <a:lnTo>
                  <a:pt x="136423" y="131347"/>
                </a:lnTo>
                <a:lnTo>
                  <a:pt x="138574" y="123283"/>
                </a:lnTo>
                <a:lnTo>
                  <a:pt x="140008" y="115923"/>
                </a:lnTo>
                <a:lnTo>
                  <a:pt x="140964" y="109032"/>
                </a:lnTo>
                <a:lnTo>
                  <a:pt x="141601" y="102453"/>
                </a:lnTo>
                <a:lnTo>
                  <a:pt x="142026" y="96083"/>
                </a:lnTo>
                <a:lnTo>
                  <a:pt x="142309" y="89852"/>
                </a:lnTo>
                <a:lnTo>
                  <a:pt x="142624" y="77637"/>
                </a:lnTo>
                <a:lnTo>
                  <a:pt x="142842" y="52398"/>
                </a:lnTo>
                <a:lnTo>
                  <a:pt x="143846" y="47830"/>
                </a:lnTo>
                <a:lnTo>
                  <a:pt x="145507" y="42800"/>
                </a:lnTo>
                <a:lnTo>
                  <a:pt x="147606" y="37463"/>
                </a:lnTo>
                <a:lnTo>
                  <a:pt x="149939" y="28887"/>
                </a:lnTo>
                <a:lnTo>
                  <a:pt x="150561" y="25211"/>
                </a:lnTo>
                <a:lnTo>
                  <a:pt x="153898" y="18481"/>
                </a:lnTo>
                <a:lnTo>
                  <a:pt x="159384" y="10816"/>
                </a:lnTo>
                <a:lnTo>
                  <a:pt x="160135" y="7122"/>
                </a:lnTo>
                <a:lnTo>
                  <a:pt x="160335" y="4748"/>
                </a:lnTo>
                <a:lnTo>
                  <a:pt x="161460" y="3165"/>
                </a:lnTo>
                <a:lnTo>
                  <a:pt x="163203" y="2110"/>
                </a:lnTo>
                <a:lnTo>
                  <a:pt x="16966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SMARTInkAnnotation108"/>
          <p:cNvSpPr/>
          <p:nvPr/>
        </p:nvSpPr>
        <p:spPr>
          <a:xfrm>
            <a:off x="5170320" y="4446720"/>
            <a:ext cx="61920" cy="187200"/>
          </a:xfrm>
          <a:custGeom>
            <a:avLst/>
            <a:gdLst>
              <a:gd name="textAreaLeft" fmla="*/ 0 w 61920"/>
              <a:gd name="textAreaRight" fmla="*/ 62280 w 619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62499" h="187524">
                <a:moveTo>
                  <a:pt x="62498" y="0"/>
                </a:moveTo>
                <a:lnTo>
                  <a:pt x="37427" y="0"/>
                </a:lnTo>
                <a:lnTo>
                  <a:pt x="35863" y="992"/>
                </a:lnTo>
                <a:lnTo>
                  <a:pt x="33827" y="2645"/>
                </a:lnTo>
                <a:lnTo>
                  <a:pt x="31477" y="4740"/>
                </a:lnTo>
                <a:lnTo>
                  <a:pt x="29912" y="7129"/>
                </a:lnTo>
                <a:lnTo>
                  <a:pt x="28171" y="12429"/>
                </a:lnTo>
                <a:lnTo>
                  <a:pt x="26715" y="15231"/>
                </a:lnTo>
                <a:lnTo>
                  <a:pt x="24753" y="18091"/>
                </a:lnTo>
                <a:lnTo>
                  <a:pt x="22451" y="20990"/>
                </a:lnTo>
                <a:lnTo>
                  <a:pt x="19925" y="23915"/>
                </a:lnTo>
                <a:lnTo>
                  <a:pt x="17250" y="26858"/>
                </a:lnTo>
                <a:lnTo>
                  <a:pt x="14473" y="29812"/>
                </a:lnTo>
                <a:lnTo>
                  <a:pt x="12622" y="32773"/>
                </a:lnTo>
                <a:lnTo>
                  <a:pt x="11388" y="35739"/>
                </a:lnTo>
                <a:lnTo>
                  <a:pt x="10565" y="38708"/>
                </a:lnTo>
                <a:lnTo>
                  <a:pt x="10017" y="42673"/>
                </a:lnTo>
                <a:lnTo>
                  <a:pt x="9651" y="47300"/>
                </a:lnTo>
                <a:lnTo>
                  <a:pt x="9407" y="52370"/>
                </a:lnTo>
                <a:lnTo>
                  <a:pt x="8252" y="56741"/>
                </a:lnTo>
                <a:lnTo>
                  <a:pt x="6491" y="60648"/>
                </a:lnTo>
                <a:lnTo>
                  <a:pt x="4324" y="64244"/>
                </a:lnTo>
                <a:lnTo>
                  <a:pt x="2880" y="68627"/>
                </a:lnTo>
                <a:lnTo>
                  <a:pt x="1917" y="73532"/>
                </a:lnTo>
                <a:lnTo>
                  <a:pt x="1274" y="78787"/>
                </a:lnTo>
                <a:lnTo>
                  <a:pt x="847" y="84275"/>
                </a:lnTo>
                <a:lnTo>
                  <a:pt x="561" y="89917"/>
                </a:lnTo>
                <a:lnTo>
                  <a:pt x="159" y="104694"/>
                </a:lnTo>
                <a:lnTo>
                  <a:pt x="0" y="135537"/>
                </a:lnTo>
                <a:lnTo>
                  <a:pt x="990" y="138975"/>
                </a:lnTo>
                <a:lnTo>
                  <a:pt x="2641" y="142259"/>
                </a:lnTo>
                <a:lnTo>
                  <a:pt x="4734" y="145441"/>
                </a:lnTo>
                <a:lnTo>
                  <a:pt x="6130" y="148554"/>
                </a:lnTo>
                <a:lnTo>
                  <a:pt x="7060" y="151622"/>
                </a:lnTo>
                <a:lnTo>
                  <a:pt x="7679" y="154659"/>
                </a:lnTo>
                <a:lnTo>
                  <a:pt x="8094" y="157677"/>
                </a:lnTo>
                <a:lnTo>
                  <a:pt x="8369" y="160680"/>
                </a:lnTo>
                <a:lnTo>
                  <a:pt x="8552" y="163675"/>
                </a:lnTo>
                <a:lnTo>
                  <a:pt x="9668" y="166663"/>
                </a:lnTo>
                <a:lnTo>
                  <a:pt x="11403" y="169648"/>
                </a:lnTo>
                <a:lnTo>
                  <a:pt x="13552" y="172630"/>
                </a:lnTo>
                <a:lnTo>
                  <a:pt x="14985" y="175610"/>
                </a:lnTo>
                <a:lnTo>
                  <a:pt x="15939" y="178589"/>
                </a:lnTo>
                <a:lnTo>
                  <a:pt x="17850" y="1875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SMARTInkAnnotation109"/>
          <p:cNvSpPr/>
          <p:nvPr/>
        </p:nvSpPr>
        <p:spPr>
          <a:xfrm>
            <a:off x="5126040" y="4535640"/>
            <a:ext cx="98280" cy="18720"/>
          </a:xfrm>
          <a:custGeom>
            <a:avLst/>
            <a:gdLst>
              <a:gd name="textAreaLeft" fmla="*/ 0 w 98280"/>
              <a:gd name="textAreaRight" fmla="*/ 98640 w 9828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98228" h="17861">
                <a:moveTo>
                  <a:pt x="0" y="17860"/>
                </a:moveTo>
                <a:lnTo>
                  <a:pt x="4741" y="13119"/>
                </a:lnTo>
                <a:lnTo>
                  <a:pt x="7129" y="11723"/>
                </a:lnTo>
                <a:lnTo>
                  <a:pt x="9714" y="10791"/>
                </a:lnTo>
                <a:lnTo>
                  <a:pt x="12429" y="10171"/>
                </a:lnTo>
                <a:lnTo>
                  <a:pt x="15232" y="9757"/>
                </a:lnTo>
                <a:lnTo>
                  <a:pt x="18091" y="9481"/>
                </a:lnTo>
                <a:lnTo>
                  <a:pt x="20991" y="9298"/>
                </a:lnTo>
                <a:lnTo>
                  <a:pt x="29503" y="9093"/>
                </a:lnTo>
                <a:lnTo>
                  <a:pt x="34552" y="9038"/>
                </a:lnTo>
                <a:lnTo>
                  <a:pt x="38910" y="8010"/>
                </a:lnTo>
                <a:lnTo>
                  <a:pt x="42807" y="6333"/>
                </a:lnTo>
                <a:lnTo>
                  <a:pt x="46398" y="4222"/>
                </a:lnTo>
                <a:lnTo>
                  <a:pt x="50776" y="2814"/>
                </a:lnTo>
                <a:lnTo>
                  <a:pt x="55679" y="1876"/>
                </a:lnTo>
                <a:lnTo>
                  <a:pt x="60932" y="1251"/>
                </a:lnTo>
                <a:lnTo>
                  <a:pt x="65425" y="834"/>
                </a:lnTo>
                <a:lnTo>
                  <a:pt x="69414" y="556"/>
                </a:lnTo>
                <a:lnTo>
                  <a:pt x="73065" y="371"/>
                </a:lnTo>
                <a:lnTo>
                  <a:pt x="79768" y="164"/>
                </a:lnTo>
                <a:lnTo>
                  <a:pt x="98227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SMARTInkAnnotation110"/>
          <p:cNvSpPr/>
          <p:nvPr/>
        </p:nvSpPr>
        <p:spPr>
          <a:xfrm>
            <a:off x="5286240" y="4152960"/>
            <a:ext cx="152640" cy="1141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51805" h="115670">
                <a:moveTo>
                  <a:pt x="0" y="8927"/>
                </a:moveTo>
                <a:lnTo>
                  <a:pt x="4740" y="4187"/>
                </a:lnTo>
                <a:lnTo>
                  <a:pt x="7128" y="2790"/>
                </a:lnTo>
                <a:lnTo>
                  <a:pt x="9714" y="1859"/>
                </a:lnTo>
                <a:lnTo>
                  <a:pt x="12429" y="1239"/>
                </a:lnTo>
                <a:lnTo>
                  <a:pt x="15231" y="825"/>
                </a:lnTo>
                <a:lnTo>
                  <a:pt x="18091" y="549"/>
                </a:lnTo>
                <a:lnTo>
                  <a:pt x="20990" y="365"/>
                </a:lnTo>
                <a:lnTo>
                  <a:pt x="29503" y="161"/>
                </a:lnTo>
                <a:lnTo>
                  <a:pt x="65376" y="0"/>
                </a:lnTo>
                <a:lnTo>
                  <a:pt x="69381" y="1984"/>
                </a:lnTo>
                <a:lnTo>
                  <a:pt x="74035" y="5290"/>
                </a:lnTo>
                <a:lnTo>
                  <a:pt x="79122" y="9479"/>
                </a:lnTo>
                <a:lnTo>
                  <a:pt x="83506" y="13264"/>
                </a:lnTo>
                <a:lnTo>
                  <a:pt x="87420" y="16779"/>
                </a:lnTo>
                <a:lnTo>
                  <a:pt x="91022" y="20115"/>
                </a:lnTo>
                <a:lnTo>
                  <a:pt x="93424" y="24323"/>
                </a:lnTo>
                <a:lnTo>
                  <a:pt x="95024" y="29113"/>
                </a:lnTo>
                <a:lnTo>
                  <a:pt x="96092" y="34290"/>
                </a:lnTo>
                <a:lnTo>
                  <a:pt x="96804" y="38735"/>
                </a:lnTo>
                <a:lnTo>
                  <a:pt x="97277" y="42689"/>
                </a:lnTo>
                <a:lnTo>
                  <a:pt x="97594" y="46318"/>
                </a:lnTo>
                <a:lnTo>
                  <a:pt x="97804" y="50721"/>
                </a:lnTo>
                <a:lnTo>
                  <a:pt x="98039" y="60906"/>
                </a:lnTo>
                <a:lnTo>
                  <a:pt x="97109" y="65408"/>
                </a:lnTo>
                <a:lnTo>
                  <a:pt x="95497" y="69401"/>
                </a:lnTo>
                <a:lnTo>
                  <a:pt x="93430" y="73055"/>
                </a:lnTo>
                <a:lnTo>
                  <a:pt x="92052" y="76484"/>
                </a:lnTo>
                <a:lnTo>
                  <a:pt x="91133" y="79762"/>
                </a:lnTo>
                <a:lnTo>
                  <a:pt x="90521" y="82939"/>
                </a:lnTo>
                <a:lnTo>
                  <a:pt x="89120" y="86050"/>
                </a:lnTo>
                <a:lnTo>
                  <a:pt x="87195" y="89115"/>
                </a:lnTo>
                <a:lnTo>
                  <a:pt x="84919" y="92151"/>
                </a:lnTo>
                <a:lnTo>
                  <a:pt x="82409" y="95168"/>
                </a:lnTo>
                <a:lnTo>
                  <a:pt x="79744" y="98171"/>
                </a:lnTo>
                <a:lnTo>
                  <a:pt x="76975" y="101165"/>
                </a:lnTo>
                <a:lnTo>
                  <a:pt x="74137" y="103161"/>
                </a:lnTo>
                <a:lnTo>
                  <a:pt x="71253" y="104492"/>
                </a:lnTo>
                <a:lnTo>
                  <a:pt x="68337" y="105379"/>
                </a:lnTo>
                <a:lnTo>
                  <a:pt x="65402" y="106962"/>
                </a:lnTo>
                <a:lnTo>
                  <a:pt x="62453" y="109010"/>
                </a:lnTo>
                <a:lnTo>
                  <a:pt x="59495" y="111368"/>
                </a:lnTo>
                <a:lnTo>
                  <a:pt x="56530" y="112940"/>
                </a:lnTo>
                <a:lnTo>
                  <a:pt x="53562" y="113987"/>
                </a:lnTo>
                <a:lnTo>
                  <a:pt x="50591" y="114686"/>
                </a:lnTo>
                <a:lnTo>
                  <a:pt x="47618" y="115152"/>
                </a:lnTo>
                <a:lnTo>
                  <a:pt x="44643" y="115462"/>
                </a:lnTo>
                <a:lnTo>
                  <a:pt x="41668" y="115669"/>
                </a:lnTo>
                <a:lnTo>
                  <a:pt x="39685" y="114815"/>
                </a:lnTo>
                <a:lnTo>
                  <a:pt x="38363" y="113253"/>
                </a:lnTo>
                <a:lnTo>
                  <a:pt x="37481" y="111220"/>
                </a:lnTo>
                <a:lnTo>
                  <a:pt x="35902" y="109864"/>
                </a:lnTo>
                <a:lnTo>
                  <a:pt x="33856" y="108961"/>
                </a:lnTo>
                <a:lnTo>
                  <a:pt x="27202" y="107259"/>
                </a:lnTo>
                <a:lnTo>
                  <a:pt x="26973" y="104554"/>
                </a:lnTo>
                <a:lnTo>
                  <a:pt x="26870" y="100045"/>
                </a:lnTo>
                <a:lnTo>
                  <a:pt x="26800" y="90906"/>
                </a:lnTo>
                <a:lnTo>
                  <a:pt x="29439" y="87364"/>
                </a:lnTo>
                <a:lnTo>
                  <a:pt x="31532" y="85031"/>
                </a:lnTo>
                <a:lnTo>
                  <a:pt x="33920" y="83475"/>
                </a:lnTo>
                <a:lnTo>
                  <a:pt x="36503" y="82438"/>
                </a:lnTo>
                <a:lnTo>
                  <a:pt x="43039" y="80774"/>
                </a:lnTo>
                <a:lnTo>
                  <a:pt x="46579" y="80546"/>
                </a:lnTo>
                <a:lnTo>
                  <a:pt x="51459" y="80445"/>
                </a:lnTo>
                <a:lnTo>
                  <a:pt x="83353" y="80365"/>
                </a:lnTo>
                <a:lnTo>
                  <a:pt x="87319" y="81357"/>
                </a:lnTo>
                <a:lnTo>
                  <a:pt x="91947" y="83010"/>
                </a:lnTo>
                <a:lnTo>
                  <a:pt x="97016" y="85105"/>
                </a:lnTo>
                <a:lnTo>
                  <a:pt x="101389" y="86501"/>
                </a:lnTo>
                <a:lnTo>
                  <a:pt x="105296" y="87433"/>
                </a:lnTo>
                <a:lnTo>
                  <a:pt x="108893" y="88053"/>
                </a:lnTo>
                <a:lnTo>
                  <a:pt x="112282" y="89459"/>
                </a:lnTo>
                <a:lnTo>
                  <a:pt x="115534" y="91388"/>
                </a:lnTo>
                <a:lnTo>
                  <a:pt x="118695" y="93667"/>
                </a:lnTo>
                <a:lnTo>
                  <a:pt x="121794" y="95186"/>
                </a:lnTo>
                <a:lnTo>
                  <a:pt x="124852" y="96199"/>
                </a:lnTo>
                <a:lnTo>
                  <a:pt x="127884" y="96874"/>
                </a:lnTo>
                <a:lnTo>
                  <a:pt x="130896" y="97323"/>
                </a:lnTo>
                <a:lnTo>
                  <a:pt x="133897" y="97623"/>
                </a:lnTo>
                <a:lnTo>
                  <a:pt x="136889" y="97824"/>
                </a:lnTo>
                <a:lnTo>
                  <a:pt x="139876" y="97957"/>
                </a:lnTo>
                <a:lnTo>
                  <a:pt x="151804" y="982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SMARTInkAnnotation111"/>
          <p:cNvSpPr/>
          <p:nvPr/>
        </p:nvSpPr>
        <p:spPr>
          <a:xfrm>
            <a:off x="5384880" y="4429080"/>
            <a:ext cx="196920" cy="176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6454" h="17860">
                <a:moveTo>
                  <a:pt x="0" y="17859"/>
                </a:moveTo>
                <a:lnTo>
                  <a:pt x="7689" y="10171"/>
                </a:lnTo>
                <a:lnTo>
                  <a:pt x="9094" y="9757"/>
                </a:lnTo>
                <a:lnTo>
                  <a:pt x="13303" y="9297"/>
                </a:lnTo>
                <a:lnTo>
                  <a:pt x="16806" y="9175"/>
                </a:lnTo>
                <a:lnTo>
                  <a:pt x="34041" y="8978"/>
                </a:lnTo>
                <a:lnTo>
                  <a:pt x="70196" y="8931"/>
                </a:lnTo>
                <a:lnTo>
                  <a:pt x="74578" y="7938"/>
                </a:lnTo>
                <a:lnTo>
                  <a:pt x="78493" y="6284"/>
                </a:lnTo>
                <a:lnTo>
                  <a:pt x="82094" y="4189"/>
                </a:lnTo>
                <a:lnTo>
                  <a:pt x="85488" y="2793"/>
                </a:lnTo>
                <a:lnTo>
                  <a:pt x="88741" y="1862"/>
                </a:lnTo>
                <a:lnTo>
                  <a:pt x="91903" y="1241"/>
                </a:lnTo>
                <a:lnTo>
                  <a:pt x="95995" y="827"/>
                </a:lnTo>
                <a:lnTo>
                  <a:pt x="100708" y="551"/>
                </a:lnTo>
                <a:lnTo>
                  <a:pt x="110243" y="245"/>
                </a:lnTo>
                <a:lnTo>
                  <a:pt x="122182" y="72"/>
                </a:lnTo>
                <a:lnTo>
                  <a:pt x="19645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SMARTInkAnnotation112"/>
          <p:cNvSpPr/>
          <p:nvPr/>
        </p:nvSpPr>
        <p:spPr>
          <a:xfrm>
            <a:off x="5705640" y="4152960"/>
            <a:ext cx="27000" cy="303120"/>
          </a:xfrm>
          <a:custGeom>
            <a:avLst/>
            <a:gdLst>
              <a:gd name="textAreaLeft" fmla="*/ 0 w 27000"/>
              <a:gd name="textAreaRight" fmla="*/ 27360 w 270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6758" h="303611">
                <a:moveTo>
                  <a:pt x="17859" y="0"/>
                </a:moveTo>
                <a:lnTo>
                  <a:pt x="17859" y="21250"/>
                </a:lnTo>
                <a:lnTo>
                  <a:pt x="18852" y="25080"/>
                </a:lnTo>
                <a:lnTo>
                  <a:pt x="20505" y="29619"/>
                </a:lnTo>
                <a:lnTo>
                  <a:pt x="22600" y="34629"/>
                </a:lnTo>
                <a:lnTo>
                  <a:pt x="23997" y="39953"/>
                </a:lnTo>
                <a:lnTo>
                  <a:pt x="24927" y="45487"/>
                </a:lnTo>
                <a:lnTo>
                  <a:pt x="25548" y="51161"/>
                </a:lnTo>
                <a:lnTo>
                  <a:pt x="25961" y="56927"/>
                </a:lnTo>
                <a:lnTo>
                  <a:pt x="26238" y="62757"/>
                </a:lnTo>
                <a:lnTo>
                  <a:pt x="26544" y="74525"/>
                </a:lnTo>
                <a:lnTo>
                  <a:pt x="26757" y="104195"/>
                </a:lnTo>
                <a:lnTo>
                  <a:pt x="25775" y="111135"/>
                </a:lnTo>
                <a:lnTo>
                  <a:pt x="24129" y="118739"/>
                </a:lnTo>
                <a:lnTo>
                  <a:pt x="22040" y="126784"/>
                </a:lnTo>
                <a:lnTo>
                  <a:pt x="20645" y="134132"/>
                </a:lnTo>
                <a:lnTo>
                  <a:pt x="19717" y="141016"/>
                </a:lnTo>
                <a:lnTo>
                  <a:pt x="19097" y="147588"/>
                </a:lnTo>
                <a:lnTo>
                  <a:pt x="17693" y="154947"/>
                </a:lnTo>
                <a:lnTo>
                  <a:pt x="15764" y="162829"/>
                </a:lnTo>
                <a:lnTo>
                  <a:pt x="13486" y="171061"/>
                </a:lnTo>
                <a:lnTo>
                  <a:pt x="11967" y="179525"/>
                </a:lnTo>
                <a:lnTo>
                  <a:pt x="10955" y="188145"/>
                </a:lnTo>
                <a:lnTo>
                  <a:pt x="10279" y="196867"/>
                </a:lnTo>
                <a:lnTo>
                  <a:pt x="9829" y="204667"/>
                </a:lnTo>
                <a:lnTo>
                  <a:pt x="9330" y="218624"/>
                </a:lnTo>
                <a:lnTo>
                  <a:pt x="9009" y="243754"/>
                </a:lnTo>
                <a:lnTo>
                  <a:pt x="8965" y="255841"/>
                </a:lnTo>
                <a:lnTo>
                  <a:pt x="7961" y="261842"/>
                </a:lnTo>
                <a:lnTo>
                  <a:pt x="6299" y="267827"/>
                </a:lnTo>
                <a:lnTo>
                  <a:pt x="4199" y="273801"/>
                </a:lnTo>
                <a:lnTo>
                  <a:pt x="2800" y="278777"/>
                </a:lnTo>
                <a:lnTo>
                  <a:pt x="1866" y="283086"/>
                </a:lnTo>
                <a:lnTo>
                  <a:pt x="1244" y="286951"/>
                </a:lnTo>
                <a:lnTo>
                  <a:pt x="553" y="293890"/>
                </a:lnTo>
                <a:lnTo>
                  <a:pt x="0" y="30361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SMARTInkAnnotation113"/>
          <p:cNvSpPr/>
          <p:nvPr/>
        </p:nvSpPr>
        <p:spPr>
          <a:xfrm>
            <a:off x="5572080" y="4459320"/>
            <a:ext cx="231840" cy="41400"/>
          </a:xfrm>
          <a:custGeom>
            <a:avLst/>
            <a:gdLst>
              <a:gd name="textAreaLeft" fmla="*/ 0 w 231840"/>
              <a:gd name="textAreaRight" fmla="*/ 232200 w 23184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32172" h="40857">
                <a:moveTo>
                  <a:pt x="0" y="40856"/>
                </a:moveTo>
                <a:lnTo>
                  <a:pt x="12429" y="40856"/>
                </a:lnTo>
                <a:lnTo>
                  <a:pt x="15231" y="39864"/>
                </a:lnTo>
                <a:lnTo>
                  <a:pt x="18091" y="38211"/>
                </a:lnTo>
                <a:lnTo>
                  <a:pt x="20990" y="36116"/>
                </a:lnTo>
                <a:lnTo>
                  <a:pt x="23915" y="34720"/>
                </a:lnTo>
                <a:lnTo>
                  <a:pt x="26858" y="33788"/>
                </a:lnTo>
                <a:lnTo>
                  <a:pt x="32773" y="32754"/>
                </a:lnTo>
                <a:lnTo>
                  <a:pt x="38708" y="32295"/>
                </a:lnTo>
                <a:lnTo>
                  <a:pt x="44654" y="32090"/>
                </a:lnTo>
                <a:lnTo>
                  <a:pt x="56226" y="31975"/>
                </a:lnTo>
                <a:lnTo>
                  <a:pt x="61296" y="31959"/>
                </a:lnTo>
                <a:lnTo>
                  <a:pt x="65669" y="30956"/>
                </a:lnTo>
                <a:lnTo>
                  <a:pt x="69575" y="29295"/>
                </a:lnTo>
                <a:lnTo>
                  <a:pt x="73173" y="27196"/>
                </a:lnTo>
                <a:lnTo>
                  <a:pt x="76563" y="25796"/>
                </a:lnTo>
                <a:lnTo>
                  <a:pt x="79816" y="24863"/>
                </a:lnTo>
                <a:lnTo>
                  <a:pt x="82976" y="24241"/>
                </a:lnTo>
                <a:lnTo>
                  <a:pt x="87067" y="22834"/>
                </a:lnTo>
                <a:lnTo>
                  <a:pt x="91779" y="20904"/>
                </a:lnTo>
                <a:lnTo>
                  <a:pt x="96905" y="18625"/>
                </a:lnTo>
                <a:lnTo>
                  <a:pt x="102306" y="17106"/>
                </a:lnTo>
                <a:lnTo>
                  <a:pt x="107891" y="16093"/>
                </a:lnTo>
                <a:lnTo>
                  <a:pt x="113600" y="15417"/>
                </a:lnTo>
                <a:lnTo>
                  <a:pt x="119389" y="13975"/>
                </a:lnTo>
                <a:lnTo>
                  <a:pt x="125233" y="12021"/>
                </a:lnTo>
                <a:lnTo>
                  <a:pt x="131114" y="9727"/>
                </a:lnTo>
                <a:lnTo>
                  <a:pt x="136026" y="8197"/>
                </a:lnTo>
                <a:lnTo>
                  <a:pt x="140293" y="7177"/>
                </a:lnTo>
                <a:lnTo>
                  <a:pt x="144131" y="6497"/>
                </a:lnTo>
                <a:lnTo>
                  <a:pt x="148672" y="6043"/>
                </a:lnTo>
                <a:lnTo>
                  <a:pt x="153686" y="5741"/>
                </a:lnTo>
                <a:lnTo>
                  <a:pt x="164546" y="5406"/>
                </a:lnTo>
                <a:lnTo>
                  <a:pt x="188846" y="5173"/>
                </a:lnTo>
                <a:lnTo>
                  <a:pt x="192374" y="4168"/>
                </a:lnTo>
                <a:lnTo>
                  <a:pt x="195718" y="2507"/>
                </a:lnTo>
                <a:lnTo>
                  <a:pt x="198939" y="407"/>
                </a:lnTo>
                <a:lnTo>
                  <a:pt x="202079" y="0"/>
                </a:lnTo>
                <a:lnTo>
                  <a:pt x="205165" y="720"/>
                </a:lnTo>
                <a:lnTo>
                  <a:pt x="208214" y="2192"/>
                </a:lnTo>
                <a:lnTo>
                  <a:pt x="211239" y="3174"/>
                </a:lnTo>
                <a:lnTo>
                  <a:pt x="217246" y="4265"/>
                </a:lnTo>
                <a:lnTo>
                  <a:pt x="223223" y="4749"/>
                </a:lnTo>
                <a:lnTo>
                  <a:pt x="232171" y="513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SMARTInkAnnotation114"/>
          <p:cNvSpPr/>
          <p:nvPr/>
        </p:nvSpPr>
        <p:spPr>
          <a:xfrm>
            <a:off x="5591160" y="4518000"/>
            <a:ext cx="185760" cy="1969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86998" h="196455">
                <a:moveTo>
                  <a:pt x="26263" y="0"/>
                </a:moveTo>
                <a:lnTo>
                  <a:pt x="52253" y="0"/>
                </a:lnTo>
                <a:lnTo>
                  <a:pt x="56488" y="993"/>
                </a:lnTo>
                <a:lnTo>
                  <a:pt x="60304" y="2646"/>
                </a:lnTo>
                <a:lnTo>
                  <a:pt x="63840" y="4741"/>
                </a:lnTo>
                <a:lnTo>
                  <a:pt x="68182" y="6137"/>
                </a:lnTo>
                <a:lnTo>
                  <a:pt x="73060" y="7068"/>
                </a:lnTo>
                <a:lnTo>
                  <a:pt x="78297" y="7689"/>
                </a:lnTo>
                <a:lnTo>
                  <a:pt x="82780" y="9095"/>
                </a:lnTo>
                <a:lnTo>
                  <a:pt x="86762" y="11025"/>
                </a:lnTo>
                <a:lnTo>
                  <a:pt x="90408" y="13303"/>
                </a:lnTo>
                <a:lnTo>
                  <a:pt x="93831" y="15814"/>
                </a:lnTo>
                <a:lnTo>
                  <a:pt x="97106" y="18480"/>
                </a:lnTo>
                <a:lnTo>
                  <a:pt x="100280" y="21250"/>
                </a:lnTo>
                <a:lnTo>
                  <a:pt x="104382" y="25081"/>
                </a:lnTo>
                <a:lnTo>
                  <a:pt x="114230" y="34629"/>
                </a:lnTo>
                <a:lnTo>
                  <a:pt x="117650" y="38962"/>
                </a:lnTo>
                <a:lnTo>
                  <a:pt x="119930" y="42842"/>
                </a:lnTo>
                <a:lnTo>
                  <a:pt x="121451" y="46421"/>
                </a:lnTo>
                <a:lnTo>
                  <a:pt x="125785" y="55689"/>
                </a:lnTo>
                <a:lnTo>
                  <a:pt x="128329" y="60939"/>
                </a:lnTo>
                <a:lnTo>
                  <a:pt x="130026" y="66423"/>
                </a:lnTo>
                <a:lnTo>
                  <a:pt x="131158" y="72064"/>
                </a:lnTo>
                <a:lnTo>
                  <a:pt x="131912" y="77808"/>
                </a:lnTo>
                <a:lnTo>
                  <a:pt x="132414" y="83622"/>
                </a:lnTo>
                <a:lnTo>
                  <a:pt x="132749" y="89483"/>
                </a:lnTo>
                <a:lnTo>
                  <a:pt x="133122" y="101286"/>
                </a:lnTo>
                <a:lnTo>
                  <a:pt x="133287" y="113146"/>
                </a:lnTo>
                <a:lnTo>
                  <a:pt x="132339" y="118095"/>
                </a:lnTo>
                <a:lnTo>
                  <a:pt x="130714" y="122386"/>
                </a:lnTo>
                <a:lnTo>
                  <a:pt x="126264" y="130793"/>
                </a:lnTo>
                <a:lnTo>
                  <a:pt x="120979" y="141143"/>
                </a:lnTo>
                <a:lnTo>
                  <a:pt x="118180" y="145689"/>
                </a:lnTo>
                <a:lnTo>
                  <a:pt x="115323" y="149712"/>
                </a:lnTo>
                <a:lnTo>
                  <a:pt x="112425" y="153386"/>
                </a:lnTo>
                <a:lnTo>
                  <a:pt x="108509" y="156828"/>
                </a:lnTo>
                <a:lnTo>
                  <a:pt x="103914" y="160115"/>
                </a:lnTo>
                <a:lnTo>
                  <a:pt x="98866" y="163298"/>
                </a:lnTo>
                <a:lnTo>
                  <a:pt x="94509" y="166412"/>
                </a:lnTo>
                <a:lnTo>
                  <a:pt x="90612" y="169481"/>
                </a:lnTo>
                <a:lnTo>
                  <a:pt x="87022" y="172519"/>
                </a:lnTo>
                <a:lnTo>
                  <a:pt x="82644" y="174543"/>
                </a:lnTo>
                <a:lnTo>
                  <a:pt x="77741" y="175894"/>
                </a:lnTo>
                <a:lnTo>
                  <a:pt x="72488" y="176794"/>
                </a:lnTo>
                <a:lnTo>
                  <a:pt x="67994" y="178386"/>
                </a:lnTo>
                <a:lnTo>
                  <a:pt x="64005" y="180440"/>
                </a:lnTo>
                <a:lnTo>
                  <a:pt x="60355" y="182801"/>
                </a:lnTo>
                <a:lnTo>
                  <a:pt x="55936" y="184375"/>
                </a:lnTo>
                <a:lnTo>
                  <a:pt x="51005" y="185425"/>
                </a:lnTo>
                <a:lnTo>
                  <a:pt x="45734" y="186125"/>
                </a:lnTo>
                <a:lnTo>
                  <a:pt x="41229" y="185599"/>
                </a:lnTo>
                <a:lnTo>
                  <a:pt x="37232" y="184256"/>
                </a:lnTo>
                <a:lnTo>
                  <a:pt x="33575" y="182369"/>
                </a:lnTo>
                <a:lnTo>
                  <a:pt x="30146" y="181111"/>
                </a:lnTo>
                <a:lnTo>
                  <a:pt x="26867" y="180272"/>
                </a:lnTo>
                <a:lnTo>
                  <a:pt x="23689" y="179713"/>
                </a:lnTo>
                <a:lnTo>
                  <a:pt x="20579" y="178348"/>
                </a:lnTo>
                <a:lnTo>
                  <a:pt x="17512" y="176446"/>
                </a:lnTo>
                <a:lnTo>
                  <a:pt x="14476" y="174185"/>
                </a:lnTo>
                <a:lnTo>
                  <a:pt x="11460" y="171686"/>
                </a:lnTo>
                <a:lnTo>
                  <a:pt x="8457" y="169028"/>
                </a:lnTo>
                <a:lnTo>
                  <a:pt x="5462" y="166263"/>
                </a:lnTo>
                <a:lnTo>
                  <a:pt x="3466" y="163428"/>
                </a:lnTo>
                <a:lnTo>
                  <a:pt x="1249" y="157632"/>
                </a:lnTo>
                <a:lnTo>
                  <a:pt x="263" y="151750"/>
                </a:lnTo>
                <a:lnTo>
                  <a:pt x="0" y="148792"/>
                </a:lnTo>
                <a:lnTo>
                  <a:pt x="817" y="145827"/>
                </a:lnTo>
                <a:lnTo>
                  <a:pt x="4370" y="139888"/>
                </a:lnTo>
                <a:lnTo>
                  <a:pt x="7208" y="135706"/>
                </a:lnTo>
                <a:lnTo>
                  <a:pt x="10584" y="134127"/>
                </a:lnTo>
                <a:lnTo>
                  <a:pt x="15810" y="132082"/>
                </a:lnTo>
                <a:lnTo>
                  <a:pt x="22271" y="129727"/>
                </a:lnTo>
                <a:lnTo>
                  <a:pt x="27570" y="128157"/>
                </a:lnTo>
                <a:lnTo>
                  <a:pt x="32096" y="127110"/>
                </a:lnTo>
                <a:lnTo>
                  <a:pt x="36105" y="126412"/>
                </a:lnTo>
                <a:lnTo>
                  <a:pt x="39769" y="125947"/>
                </a:lnTo>
                <a:lnTo>
                  <a:pt x="43205" y="125637"/>
                </a:lnTo>
                <a:lnTo>
                  <a:pt x="46487" y="125430"/>
                </a:lnTo>
                <a:lnTo>
                  <a:pt x="55427" y="125200"/>
                </a:lnTo>
                <a:lnTo>
                  <a:pt x="77333" y="125053"/>
                </a:lnTo>
                <a:lnTo>
                  <a:pt x="82139" y="126033"/>
                </a:lnTo>
                <a:lnTo>
                  <a:pt x="86333" y="127678"/>
                </a:lnTo>
                <a:lnTo>
                  <a:pt x="90123" y="129768"/>
                </a:lnTo>
                <a:lnTo>
                  <a:pt x="104936" y="137448"/>
                </a:lnTo>
                <a:lnTo>
                  <a:pt x="109470" y="140250"/>
                </a:lnTo>
                <a:lnTo>
                  <a:pt x="113484" y="143109"/>
                </a:lnTo>
                <a:lnTo>
                  <a:pt x="117153" y="146008"/>
                </a:lnTo>
                <a:lnTo>
                  <a:pt x="121583" y="148932"/>
                </a:lnTo>
                <a:lnTo>
                  <a:pt x="126521" y="151874"/>
                </a:lnTo>
                <a:lnTo>
                  <a:pt x="131797" y="154828"/>
                </a:lnTo>
                <a:lnTo>
                  <a:pt x="136306" y="157789"/>
                </a:lnTo>
                <a:lnTo>
                  <a:pt x="140305" y="160755"/>
                </a:lnTo>
                <a:lnTo>
                  <a:pt x="143963" y="163725"/>
                </a:lnTo>
                <a:lnTo>
                  <a:pt x="147394" y="166696"/>
                </a:lnTo>
                <a:lnTo>
                  <a:pt x="150673" y="169671"/>
                </a:lnTo>
                <a:lnTo>
                  <a:pt x="156963" y="175620"/>
                </a:lnTo>
                <a:lnTo>
                  <a:pt x="176293" y="194690"/>
                </a:lnTo>
                <a:lnTo>
                  <a:pt x="177877" y="195278"/>
                </a:lnTo>
                <a:lnTo>
                  <a:pt x="179925" y="195670"/>
                </a:lnTo>
                <a:lnTo>
                  <a:pt x="186997" y="19645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SMARTInkAnnotation115"/>
          <p:cNvSpPr/>
          <p:nvPr/>
        </p:nvSpPr>
        <p:spPr>
          <a:xfrm>
            <a:off x="5875200" y="4394160"/>
            <a:ext cx="179640" cy="177840"/>
          </a:xfrm>
          <a:custGeom>
            <a:avLst/>
            <a:gdLst>
              <a:gd name="textAreaLeft" fmla="*/ 0 w 179640"/>
              <a:gd name="textAreaRight" fmla="*/ 180000 w 17964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78595" h="177926">
                <a:moveTo>
                  <a:pt x="0" y="26246"/>
                </a:moveTo>
                <a:lnTo>
                  <a:pt x="0" y="30986"/>
                </a:lnTo>
                <a:lnTo>
                  <a:pt x="992" y="33375"/>
                </a:lnTo>
                <a:lnTo>
                  <a:pt x="4740" y="38675"/>
                </a:lnTo>
                <a:lnTo>
                  <a:pt x="6137" y="42469"/>
                </a:lnTo>
                <a:lnTo>
                  <a:pt x="7068" y="46984"/>
                </a:lnTo>
                <a:lnTo>
                  <a:pt x="7689" y="51978"/>
                </a:lnTo>
                <a:lnTo>
                  <a:pt x="8102" y="57291"/>
                </a:lnTo>
                <a:lnTo>
                  <a:pt x="8378" y="62818"/>
                </a:lnTo>
                <a:lnTo>
                  <a:pt x="8562" y="68486"/>
                </a:lnTo>
                <a:lnTo>
                  <a:pt x="9676" y="74250"/>
                </a:lnTo>
                <a:lnTo>
                  <a:pt x="11412" y="80077"/>
                </a:lnTo>
                <a:lnTo>
                  <a:pt x="13561" y="85946"/>
                </a:lnTo>
                <a:lnTo>
                  <a:pt x="14994" y="91842"/>
                </a:lnTo>
                <a:lnTo>
                  <a:pt x="15950" y="97758"/>
                </a:lnTo>
                <a:lnTo>
                  <a:pt x="16585" y="103686"/>
                </a:lnTo>
                <a:lnTo>
                  <a:pt x="17010" y="109623"/>
                </a:lnTo>
                <a:lnTo>
                  <a:pt x="17294" y="115565"/>
                </a:lnTo>
                <a:lnTo>
                  <a:pt x="17692" y="130763"/>
                </a:lnTo>
                <a:lnTo>
                  <a:pt x="17748" y="134619"/>
                </a:lnTo>
                <a:lnTo>
                  <a:pt x="16792" y="139175"/>
                </a:lnTo>
                <a:lnTo>
                  <a:pt x="15164" y="144196"/>
                </a:lnTo>
                <a:lnTo>
                  <a:pt x="13085" y="149528"/>
                </a:lnTo>
                <a:lnTo>
                  <a:pt x="11700" y="154074"/>
                </a:lnTo>
                <a:lnTo>
                  <a:pt x="10777" y="158098"/>
                </a:lnTo>
                <a:lnTo>
                  <a:pt x="9295" y="166943"/>
                </a:lnTo>
                <a:lnTo>
                  <a:pt x="9092" y="170799"/>
                </a:lnTo>
                <a:lnTo>
                  <a:pt x="8933" y="177925"/>
                </a:lnTo>
                <a:lnTo>
                  <a:pt x="8930" y="157057"/>
                </a:lnTo>
                <a:lnTo>
                  <a:pt x="9922" y="153140"/>
                </a:lnTo>
                <a:lnTo>
                  <a:pt x="11576" y="148546"/>
                </a:lnTo>
                <a:lnTo>
                  <a:pt x="13670" y="143498"/>
                </a:lnTo>
                <a:lnTo>
                  <a:pt x="15067" y="139140"/>
                </a:lnTo>
                <a:lnTo>
                  <a:pt x="15998" y="135243"/>
                </a:lnTo>
                <a:lnTo>
                  <a:pt x="16618" y="131653"/>
                </a:lnTo>
                <a:lnTo>
                  <a:pt x="17032" y="127275"/>
                </a:lnTo>
                <a:lnTo>
                  <a:pt x="17308" y="122372"/>
                </a:lnTo>
                <a:lnTo>
                  <a:pt x="17491" y="117119"/>
                </a:lnTo>
                <a:lnTo>
                  <a:pt x="18606" y="111632"/>
                </a:lnTo>
                <a:lnTo>
                  <a:pt x="20342" y="105991"/>
                </a:lnTo>
                <a:lnTo>
                  <a:pt x="22491" y="100246"/>
                </a:lnTo>
                <a:lnTo>
                  <a:pt x="23924" y="95423"/>
                </a:lnTo>
                <a:lnTo>
                  <a:pt x="24879" y="91215"/>
                </a:lnTo>
                <a:lnTo>
                  <a:pt x="25515" y="87418"/>
                </a:lnTo>
                <a:lnTo>
                  <a:pt x="25940" y="82902"/>
                </a:lnTo>
                <a:lnTo>
                  <a:pt x="26223" y="77908"/>
                </a:lnTo>
                <a:lnTo>
                  <a:pt x="26412" y="72593"/>
                </a:lnTo>
                <a:lnTo>
                  <a:pt x="27530" y="68058"/>
                </a:lnTo>
                <a:lnTo>
                  <a:pt x="29267" y="64043"/>
                </a:lnTo>
                <a:lnTo>
                  <a:pt x="31418" y="60374"/>
                </a:lnTo>
                <a:lnTo>
                  <a:pt x="33843" y="54951"/>
                </a:lnTo>
                <a:lnTo>
                  <a:pt x="36454" y="48359"/>
                </a:lnTo>
                <a:lnTo>
                  <a:pt x="39185" y="40988"/>
                </a:lnTo>
                <a:lnTo>
                  <a:pt x="41999" y="35082"/>
                </a:lnTo>
                <a:lnTo>
                  <a:pt x="44866" y="30153"/>
                </a:lnTo>
                <a:lnTo>
                  <a:pt x="47770" y="25873"/>
                </a:lnTo>
                <a:lnTo>
                  <a:pt x="49707" y="22029"/>
                </a:lnTo>
                <a:lnTo>
                  <a:pt x="50997" y="18474"/>
                </a:lnTo>
                <a:lnTo>
                  <a:pt x="51858" y="15111"/>
                </a:lnTo>
                <a:lnTo>
                  <a:pt x="53423" y="11878"/>
                </a:lnTo>
                <a:lnTo>
                  <a:pt x="55460" y="8730"/>
                </a:lnTo>
                <a:lnTo>
                  <a:pt x="57808" y="5639"/>
                </a:lnTo>
                <a:lnTo>
                  <a:pt x="60367" y="3578"/>
                </a:lnTo>
                <a:lnTo>
                  <a:pt x="63065" y="2204"/>
                </a:lnTo>
                <a:lnTo>
                  <a:pt x="69784" y="0"/>
                </a:lnTo>
                <a:lnTo>
                  <a:pt x="71328" y="811"/>
                </a:lnTo>
                <a:lnTo>
                  <a:pt x="75689" y="4358"/>
                </a:lnTo>
                <a:lnTo>
                  <a:pt x="80934" y="9242"/>
                </a:lnTo>
                <a:lnTo>
                  <a:pt x="83722" y="11934"/>
                </a:lnTo>
                <a:lnTo>
                  <a:pt x="85580" y="14720"/>
                </a:lnTo>
                <a:lnTo>
                  <a:pt x="86819" y="17570"/>
                </a:lnTo>
                <a:lnTo>
                  <a:pt x="87645" y="20462"/>
                </a:lnTo>
                <a:lnTo>
                  <a:pt x="88196" y="24374"/>
                </a:lnTo>
                <a:lnTo>
                  <a:pt x="88562" y="28967"/>
                </a:lnTo>
                <a:lnTo>
                  <a:pt x="88808" y="34013"/>
                </a:lnTo>
                <a:lnTo>
                  <a:pt x="89963" y="39362"/>
                </a:lnTo>
                <a:lnTo>
                  <a:pt x="91725" y="44911"/>
                </a:lnTo>
                <a:lnTo>
                  <a:pt x="93892" y="50595"/>
                </a:lnTo>
                <a:lnTo>
                  <a:pt x="95337" y="56370"/>
                </a:lnTo>
                <a:lnTo>
                  <a:pt x="96301" y="62203"/>
                </a:lnTo>
                <a:lnTo>
                  <a:pt x="96943" y="68077"/>
                </a:lnTo>
                <a:lnTo>
                  <a:pt x="97371" y="73977"/>
                </a:lnTo>
                <a:lnTo>
                  <a:pt x="97656" y="79895"/>
                </a:lnTo>
                <a:lnTo>
                  <a:pt x="97846" y="85824"/>
                </a:lnTo>
                <a:lnTo>
                  <a:pt x="96981" y="90769"/>
                </a:lnTo>
                <a:lnTo>
                  <a:pt x="95412" y="95059"/>
                </a:lnTo>
                <a:lnTo>
                  <a:pt x="93374" y="98910"/>
                </a:lnTo>
                <a:lnTo>
                  <a:pt x="92015" y="102470"/>
                </a:lnTo>
                <a:lnTo>
                  <a:pt x="91108" y="105836"/>
                </a:lnTo>
                <a:lnTo>
                  <a:pt x="90505" y="109071"/>
                </a:lnTo>
                <a:lnTo>
                  <a:pt x="90103" y="112221"/>
                </a:lnTo>
                <a:lnTo>
                  <a:pt x="89834" y="115312"/>
                </a:lnTo>
                <a:lnTo>
                  <a:pt x="89656" y="118366"/>
                </a:lnTo>
                <a:lnTo>
                  <a:pt x="89456" y="124404"/>
                </a:lnTo>
                <a:lnTo>
                  <a:pt x="89298" y="133356"/>
                </a:lnTo>
                <a:lnTo>
                  <a:pt x="89297" y="120969"/>
                </a:lnTo>
                <a:lnTo>
                  <a:pt x="90289" y="118168"/>
                </a:lnTo>
                <a:lnTo>
                  <a:pt x="91943" y="115309"/>
                </a:lnTo>
                <a:lnTo>
                  <a:pt x="94037" y="112410"/>
                </a:lnTo>
                <a:lnTo>
                  <a:pt x="96425" y="108493"/>
                </a:lnTo>
                <a:lnTo>
                  <a:pt x="99011" y="103898"/>
                </a:lnTo>
                <a:lnTo>
                  <a:pt x="101726" y="98850"/>
                </a:lnTo>
                <a:lnTo>
                  <a:pt x="103535" y="93500"/>
                </a:lnTo>
                <a:lnTo>
                  <a:pt x="104743" y="87950"/>
                </a:lnTo>
                <a:lnTo>
                  <a:pt x="105547" y="82264"/>
                </a:lnTo>
                <a:lnTo>
                  <a:pt x="107076" y="76490"/>
                </a:lnTo>
                <a:lnTo>
                  <a:pt x="109087" y="70656"/>
                </a:lnTo>
                <a:lnTo>
                  <a:pt x="111420" y="64783"/>
                </a:lnTo>
                <a:lnTo>
                  <a:pt x="113967" y="59874"/>
                </a:lnTo>
                <a:lnTo>
                  <a:pt x="116658" y="55611"/>
                </a:lnTo>
                <a:lnTo>
                  <a:pt x="119444" y="51775"/>
                </a:lnTo>
                <a:lnTo>
                  <a:pt x="122293" y="47234"/>
                </a:lnTo>
                <a:lnTo>
                  <a:pt x="125185" y="42223"/>
                </a:lnTo>
                <a:lnTo>
                  <a:pt x="128105" y="36897"/>
                </a:lnTo>
                <a:lnTo>
                  <a:pt x="131044" y="33347"/>
                </a:lnTo>
                <a:lnTo>
                  <a:pt x="133996" y="30980"/>
                </a:lnTo>
                <a:lnTo>
                  <a:pt x="136955" y="29402"/>
                </a:lnTo>
                <a:lnTo>
                  <a:pt x="138929" y="27357"/>
                </a:lnTo>
                <a:lnTo>
                  <a:pt x="140244" y="25003"/>
                </a:lnTo>
                <a:lnTo>
                  <a:pt x="141121" y="22441"/>
                </a:lnTo>
                <a:lnTo>
                  <a:pt x="142698" y="20733"/>
                </a:lnTo>
                <a:lnTo>
                  <a:pt x="144741" y="19594"/>
                </a:lnTo>
                <a:lnTo>
                  <a:pt x="149657" y="18329"/>
                </a:lnTo>
                <a:lnTo>
                  <a:pt x="155150" y="17766"/>
                </a:lnTo>
                <a:lnTo>
                  <a:pt x="158003" y="17616"/>
                </a:lnTo>
                <a:lnTo>
                  <a:pt x="163820" y="17449"/>
                </a:lnTo>
                <a:lnTo>
                  <a:pt x="165769" y="18397"/>
                </a:lnTo>
                <a:lnTo>
                  <a:pt x="167068" y="20021"/>
                </a:lnTo>
                <a:lnTo>
                  <a:pt x="167933" y="22096"/>
                </a:lnTo>
                <a:lnTo>
                  <a:pt x="169502" y="23480"/>
                </a:lnTo>
                <a:lnTo>
                  <a:pt x="171541" y="24402"/>
                </a:lnTo>
                <a:lnTo>
                  <a:pt x="173892" y="25016"/>
                </a:lnTo>
                <a:lnTo>
                  <a:pt x="175459" y="27411"/>
                </a:lnTo>
                <a:lnTo>
                  <a:pt x="176503" y="30991"/>
                </a:lnTo>
                <a:lnTo>
                  <a:pt x="177200" y="35363"/>
                </a:lnTo>
                <a:lnTo>
                  <a:pt x="177665" y="39269"/>
                </a:lnTo>
                <a:lnTo>
                  <a:pt x="177974" y="42866"/>
                </a:lnTo>
                <a:lnTo>
                  <a:pt x="178181" y="46255"/>
                </a:lnTo>
                <a:lnTo>
                  <a:pt x="178410" y="55313"/>
                </a:lnTo>
                <a:lnTo>
                  <a:pt x="178594" y="15126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SMARTInkAnnotation116"/>
          <p:cNvSpPr/>
          <p:nvPr/>
        </p:nvSpPr>
        <p:spPr>
          <a:xfrm>
            <a:off x="6072120" y="4340160"/>
            <a:ext cx="133560" cy="239760"/>
          </a:xfrm>
          <a:custGeom>
            <a:avLst/>
            <a:gdLst>
              <a:gd name="textAreaLeft" fmla="*/ 0 w 133560"/>
              <a:gd name="textAreaRight" fmla="*/ 133920 w 133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33947" h="239706">
                <a:moveTo>
                  <a:pt x="0" y="26789"/>
                </a:moveTo>
                <a:lnTo>
                  <a:pt x="0" y="34477"/>
                </a:lnTo>
                <a:lnTo>
                  <a:pt x="2646" y="40459"/>
                </a:lnTo>
                <a:lnTo>
                  <a:pt x="4740" y="44831"/>
                </a:lnTo>
                <a:lnTo>
                  <a:pt x="6138" y="48739"/>
                </a:lnTo>
                <a:lnTo>
                  <a:pt x="7689" y="55727"/>
                </a:lnTo>
                <a:lnTo>
                  <a:pt x="8102" y="59972"/>
                </a:lnTo>
                <a:lnTo>
                  <a:pt x="8379" y="64785"/>
                </a:lnTo>
                <a:lnTo>
                  <a:pt x="8685" y="74434"/>
                </a:lnTo>
                <a:lnTo>
                  <a:pt x="8821" y="82029"/>
                </a:lnTo>
                <a:lnTo>
                  <a:pt x="9849" y="86436"/>
                </a:lnTo>
                <a:lnTo>
                  <a:pt x="11526" y="91358"/>
                </a:lnTo>
                <a:lnTo>
                  <a:pt x="13638" y="96624"/>
                </a:lnTo>
                <a:lnTo>
                  <a:pt x="15045" y="101127"/>
                </a:lnTo>
                <a:lnTo>
                  <a:pt x="15983" y="105121"/>
                </a:lnTo>
                <a:lnTo>
                  <a:pt x="16609" y="108776"/>
                </a:lnTo>
                <a:lnTo>
                  <a:pt x="17025" y="113197"/>
                </a:lnTo>
                <a:lnTo>
                  <a:pt x="17303" y="118129"/>
                </a:lnTo>
                <a:lnTo>
                  <a:pt x="17489" y="123401"/>
                </a:lnTo>
                <a:lnTo>
                  <a:pt x="18605" y="128900"/>
                </a:lnTo>
                <a:lnTo>
                  <a:pt x="20341" y="134550"/>
                </a:lnTo>
                <a:lnTo>
                  <a:pt x="22490" y="140302"/>
                </a:lnTo>
                <a:lnTo>
                  <a:pt x="23923" y="146121"/>
                </a:lnTo>
                <a:lnTo>
                  <a:pt x="24878" y="151984"/>
                </a:lnTo>
                <a:lnTo>
                  <a:pt x="25515" y="157877"/>
                </a:lnTo>
                <a:lnTo>
                  <a:pt x="26932" y="163791"/>
                </a:lnTo>
                <a:lnTo>
                  <a:pt x="28870" y="169717"/>
                </a:lnTo>
                <a:lnTo>
                  <a:pt x="31152" y="175652"/>
                </a:lnTo>
                <a:lnTo>
                  <a:pt x="32675" y="180602"/>
                </a:lnTo>
                <a:lnTo>
                  <a:pt x="33689" y="184893"/>
                </a:lnTo>
                <a:lnTo>
                  <a:pt x="34816" y="192307"/>
                </a:lnTo>
                <a:lnTo>
                  <a:pt x="35319" y="198910"/>
                </a:lnTo>
                <a:lnTo>
                  <a:pt x="36444" y="202059"/>
                </a:lnTo>
                <a:lnTo>
                  <a:pt x="40341" y="208205"/>
                </a:lnTo>
                <a:lnTo>
                  <a:pt x="42734" y="214244"/>
                </a:lnTo>
                <a:lnTo>
                  <a:pt x="43373" y="217244"/>
                </a:lnTo>
                <a:lnTo>
                  <a:pt x="46727" y="223222"/>
                </a:lnTo>
                <a:lnTo>
                  <a:pt x="52225" y="230404"/>
                </a:lnTo>
                <a:lnTo>
                  <a:pt x="55623" y="234031"/>
                </a:lnTo>
                <a:lnTo>
                  <a:pt x="61148" y="239705"/>
                </a:lnTo>
                <a:lnTo>
                  <a:pt x="61601" y="239178"/>
                </a:lnTo>
                <a:lnTo>
                  <a:pt x="62105" y="235947"/>
                </a:lnTo>
                <a:lnTo>
                  <a:pt x="63232" y="234689"/>
                </a:lnTo>
                <a:lnTo>
                  <a:pt x="64975" y="233849"/>
                </a:lnTo>
                <a:lnTo>
                  <a:pt x="67129" y="233290"/>
                </a:lnTo>
                <a:lnTo>
                  <a:pt x="68566" y="231925"/>
                </a:lnTo>
                <a:lnTo>
                  <a:pt x="69522" y="230024"/>
                </a:lnTo>
                <a:lnTo>
                  <a:pt x="70586" y="225264"/>
                </a:lnTo>
                <a:lnTo>
                  <a:pt x="71059" y="219841"/>
                </a:lnTo>
                <a:lnTo>
                  <a:pt x="72177" y="216014"/>
                </a:lnTo>
                <a:lnTo>
                  <a:pt x="73915" y="211477"/>
                </a:lnTo>
                <a:lnTo>
                  <a:pt x="76066" y="206470"/>
                </a:lnTo>
                <a:lnTo>
                  <a:pt x="81101" y="195613"/>
                </a:lnTo>
                <a:lnTo>
                  <a:pt x="83833" y="189940"/>
                </a:lnTo>
                <a:lnTo>
                  <a:pt x="85654" y="184173"/>
                </a:lnTo>
                <a:lnTo>
                  <a:pt x="86869" y="178345"/>
                </a:lnTo>
                <a:lnTo>
                  <a:pt x="87679" y="172474"/>
                </a:lnTo>
                <a:lnTo>
                  <a:pt x="89210" y="166577"/>
                </a:lnTo>
                <a:lnTo>
                  <a:pt x="91223" y="160661"/>
                </a:lnTo>
                <a:lnTo>
                  <a:pt x="93557" y="154732"/>
                </a:lnTo>
                <a:lnTo>
                  <a:pt x="95114" y="148795"/>
                </a:lnTo>
                <a:lnTo>
                  <a:pt x="96152" y="142853"/>
                </a:lnTo>
                <a:lnTo>
                  <a:pt x="96844" y="136907"/>
                </a:lnTo>
                <a:lnTo>
                  <a:pt x="97305" y="130959"/>
                </a:lnTo>
                <a:lnTo>
                  <a:pt x="97612" y="125009"/>
                </a:lnTo>
                <a:lnTo>
                  <a:pt x="97817" y="119058"/>
                </a:lnTo>
                <a:lnTo>
                  <a:pt x="98946" y="112114"/>
                </a:lnTo>
                <a:lnTo>
                  <a:pt x="100690" y="104508"/>
                </a:lnTo>
                <a:lnTo>
                  <a:pt x="102846" y="96461"/>
                </a:lnTo>
                <a:lnTo>
                  <a:pt x="104283" y="89112"/>
                </a:lnTo>
                <a:lnTo>
                  <a:pt x="105240" y="82228"/>
                </a:lnTo>
                <a:lnTo>
                  <a:pt x="105878" y="75655"/>
                </a:lnTo>
                <a:lnTo>
                  <a:pt x="107297" y="69288"/>
                </a:lnTo>
                <a:lnTo>
                  <a:pt x="109234" y="63059"/>
                </a:lnTo>
                <a:lnTo>
                  <a:pt x="111518" y="56922"/>
                </a:lnTo>
                <a:lnTo>
                  <a:pt x="113041" y="50846"/>
                </a:lnTo>
                <a:lnTo>
                  <a:pt x="114056" y="44811"/>
                </a:lnTo>
                <a:lnTo>
                  <a:pt x="114733" y="38804"/>
                </a:lnTo>
                <a:lnTo>
                  <a:pt x="116176" y="33806"/>
                </a:lnTo>
                <a:lnTo>
                  <a:pt x="118130" y="29483"/>
                </a:lnTo>
                <a:lnTo>
                  <a:pt x="121956" y="22033"/>
                </a:lnTo>
                <a:lnTo>
                  <a:pt x="123656" y="15415"/>
                </a:lnTo>
                <a:lnTo>
                  <a:pt x="127057" y="9166"/>
                </a:lnTo>
                <a:lnTo>
                  <a:pt x="13394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SMARTInkAnnotation117"/>
          <p:cNvSpPr/>
          <p:nvPr/>
        </p:nvSpPr>
        <p:spPr>
          <a:xfrm>
            <a:off x="6232680" y="4483080"/>
            <a:ext cx="54000" cy="115920"/>
          </a:xfrm>
          <a:custGeom>
            <a:avLst/>
            <a:gdLst>
              <a:gd name="textAreaLeft" fmla="*/ 0 w 54000"/>
              <a:gd name="textAreaRight" fmla="*/ 54360 w 5400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53579" h="116087">
                <a:moveTo>
                  <a:pt x="0" y="0"/>
                </a:moveTo>
                <a:lnTo>
                  <a:pt x="0" y="74047"/>
                </a:lnTo>
                <a:lnTo>
                  <a:pt x="992" y="77146"/>
                </a:lnTo>
                <a:lnTo>
                  <a:pt x="2645" y="80204"/>
                </a:lnTo>
                <a:lnTo>
                  <a:pt x="4740" y="83235"/>
                </a:lnTo>
                <a:lnTo>
                  <a:pt x="7128" y="86247"/>
                </a:lnTo>
                <a:lnTo>
                  <a:pt x="9714" y="89248"/>
                </a:lnTo>
                <a:lnTo>
                  <a:pt x="12428" y="92241"/>
                </a:lnTo>
                <a:lnTo>
                  <a:pt x="14238" y="95228"/>
                </a:lnTo>
                <a:lnTo>
                  <a:pt x="15446" y="98211"/>
                </a:lnTo>
                <a:lnTo>
                  <a:pt x="16250" y="101193"/>
                </a:lnTo>
                <a:lnTo>
                  <a:pt x="17779" y="103181"/>
                </a:lnTo>
                <a:lnTo>
                  <a:pt x="19790" y="104506"/>
                </a:lnTo>
                <a:lnTo>
                  <a:pt x="22122" y="105390"/>
                </a:lnTo>
                <a:lnTo>
                  <a:pt x="24670" y="106970"/>
                </a:lnTo>
                <a:lnTo>
                  <a:pt x="27361" y="109017"/>
                </a:lnTo>
                <a:lnTo>
                  <a:pt x="30147" y="111373"/>
                </a:lnTo>
                <a:lnTo>
                  <a:pt x="32996" y="112944"/>
                </a:lnTo>
                <a:lnTo>
                  <a:pt x="35887" y="113992"/>
                </a:lnTo>
                <a:lnTo>
                  <a:pt x="38808" y="114689"/>
                </a:lnTo>
                <a:lnTo>
                  <a:pt x="41747" y="115155"/>
                </a:lnTo>
                <a:lnTo>
                  <a:pt x="44698" y="115465"/>
                </a:lnTo>
                <a:lnTo>
                  <a:pt x="53578" y="11608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SMARTInkAnnotation118"/>
          <p:cNvSpPr/>
          <p:nvPr/>
        </p:nvSpPr>
        <p:spPr>
          <a:xfrm>
            <a:off x="6249960" y="4419720"/>
            <a:ext cx="9720" cy="360"/>
          </a:xfrm>
          <a:custGeom>
            <a:avLst/>
            <a:gdLst>
              <a:gd name="textAreaLeft" fmla="*/ 0 w 9720"/>
              <a:gd name="textAreaRight" fmla="*/ 10080 w 97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931" h="1">
                <a:moveTo>
                  <a:pt x="0" y="0"/>
                </a:moveTo>
                <a:lnTo>
                  <a:pt x="893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SMARTInkAnnotation119"/>
          <p:cNvSpPr/>
          <p:nvPr/>
        </p:nvSpPr>
        <p:spPr>
          <a:xfrm>
            <a:off x="6323040" y="4170240"/>
            <a:ext cx="160200" cy="150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9339" h="150140">
                <a:moveTo>
                  <a:pt x="7533" y="8562"/>
                </a:moveTo>
                <a:lnTo>
                  <a:pt x="17014" y="3821"/>
                </a:lnTo>
                <a:lnTo>
                  <a:pt x="20799" y="2425"/>
                </a:lnTo>
                <a:lnTo>
                  <a:pt x="24315" y="1493"/>
                </a:lnTo>
                <a:lnTo>
                  <a:pt x="27650" y="873"/>
                </a:lnTo>
                <a:lnTo>
                  <a:pt x="30867" y="459"/>
                </a:lnTo>
                <a:lnTo>
                  <a:pt x="34003" y="183"/>
                </a:lnTo>
                <a:lnTo>
                  <a:pt x="37086" y="0"/>
                </a:lnTo>
                <a:lnTo>
                  <a:pt x="40133" y="869"/>
                </a:lnTo>
                <a:lnTo>
                  <a:pt x="43158" y="2441"/>
                </a:lnTo>
                <a:lnTo>
                  <a:pt x="46165" y="4481"/>
                </a:lnTo>
                <a:lnTo>
                  <a:pt x="49163" y="6833"/>
                </a:lnTo>
                <a:lnTo>
                  <a:pt x="52153" y="9394"/>
                </a:lnTo>
                <a:lnTo>
                  <a:pt x="55140" y="12093"/>
                </a:lnTo>
                <a:lnTo>
                  <a:pt x="59114" y="14885"/>
                </a:lnTo>
                <a:lnTo>
                  <a:pt x="63748" y="17738"/>
                </a:lnTo>
                <a:lnTo>
                  <a:pt x="68823" y="20632"/>
                </a:lnTo>
                <a:lnTo>
                  <a:pt x="73198" y="24546"/>
                </a:lnTo>
                <a:lnTo>
                  <a:pt x="77107" y="29139"/>
                </a:lnTo>
                <a:lnTo>
                  <a:pt x="80704" y="34187"/>
                </a:lnTo>
                <a:lnTo>
                  <a:pt x="83104" y="38544"/>
                </a:lnTo>
                <a:lnTo>
                  <a:pt x="84702" y="42440"/>
                </a:lnTo>
                <a:lnTo>
                  <a:pt x="85768" y="46030"/>
                </a:lnTo>
                <a:lnTo>
                  <a:pt x="87472" y="50408"/>
                </a:lnTo>
                <a:lnTo>
                  <a:pt x="89598" y="55310"/>
                </a:lnTo>
                <a:lnTo>
                  <a:pt x="92008" y="60563"/>
                </a:lnTo>
                <a:lnTo>
                  <a:pt x="93616" y="66050"/>
                </a:lnTo>
                <a:lnTo>
                  <a:pt x="94687" y="71692"/>
                </a:lnTo>
                <a:lnTo>
                  <a:pt x="95402" y="77437"/>
                </a:lnTo>
                <a:lnTo>
                  <a:pt x="95878" y="83252"/>
                </a:lnTo>
                <a:lnTo>
                  <a:pt x="96195" y="89113"/>
                </a:lnTo>
                <a:lnTo>
                  <a:pt x="96406" y="95005"/>
                </a:lnTo>
                <a:lnTo>
                  <a:pt x="95556" y="99925"/>
                </a:lnTo>
                <a:lnTo>
                  <a:pt x="93996" y="104197"/>
                </a:lnTo>
                <a:lnTo>
                  <a:pt x="91964" y="108037"/>
                </a:lnTo>
                <a:lnTo>
                  <a:pt x="90610" y="112582"/>
                </a:lnTo>
                <a:lnTo>
                  <a:pt x="89707" y="117596"/>
                </a:lnTo>
                <a:lnTo>
                  <a:pt x="89105" y="122923"/>
                </a:lnTo>
                <a:lnTo>
                  <a:pt x="87711" y="127466"/>
                </a:lnTo>
                <a:lnTo>
                  <a:pt x="85790" y="131487"/>
                </a:lnTo>
                <a:lnTo>
                  <a:pt x="83517" y="135160"/>
                </a:lnTo>
                <a:lnTo>
                  <a:pt x="81009" y="137609"/>
                </a:lnTo>
                <a:lnTo>
                  <a:pt x="78345" y="139242"/>
                </a:lnTo>
                <a:lnTo>
                  <a:pt x="75578" y="140330"/>
                </a:lnTo>
                <a:lnTo>
                  <a:pt x="72740" y="141055"/>
                </a:lnTo>
                <a:lnTo>
                  <a:pt x="69855" y="141540"/>
                </a:lnTo>
                <a:lnTo>
                  <a:pt x="66941" y="141862"/>
                </a:lnTo>
                <a:lnTo>
                  <a:pt x="63014" y="143069"/>
                </a:lnTo>
                <a:lnTo>
                  <a:pt x="58410" y="144866"/>
                </a:lnTo>
                <a:lnTo>
                  <a:pt x="53358" y="147057"/>
                </a:lnTo>
                <a:lnTo>
                  <a:pt x="48997" y="148516"/>
                </a:lnTo>
                <a:lnTo>
                  <a:pt x="45097" y="149490"/>
                </a:lnTo>
                <a:lnTo>
                  <a:pt x="41506" y="150139"/>
                </a:lnTo>
                <a:lnTo>
                  <a:pt x="38119" y="149579"/>
                </a:lnTo>
                <a:lnTo>
                  <a:pt x="34870" y="148214"/>
                </a:lnTo>
                <a:lnTo>
                  <a:pt x="31711" y="146311"/>
                </a:lnTo>
                <a:lnTo>
                  <a:pt x="28613" y="145044"/>
                </a:lnTo>
                <a:lnTo>
                  <a:pt x="25555" y="144198"/>
                </a:lnTo>
                <a:lnTo>
                  <a:pt x="22524" y="143634"/>
                </a:lnTo>
                <a:lnTo>
                  <a:pt x="19512" y="143258"/>
                </a:lnTo>
                <a:lnTo>
                  <a:pt x="16511" y="143008"/>
                </a:lnTo>
                <a:lnTo>
                  <a:pt x="13518" y="142841"/>
                </a:lnTo>
                <a:lnTo>
                  <a:pt x="11523" y="141737"/>
                </a:lnTo>
                <a:lnTo>
                  <a:pt x="10194" y="140009"/>
                </a:lnTo>
                <a:lnTo>
                  <a:pt x="9307" y="137865"/>
                </a:lnTo>
                <a:lnTo>
                  <a:pt x="7723" y="136436"/>
                </a:lnTo>
                <a:lnTo>
                  <a:pt x="5676" y="135483"/>
                </a:lnTo>
                <a:lnTo>
                  <a:pt x="3319" y="134848"/>
                </a:lnTo>
                <a:lnTo>
                  <a:pt x="1747" y="133432"/>
                </a:lnTo>
                <a:lnTo>
                  <a:pt x="699" y="131496"/>
                </a:lnTo>
                <a:lnTo>
                  <a:pt x="0" y="129213"/>
                </a:lnTo>
                <a:lnTo>
                  <a:pt x="528" y="127691"/>
                </a:lnTo>
                <a:lnTo>
                  <a:pt x="1871" y="126676"/>
                </a:lnTo>
                <a:lnTo>
                  <a:pt x="6415" y="125048"/>
                </a:lnTo>
                <a:lnTo>
                  <a:pt x="9682" y="122180"/>
                </a:lnTo>
                <a:lnTo>
                  <a:pt x="11942" y="120026"/>
                </a:lnTo>
                <a:lnTo>
                  <a:pt x="14441" y="118590"/>
                </a:lnTo>
                <a:lnTo>
                  <a:pt x="17099" y="117632"/>
                </a:lnTo>
                <a:lnTo>
                  <a:pt x="19864" y="116994"/>
                </a:lnTo>
                <a:lnTo>
                  <a:pt x="22699" y="116569"/>
                </a:lnTo>
                <a:lnTo>
                  <a:pt x="25582" y="116285"/>
                </a:lnTo>
                <a:lnTo>
                  <a:pt x="28495" y="116096"/>
                </a:lnTo>
                <a:lnTo>
                  <a:pt x="31430" y="115970"/>
                </a:lnTo>
                <a:lnTo>
                  <a:pt x="37336" y="115830"/>
                </a:lnTo>
                <a:lnTo>
                  <a:pt x="46239" y="115751"/>
                </a:lnTo>
                <a:lnTo>
                  <a:pt x="49212" y="116732"/>
                </a:lnTo>
                <a:lnTo>
                  <a:pt x="52186" y="118379"/>
                </a:lnTo>
                <a:lnTo>
                  <a:pt x="55161" y="120468"/>
                </a:lnTo>
                <a:lnTo>
                  <a:pt x="59129" y="121861"/>
                </a:lnTo>
                <a:lnTo>
                  <a:pt x="63759" y="122790"/>
                </a:lnTo>
                <a:lnTo>
                  <a:pt x="68829" y="123409"/>
                </a:lnTo>
                <a:lnTo>
                  <a:pt x="73202" y="123822"/>
                </a:lnTo>
                <a:lnTo>
                  <a:pt x="77110" y="124097"/>
                </a:lnTo>
                <a:lnTo>
                  <a:pt x="80706" y="124281"/>
                </a:lnTo>
                <a:lnTo>
                  <a:pt x="85089" y="125395"/>
                </a:lnTo>
                <a:lnTo>
                  <a:pt x="89995" y="127130"/>
                </a:lnTo>
                <a:lnTo>
                  <a:pt x="95249" y="129279"/>
                </a:lnTo>
                <a:lnTo>
                  <a:pt x="100738" y="130712"/>
                </a:lnTo>
                <a:lnTo>
                  <a:pt x="106380" y="131667"/>
                </a:lnTo>
                <a:lnTo>
                  <a:pt x="112127" y="132304"/>
                </a:lnTo>
                <a:lnTo>
                  <a:pt x="117942" y="133720"/>
                </a:lnTo>
                <a:lnTo>
                  <a:pt x="123803" y="135657"/>
                </a:lnTo>
                <a:lnTo>
                  <a:pt x="129695" y="137941"/>
                </a:lnTo>
                <a:lnTo>
                  <a:pt x="134615" y="139462"/>
                </a:lnTo>
                <a:lnTo>
                  <a:pt x="138887" y="140477"/>
                </a:lnTo>
                <a:lnTo>
                  <a:pt x="142728" y="141154"/>
                </a:lnTo>
                <a:lnTo>
                  <a:pt x="146280" y="141605"/>
                </a:lnTo>
                <a:lnTo>
                  <a:pt x="149640" y="141905"/>
                </a:lnTo>
                <a:lnTo>
                  <a:pt x="159338" y="14250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SMARTInkAnnotation120"/>
          <p:cNvSpPr/>
          <p:nvPr/>
        </p:nvSpPr>
        <p:spPr>
          <a:xfrm>
            <a:off x="5830920" y="4062240"/>
            <a:ext cx="706320" cy="679680"/>
          </a:xfrm>
          <a:custGeom>
            <a:avLst/>
            <a:gdLst>
              <a:gd name="textAreaLeft" fmla="*/ 0 w 706320"/>
              <a:gd name="textAreaRight" fmla="*/ 706680 w 70632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705447" h="678657">
                <a:moveTo>
                  <a:pt x="0" y="678656"/>
                </a:moveTo>
                <a:lnTo>
                  <a:pt x="0" y="670094"/>
                </a:lnTo>
                <a:lnTo>
                  <a:pt x="18481" y="651250"/>
                </a:lnTo>
                <a:lnTo>
                  <a:pt x="56559" y="613168"/>
                </a:lnTo>
                <a:lnTo>
                  <a:pt x="78506" y="598288"/>
                </a:lnTo>
                <a:lnTo>
                  <a:pt x="91906" y="586383"/>
                </a:lnTo>
                <a:lnTo>
                  <a:pt x="105100" y="568340"/>
                </a:lnTo>
                <a:lnTo>
                  <a:pt x="125786" y="551545"/>
                </a:lnTo>
                <a:lnTo>
                  <a:pt x="144240" y="534155"/>
                </a:lnTo>
                <a:lnTo>
                  <a:pt x="175999" y="502635"/>
                </a:lnTo>
                <a:lnTo>
                  <a:pt x="193591" y="489800"/>
                </a:lnTo>
                <a:lnTo>
                  <a:pt x="217312" y="470438"/>
                </a:lnTo>
                <a:lnTo>
                  <a:pt x="235156" y="458322"/>
                </a:lnTo>
                <a:lnTo>
                  <a:pt x="252018" y="442605"/>
                </a:lnTo>
                <a:lnTo>
                  <a:pt x="264731" y="426373"/>
                </a:lnTo>
                <a:lnTo>
                  <a:pt x="286302" y="408851"/>
                </a:lnTo>
                <a:lnTo>
                  <a:pt x="303774" y="392339"/>
                </a:lnTo>
                <a:lnTo>
                  <a:pt x="327455" y="368981"/>
                </a:lnTo>
                <a:lnTo>
                  <a:pt x="345291" y="355942"/>
                </a:lnTo>
                <a:lnTo>
                  <a:pt x="363144" y="341053"/>
                </a:lnTo>
                <a:lnTo>
                  <a:pt x="381001" y="324074"/>
                </a:lnTo>
                <a:lnTo>
                  <a:pt x="398861" y="306476"/>
                </a:lnTo>
                <a:lnTo>
                  <a:pt x="411979" y="288693"/>
                </a:lnTo>
                <a:lnTo>
                  <a:pt x="421558" y="279451"/>
                </a:lnTo>
                <a:lnTo>
                  <a:pt x="426890" y="275597"/>
                </a:lnTo>
                <a:lnTo>
                  <a:pt x="435461" y="266024"/>
                </a:lnTo>
                <a:lnTo>
                  <a:pt x="448510" y="249478"/>
                </a:lnTo>
                <a:lnTo>
                  <a:pt x="462298" y="232008"/>
                </a:lnTo>
                <a:lnTo>
                  <a:pt x="475314" y="214264"/>
                </a:lnTo>
                <a:lnTo>
                  <a:pt x="492749" y="195231"/>
                </a:lnTo>
                <a:lnTo>
                  <a:pt x="537114" y="150482"/>
                </a:lnTo>
                <a:lnTo>
                  <a:pt x="590974" y="96613"/>
                </a:lnTo>
                <a:lnTo>
                  <a:pt x="614108" y="80546"/>
                </a:lnTo>
                <a:lnTo>
                  <a:pt x="627120" y="71490"/>
                </a:lnTo>
                <a:lnTo>
                  <a:pt x="640897" y="62524"/>
                </a:lnTo>
                <a:lnTo>
                  <a:pt x="660618" y="44649"/>
                </a:lnTo>
                <a:lnTo>
                  <a:pt x="667928" y="37482"/>
                </a:lnTo>
                <a:lnTo>
                  <a:pt x="669520" y="36894"/>
                </a:lnTo>
                <a:lnTo>
                  <a:pt x="673934" y="36241"/>
                </a:lnTo>
                <a:lnTo>
                  <a:pt x="675509" y="35075"/>
                </a:lnTo>
                <a:lnTo>
                  <a:pt x="676558" y="33305"/>
                </a:lnTo>
                <a:lnTo>
                  <a:pt x="677258" y="31133"/>
                </a:lnTo>
                <a:lnTo>
                  <a:pt x="678716" y="29685"/>
                </a:lnTo>
                <a:lnTo>
                  <a:pt x="680681" y="28719"/>
                </a:lnTo>
                <a:lnTo>
                  <a:pt x="687584" y="26790"/>
                </a:lnTo>
                <a:lnTo>
                  <a:pt x="687586" y="26788"/>
                </a:lnTo>
                <a:lnTo>
                  <a:pt x="674284" y="26788"/>
                </a:lnTo>
                <a:lnTo>
                  <a:pt x="671773" y="27781"/>
                </a:lnTo>
                <a:lnTo>
                  <a:pt x="663498" y="32926"/>
                </a:lnTo>
                <a:lnTo>
                  <a:pt x="657698" y="34477"/>
                </a:lnTo>
                <a:lnTo>
                  <a:pt x="635855" y="35555"/>
                </a:lnTo>
                <a:lnTo>
                  <a:pt x="606598" y="35704"/>
                </a:lnTo>
                <a:lnTo>
                  <a:pt x="578543" y="35715"/>
                </a:lnTo>
                <a:lnTo>
                  <a:pt x="564379" y="33071"/>
                </a:lnTo>
                <a:lnTo>
                  <a:pt x="551468" y="29580"/>
                </a:lnTo>
                <a:lnTo>
                  <a:pt x="533043" y="27616"/>
                </a:lnTo>
                <a:lnTo>
                  <a:pt x="514024" y="27034"/>
                </a:lnTo>
                <a:lnTo>
                  <a:pt x="463502" y="26798"/>
                </a:lnTo>
                <a:lnTo>
                  <a:pt x="453718" y="24147"/>
                </a:lnTo>
                <a:lnTo>
                  <a:pt x="439699" y="19722"/>
                </a:lnTo>
                <a:lnTo>
                  <a:pt x="421586" y="17968"/>
                </a:lnTo>
                <a:lnTo>
                  <a:pt x="417890" y="15262"/>
                </a:lnTo>
                <a:lnTo>
                  <a:pt x="410890" y="9039"/>
                </a:lnTo>
                <a:lnTo>
                  <a:pt x="418466" y="1250"/>
                </a:lnTo>
                <a:lnTo>
                  <a:pt x="421795" y="555"/>
                </a:lnTo>
                <a:lnTo>
                  <a:pt x="440386" y="49"/>
                </a:lnTo>
                <a:lnTo>
                  <a:pt x="501876" y="0"/>
                </a:lnTo>
                <a:lnTo>
                  <a:pt x="518728" y="2646"/>
                </a:lnTo>
                <a:lnTo>
                  <a:pt x="535148" y="7129"/>
                </a:lnTo>
                <a:lnTo>
                  <a:pt x="555547" y="15231"/>
                </a:lnTo>
                <a:lnTo>
                  <a:pt x="574161" y="23915"/>
                </a:lnTo>
                <a:lnTo>
                  <a:pt x="604201" y="38709"/>
                </a:lnTo>
                <a:lnTo>
                  <a:pt x="622090" y="52369"/>
                </a:lnTo>
                <a:lnTo>
                  <a:pt x="639958" y="64244"/>
                </a:lnTo>
                <a:lnTo>
                  <a:pt x="649220" y="73532"/>
                </a:lnTo>
                <a:lnTo>
                  <a:pt x="666402" y="95342"/>
                </a:lnTo>
                <a:lnTo>
                  <a:pt x="672549" y="105543"/>
                </a:lnTo>
                <a:lnTo>
                  <a:pt x="675942" y="116691"/>
                </a:lnTo>
                <a:lnTo>
                  <a:pt x="678443" y="128261"/>
                </a:lnTo>
                <a:lnTo>
                  <a:pt x="684437" y="145931"/>
                </a:lnTo>
                <a:lnTo>
                  <a:pt x="687645" y="162742"/>
                </a:lnTo>
                <a:lnTo>
                  <a:pt x="693446" y="175440"/>
                </a:lnTo>
                <a:lnTo>
                  <a:pt x="696600" y="191329"/>
                </a:lnTo>
                <a:lnTo>
                  <a:pt x="703405" y="211830"/>
                </a:lnTo>
                <a:lnTo>
                  <a:pt x="705446" y="2321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SMARTInkAnnotation121"/>
          <p:cNvSpPr/>
          <p:nvPr/>
        </p:nvSpPr>
        <p:spPr>
          <a:xfrm>
            <a:off x="6296040" y="3884760"/>
            <a:ext cx="254160" cy="204480"/>
          </a:xfrm>
          <a:custGeom>
            <a:avLst/>
            <a:gdLst>
              <a:gd name="textAreaLeft" fmla="*/ 0 w 254160"/>
              <a:gd name="textAreaRight" fmla="*/ 254520 w 25416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54894" h="204970">
                <a:moveTo>
                  <a:pt x="142720" y="26789"/>
                </a:moveTo>
                <a:lnTo>
                  <a:pt x="134158" y="26789"/>
                </a:lnTo>
                <a:lnTo>
                  <a:pt x="129158" y="22048"/>
                </a:lnTo>
                <a:lnTo>
                  <a:pt x="126734" y="20652"/>
                </a:lnTo>
                <a:lnTo>
                  <a:pt x="121393" y="19100"/>
                </a:lnTo>
                <a:lnTo>
                  <a:pt x="117588" y="19679"/>
                </a:lnTo>
                <a:lnTo>
                  <a:pt x="113067" y="21056"/>
                </a:lnTo>
                <a:lnTo>
                  <a:pt x="108069" y="22967"/>
                </a:lnTo>
                <a:lnTo>
                  <a:pt x="103744" y="24241"/>
                </a:lnTo>
                <a:lnTo>
                  <a:pt x="96293" y="25656"/>
                </a:lnTo>
                <a:lnTo>
                  <a:pt x="91925" y="27026"/>
                </a:lnTo>
                <a:lnTo>
                  <a:pt x="87029" y="28931"/>
                </a:lnTo>
                <a:lnTo>
                  <a:pt x="81779" y="31194"/>
                </a:lnTo>
                <a:lnTo>
                  <a:pt x="77289" y="33694"/>
                </a:lnTo>
                <a:lnTo>
                  <a:pt x="69652" y="39118"/>
                </a:lnTo>
                <a:lnTo>
                  <a:pt x="65234" y="41954"/>
                </a:lnTo>
                <a:lnTo>
                  <a:pt x="60305" y="44836"/>
                </a:lnTo>
                <a:lnTo>
                  <a:pt x="55034" y="47750"/>
                </a:lnTo>
                <a:lnTo>
                  <a:pt x="50529" y="50685"/>
                </a:lnTo>
                <a:lnTo>
                  <a:pt x="42876" y="56591"/>
                </a:lnTo>
                <a:lnTo>
                  <a:pt x="36168" y="62524"/>
                </a:lnTo>
                <a:lnTo>
                  <a:pt x="29879" y="68468"/>
                </a:lnTo>
                <a:lnTo>
                  <a:pt x="23776" y="74417"/>
                </a:lnTo>
                <a:lnTo>
                  <a:pt x="20760" y="78384"/>
                </a:lnTo>
                <a:lnTo>
                  <a:pt x="17757" y="83014"/>
                </a:lnTo>
                <a:lnTo>
                  <a:pt x="14763" y="88085"/>
                </a:lnTo>
                <a:lnTo>
                  <a:pt x="11774" y="92457"/>
                </a:lnTo>
                <a:lnTo>
                  <a:pt x="8789" y="96365"/>
                </a:lnTo>
                <a:lnTo>
                  <a:pt x="5809" y="99962"/>
                </a:lnTo>
                <a:lnTo>
                  <a:pt x="3820" y="103352"/>
                </a:lnTo>
                <a:lnTo>
                  <a:pt x="2495" y="106604"/>
                </a:lnTo>
                <a:lnTo>
                  <a:pt x="1612" y="109765"/>
                </a:lnTo>
                <a:lnTo>
                  <a:pt x="1022" y="113856"/>
                </a:lnTo>
                <a:lnTo>
                  <a:pt x="631" y="118568"/>
                </a:lnTo>
                <a:lnTo>
                  <a:pt x="193" y="128103"/>
                </a:lnTo>
                <a:lnTo>
                  <a:pt x="0" y="135648"/>
                </a:lnTo>
                <a:lnTo>
                  <a:pt x="940" y="140041"/>
                </a:lnTo>
                <a:lnTo>
                  <a:pt x="2559" y="144955"/>
                </a:lnTo>
                <a:lnTo>
                  <a:pt x="4631" y="150214"/>
                </a:lnTo>
                <a:lnTo>
                  <a:pt x="7005" y="154713"/>
                </a:lnTo>
                <a:lnTo>
                  <a:pt x="9579" y="158704"/>
                </a:lnTo>
                <a:lnTo>
                  <a:pt x="12287" y="162357"/>
                </a:lnTo>
                <a:lnTo>
                  <a:pt x="15084" y="165785"/>
                </a:lnTo>
                <a:lnTo>
                  <a:pt x="17942" y="169062"/>
                </a:lnTo>
                <a:lnTo>
                  <a:pt x="20839" y="172239"/>
                </a:lnTo>
                <a:lnTo>
                  <a:pt x="24755" y="175350"/>
                </a:lnTo>
                <a:lnTo>
                  <a:pt x="29350" y="178415"/>
                </a:lnTo>
                <a:lnTo>
                  <a:pt x="34398" y="181451"/>
                </a:lnTo>
                <a:lnTo>
                  <a:pt x="39747" y="184468"/>
                </a:lnTo>
                <a:lnTo>
                  <a:pt x="50983" y="190464"/>
                </a:lnTo>
                <a:lnTo>
                  <a:pt x="57749" y="192460"/>
                </a:lnTo>
                <a:lnTo>
                  <a:pt x="65236" y="193791"/>
                </a:lnTo>
                <a:lnTo>
                  <a:pt x="73205" y="194678"/>
                </a:lnTo>
                <a:lnTo>
                  <a:pt x="81494" y="196262"/>
                </a:lnTo>
                <a:lnTo>
                  <a:pt x="89996" y="198310"/>
                </a:lnTo>
                <a:lnTo>
                  <a:pt x="98640" y="200667"/>
                </a:lnTo>
                <a:lnTo>
                  <a:pt x="106388" y="202240"/>
                </a:lnTo>
                <a:lnTo>
                  <a:pt x="113538" y="203287"/>
                </a:lnTo>
                <a:lnTo>
                  <a:pt x="120288" y="203986"/>
                </a:lnTo>
                <a:lnTo>
                  <a:pt x="127766" y="204451"/>
                </a:lnTo>
                <a:lnTo>
                  <a:pt x="144011" y="204969"/>
                </a:lnTo>
                <a:lnTo>
                  <a:pt x="151519" y="204115"/>
                </a:lnTo>
                <a:lnTo>
                  <a:pt x="158507" y="202553"/>
                </a:lnTo>
                <a:lnTo>
                  <a:pt x="165150" y="200520"/>
                </a:lnTo>
                <a:lnTo>
                  <a:pt x="171565" y="199164"/>
                </a:lnTo>
                <a:lnTo>
                  <a:pt x="177825" y="198260"/>
                </a:lnTo>
                <a:lnTo>
                  <a:pt x="183982" y="197658"/>
                </a:lnTo>
                <a:lnTo>
                  <a:pt x="190072" y="196264"/>
                </a:lnTo>
                <a:lnTo>
                  <a:pt x="196116" y="194343"/>
                </a:lnTo>
                <a:lnTo>
                  <a:pt x="202129" y="192070"/>
                </a:lnTo>
                <a:lnTo>
                  <a:pt x="207132" y="189562"/>
                </a:lnTo>
                <a:lnTo>
                  <a:pt x="211458" y="186898"/>
                </a:lnTo>
                <a:lnTo>
                  <a:pt x="215333" y="184129"/>
                </a:lnTo>
                <a:lnTo>
                  <a:pt x="219903" y="180300"/>
                </a:lnTo>
                <a:lnTo>
                  <a:pt x="224933" y="175762"/>
                </a:lnTo>
                <a:lnTo>
                  <a:pt x="238848" y="162541"/>
                </a:lnTo>
                <a:lnTo>
                  <a:pt x="242524" y="158962"/>
                </a:lnTo>
                <a:lnTo>
                  <a:pt x="244975" y="155584"/>
                </a:lnTo>
                <a:lnTo>
                  <a:pt x="247697" y="149185"/>
                </a:lnTo>
                <a:lnTo>
                  <a:pt x="248424" y="145097"/>
                </a:lnTo>
                <a:lnTo>
                  <a:pt x="248907" y="140388"/>
                </a:lnTo>
                <a:lnTo>
                  <a:pt x="249231" y="135263"/>
                </a:lnTo>
                <a:lnTo>
                  <a:pt x="250437" y="130855"/>
                </a:lnTo>
                <a:lnTo>
                  <a:pt x="252235" y="126924"/>
                </a:lnTo>
                <a:lnTo>
                  <a:pt x="254426" y="123311"/>
                </a:lnTo>
                <a:lnTo>
                  <a:pt x="254893" y="118919"/>
                </a:lnTo>
                <a:lnTo>
                  <a:pt x="254213" y="114005"/>
                </a:lnTo>
                <a:lnTo>
                  <a:pt x="252768" y="108746"/>
                </a:lnTo>
                <a:lnTo>
                  <a:pt x="251803" y="104247"/>
                </a:lnTo>
                <a:lnTo>
                  <a:pt x="251160" y="100256"/>
                </a:lnTo>
                <a:lnTo>
                  <a:pt x="250733" y="96603"/>
                </a:lnTo>
                <a:lnTo>
                  <a:pt x="250447" y="92183"/>
                </a:lnTo>
                <a:lnTo>
                  <a:pt x="250257" y="87252"/>
                </a:lnTo>
                <a:lnTo>
                  <a:pt x="250130" y="81981"/>
                </a:lnTo>
                <a:lnTo>
                  <a:pt x="249053" y="77474"/>
                </a:lnTo>
                <a:lnTo>
                  <a:pt x="247343" y="73477"/>
                </a:lnTo>
                <a:lnTo>
                  <a:pt x="245211" y="69820"/>
                </a:lnTo>
                <a:lnTo>
                  <a:pt x="241805" y="65399"/>
                </a:lnTo>
                <a:lnTo>
                  <a:pt x="237550" y="60466"/>
                </a:lnTo>
                <a:lnTo>
                  <a:pt x="228523" y="50686"/>
                </a:lnTo>
                <a:lnTo>
                  <a:pt x="221204" y="43032"/>
                </a:lnTo>
                <a:lnTo>
                  <a:pt x="216870" y="39602"/>
                </a:lnTo>
                <a:lnTo>
                  <a:pt x="211996" y="36323"/>
                </a:lnTo>
                <a:lnTo>
                  <a:pt x="206765" y="33145"/>
                </a:lnTo>
                <a:lnTo>
                  <a:pt x="202283" y="30034"/>
                </a:lnTo>
                <a:lnTo>
                  <a:pt x="194658" y="23932"/>
                </a:lnTo>
                <a:lnTo>
                  <a:pt x="190243" y="20915"/>
                </a:lnTo>
                <a:lnTo>
                  <a:pt x="185317" y="17912"/>
                </a:lnTo>
                <a:lnTo>
                  <a:pt x="180047" y="14918"/>
                </a:lnTo>
                <a:lnTo>
                  <a:pt x="168900" y="8945"/>
                </a:lnTo>
                <a:lnTo>
                  <a:pt x="163151" y="5963"/>
                </a:lnTo>
                <a:lnTo>
                  <a:pt x="158324" y="3975"/>
                </a:lnTo>
                <a:lnTo>
                  <a:pt x="154115" y="2650"/>
                </a:lnTo>
                <a:lnTo>
                  <a:pt x="14272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SMARTInkAnnotation122"/>
          <p:cNvSpPr/>
          <p:nvPr/>
        </p:nvSpPr>
        <p:spPr>
          <a:xfrm>
            <a:off x="4330800" y="4741920"/>
            <a:ext cx="1017360" cy="81000"/>
          </a:xfrm>
          <a:custGeom>
            <a:avLst/>
            <a:gdLst>
              <a:gd name="textAreaLeft" fmla="*/ 0 w 1017360"/>
              <a:gd name="textAreaRight" fmla="*/ 1017720 w 10173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017603" h="80368">
                <a:moveTo>
                  <a:pt x="0" y="71437"/>
                </a:moveTo>
                <a:lnTo>
                  <a:pt x="52034" y="71437"/>
                </a:lnTo>
                <a:lnTo>
                  <a:pt x="57510" y="72429"/>
                </a:lnTo>
                <a:lnTo>
                  <a:pt x="63145" y="74082"/>
                </a:lnTo>
                <a:lnTo>
                  <a:pt x="68885" y="76177"/>
                </a:lnTo>
                <a:lnTo>
                  <a:pt x="80555" y="78505"/>
                </a:lnTo>
                <a:lnTo>
                  <a:pt x="110158" y="80121"/>
                </a:lnTo>
                <a:lnTo>
                  <a:pt x="216077" y="80366"/>
                </a:lnTo>
                <a:lnTo>
                  <a:pt x="224418" y="79374"/>
                </a:lnTo>
                <a:lnTo>
                  <a:pt x="232956" y="77721"/>
                </a:lnTo>
                <a:lnTo>
                  <a:pt x="241625" y="75626"/>
                </a:lnTo>
                <a:lnTo>
                  <a:pt x="249388" y="75222"/>
                </a:lnTo>
                <a:lnTo>
                  <a:pt x="263305" y="77419"/>
                </a:lnTo>
                <a:lnTo>
                  <a:pt x="287037" y="79493"/>
                </a:lnTo>
                <a:lnTo>
                  <a:pt x="312920" y="80108"/>
                </a:lnTo>
                <a:lnTo>
                  <a:pt x="342197" y="79323"/>
                </a:lnTo>
                <a:lnTo>
                  <a:pt x="350170" y="77687"/>
                </a:lnTo>
                <a:lnTo>
                  <a:pt x="358463" y="75603"/>
                </a:lnTo>
                <a:lnTo>
                  <a:pt x="375613" y="73288"/>
                </a:lnTo>
                <a:lnTo>
                  <a:pt x="406137" y="71803"/>
                </a:lnTo>
                <a:lnTo>
                  <a:pt x="429899" y="71545"/>
                </a:lnTo>
                <a:lnTo>
                  <a:pt x="438404" y="70517"/>
                </a:lnTo>
                <a:lnTo>
                  <a:pt x="447051" y="68839"/>
                </a:lnTo>
                <a:lnTo>
                  <a:pt x="455793" y="66728"/>
                </a:lnTo>
                <a:lnTo>
                  <a:pt x="473442" y="64384"/>
                </a:lnTo>
                <a:lnTo>
                  <a:pt x="500113" y="63063"/>
                </a:lnTo>
                <a:lnTo>
                  <a:pt x="526867" y="62672"/>
                </a:lnTo>
                <a:lnTo>
                  <a:pt x="589360" y="62517"/>
                </a:lnTo>
                <a:lnTo>
                  <a:pt x="598290" y="61521"/>
                </a:lnTo>
                <a:lnTo>
                  <a:pt x="607220" y="59866"/>
                </a:lnTo>
                <a:lnTo>
                  <a:pt x="616150" y="57770"/>
                </a:lnTo>
                <a:lnTo>
                  <a:pt x="634008" y="55441"/>
                </a:lnTo>
                <a:lnTo>
                  <a:pt x="660797" y="54130"/>
                </a:lnTo>
                <a:lnTo>
                  <a:pt x="687586" y="53741"/>
                </a:lnTo>
                <a:lnTo>
                  <a:pt x="723305" y="53610"/>
                </a:lnTo>
                <a:lnTo>
                  <a:pt x="731243" y="52607"/>
                </a:lnTo>
                <a:lnTo>
                  <a:pt x="738519" y="50946"/>
                </a:lnTo>
                <a:lnTo>
                  <a:pt x="745354" y="48847"/>
                </a:lnTo>
                <a:lnTo>
                  <a:pt x="762809" y="45463"/>
                </a:lnTo>
                <a:lnTo>
                  <a:pt x="816600" y="36411"/>
                </a:lnTo>
                <a:lnTo>
                  <a:pt x="839079" y="33203"/>
                </a:lnTo>
                <a:lnTo>
                  <a:pt x="857043" y="31065"/>
                </a:lnTo>
                <a:lnTo>
                  <a:pt x="883948" y="28690"/>
                </a:lnTo>
                <a:lnTo>
                  <a:pt x="910249" y="26360"/>
                </a:lnTo>
                <a:lnTo>
                  <a:pt x="917389" y="24519"/>
                </a:lnTo>
                <a:lnTo>
                  <a:pt x="924132" y="22299"/>
                </a:lnTo>
                <a:lnTo>
                  <a:pt x="934270" y="19832"/>
                </a:lnTo>
                <a:lnTo>
                  <a:pt x="953604" y="18249"/>
                </a:lnTo>
                <a:lnTo>
                  <a:pt x="958197" y="17126"/>
                </a:lnTo>
                <a:lnTo>
                  <a:pt x="962251" y="15386"/>
                </a:lnTo>
                <a:lnTo>
                  <a:pt x="965946" y="13234"/>
                </a:lnTo>
                <a:lnTo>
                  <a:pt x="975344" y="10842"/>
                </a:lnTo>
                <a:lnTo>
                  <a:pt x="992804" y="9307"/>
                </a:lnTo>
                <a:lnTo>
                  <a:pt x="996237" y="8189"/>
                </a:lnTo>
                <a:lnTo>
                  <a:pt x="999518" y="6451"/>
                </a:lnTo>
                <a:lnTo>
                  <a:pt x="1008497" y="377"/>
                </a:lnTo>
                <a:lnTo>
                  <a:pt x="1017602" y="10"/>
                </a:lnTo>
                <a:lnTo>
                  <a:pt x="873421" y="0"/>
                </a:lnTo>
                <a:lnTo>
                  <a:pt x="865055" y="992"/>
                </a:lnTo>
                <a:lnTo>
                  <a:pt x="856500" y="2645"/>
                </a:lnTo>
                <a:lnTo>
                  <a:pt x="847820" y="4740"/>
                </a:lnTo>
                <a:lnTo>
                  <a:pt x="830239" y="7067"/>
                </a:lnTo>
                <a:lnTo>
                  <a:pt x="803607" y="8378"/>
                </a:lnTo>
                <a:lnTo>
                  <a:pt x="776864" y="8766"/>
                </a:lnTo>
                <a:lnTo>
                  <a:pt x="759015" y="9849"/>
                </a:lnTo>
                <a:lnTo>
                  <a:pt x="750088" y="11526"/>
                </a:lnTo>
                <a:lnTo>
                  <a:pt x="741161" y="13637"/>
                </a:lnTo>
                <a:lnTo>
                  <a:pt x="732232" y="16037"/>
                </a:lnTo>
                <a:lnTo>
                  <a:pt x="714374" y="21348"/>
                </a:lnTo>
                <a:lnTo>
                  <a:pt x="704453" y="23162"/>
                </a:lnTo>
                <a:lnTo>
                  <a:pt x="682845" y="25177"/>
                </a:lnTo>
                <a:lnTo>
                  <a:pt x="672520" y="26706"/>
                </a:lnTo>
                <a:lnTo>
                  <a:pt x="662659" y="28718"/>
                </a:lnTo>
                <a:lnTo>
                  <a:pt x="653109" y="31052"/>
                </a:lnTo>
                <a:lnTo>
                  <a:pt x="643765" y="32607"/>
                </a:lnTo>
                <a:lnTo>
                  <a:pt x="625446" y="34336"/>
                </a:lnTo>
                <a:lnTo>
                  <a:pt x="615402" y="35788"/>
                </a:lnTo>
                <a:lnTo>
                  <a:pt x="604737" y="37750"/>
                </a:lnTo>
                <a:lnTo>
                  <a:pt x="593658" y="40049"/>
                </a:lnTo>
                <a:lnTo>
                  <a:pt x="583295" y="41582"/>
                </a:lnTo>
                <a:lnTo>
                  <a:pt x="563845" y="43286"/>
                </a:lnTo>
                <a:lnTo>
                  <a:pt x="554490" y="44732"/>
                </a:lnTo>
                <a:lnTo>
                  <a:pt x="545277" y="46688"/>
                </a:lnTo>
                <a:lnTo>
                  <a:pt x="536159" y="48985"/>
                </a:lnTo>
                <a:lnTo>
                  <a:pt x="526111" y="50516"/>
                </a:lnTo>
                <a:lnTo>
                  <a:pt x="504364" y="52217"/>
                </a:lnTo>
                <a:lnTo>
                  <a:pt x="474548" y="53174"/>
                </a:lnTo>
                <a:lnTo>
                  <a:pt x="419807" y="53542"/>
                </a:lnTo>
                <a:lnTo>
                  <a:pt x="410840" y="54546"/>
                </a:lnTo>
                <a:lnTo>
                  <a:pt x="401886" y="56208"/>
                </a:lnTo>
                <a:lnTo>
                  <a:pt x="392940" y="58308"/>
                </a:lnTo>
                <a:lnTo>
                  <a:pt x="375062" y="60640"/>
                </a:lnTo>
                <a:lnTo>
                  <a:pt x="348263" y="61954"/>
                </a:lnTo>
                <a:lnTo>
                  <a:pt x="317280" y="62398"/>
                </a:lnTo>
                <a:lnTo>
                  <a:pt x="310739" y="63427"/>
                </a:lnTo>
                <a:lnTo>
                  <a:pt x="304394" y="65104"/>
                </a:lnTo>
                <a:lnTo>
                  <a:pt x="298180" y="67216"/>
                </a:lnTo>
                <a:lnTo>
                  <a:pt x="292052" y="69615"/>
                </a:lnTo>
                <a:lnTo>
                  <a:pt x="285983" y="72207"/>
                </a:lnTo>
                <a:lnTo>
                  <a:pt x="279952" y="74926"/>
                </a:lnTo>
                <a:lnTo>
                  <a:pt x="273948" y="76740"/>
                </a:lnTo>
                <a:lnTo>
                  <a:pt x="261983" y="78755"/>
                </a:lnTo>
                <a:lnTo>
                  <a:pt x="241102" y="8036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Pg. 238 #’s 19,20,2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Pg. 245 #’s 22,23,2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What is Kinetic Ener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Kinetic energy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is the energy of motion. An object that has motion - whether it is vertical or horizontal motion - has kinetic ener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re are many forms of kinetic energ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vibrational - the energy due to vibrational motion)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rotational (the energy due to rotational motio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ranslational (the energy due to motion from one location to another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Con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amount of translational kinetic energy (from here on, the phrase kinetic energy will refer to translational kinetic energy) that an object has depends upon two variabl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mass (m) of the object and the speed (v) of the obj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Con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following equation is used to represent the kinetic energy (KE) of an objec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KE = (½)mv</a:t>
            </a:r>
            <a:r>
              <a:rPr b="0" lang="en-CA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= mass of object (k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 = speed of object (m/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is equation reveals that the kinetic energy of an object is directly proportional to the square of its velocity. That means that for a double in velocity, the kinetic energy will increase by a factor of fou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KE cont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Kinetic energy is a scalar quantity; it does not have a direc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Unlike velocity, acceleration, force, and momentum, the kinetic energy of an object is completely described by magnitude alon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Like work and potential energy, the standard metric unit of measurement for kinetic energy is the Joul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3" descr="kinetic energy formula.gif"/>
          <p:cNvPicPr/>
          <p:nvPr/>
        </p:nvPicPr>
        <p:blipFill>
          <a:blip r:embed="rId1"/>
          <a:stretch/>
        </p:blipFill>
        <p:spPr>
          <a:xfrm>
            <a:off x="3132000" y="5373720"/>
            <a:ext cx="4849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1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Determine the kinetic energy of a 1000-kg roller coaster car that is moving with a speed of 20.0 m/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½ (1000kg)(20.0m/s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200 000 Joul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2.00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oules or 200 k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2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If the roller coaster car in the above problem were moving with twice the speed, then what would be its new kinetic energ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½ (1000kg)(40.0m/s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800 000 Jou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= 8.00 x 10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Joules or 800 kJ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Example 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Missy Diwater, the former platform diver for the Ringling Brother's Circus had a kinetic energy of 15kJ just prior to hitting the bucket of water. If Missy's mass is 50 kg, then what is her spe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½ m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5 000 J = ½ (50kg)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(15000) = 50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30000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v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0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 =24.5m/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7b9899"/>
                </a:solidFill>
                <a:latin typeface="Georgia"/>
              </a:rPr>
              <a:t>Work-energy 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net work done on an object is equal to its change in kinetic energ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Note that the work in the work energy theorem (from yesterday’s class) is the work done on an object by a net force – it is the algebraic sum of work done by all for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W =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f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– 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i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= ∆E</a:t>
            </a:r>
            <a:r>
              <a:rPr b="0" lang="en-CA" sz="2700" spc="-1" strike="noStrike" baseline="-25000">
                <a:solidFill>
                  <a:srgbClr val="000000"/>
                </a:solidFill>
                <a:latin typeface="Georgia"/>
              </a:rPr>
              <a:t>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*** So the change in kinetic energy is equal to the work done on or by an object***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3:05:44Z</dcterms:created>
  <dc:creator>Owner</dc:creator>
  <dc:description/>
  <dc:language>en-US</dc:language>
  <cp:lastModifiedBy>Administrator</cp:lastModifiedBy>
  <dcterms:modified xsi:type="dcterms:W3CDTF">2011-04-15T13:50:12Z</dcterms:modified>
  <cp:revision>16</cp:revision>
  <dc:subject/>
  <dc:title>Kinetic Energy</dc:title>
</cp:coreProperties>
</file>